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0072-4A1D-425E-9716-3C00C6B30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2FB7-D9E8-445B-9799-E69544DE3BF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ipchart has 14 items, to much for a P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2F5-5CF1-430B-93F2-F22CBF7EC21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rokenwings.org/Commentary/ok_city/ok_city.html and 9/11 commisin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5265720" y="6513480"/>
            <a:ext cx="4029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D9E1-186E-4282-BF78-90D93C72FCF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54EB-4175-444D-B2AA-818767C1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2A4-34D4-4E14-ACCB-8573BBC7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069-7E49-497D-9B13-F36D3524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1CB-82AC-4BF4-8A21-EF2AD824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B05D-9039-4B63-AEF4-9FD3C4C1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B156-8C13-46B4-96E0-CB42C7F0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A34D-0130-4841-BF8E-4DA4E53D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FA97-B844-4405-90B0-1E5D4F3D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040D-19DD-40D4-836C-9B9AF263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AE9A-E187-4243-9854-973E7E8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5325-157D-4398-B7F3-BD00F372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31E-592C-4181-A4B2-AFC69BD0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CE40-3BA7-4230-A820-54F5D60B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42E-92F3-4454-94D6-3B1BB37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6832-AF57-4D38-85A9-8B3FE670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F8BB-8C67-4EF9-B705-2B5837C8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6705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06E6-A434-4A50-9C2F-BE9EE552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DEF-F1B2-416C-A140-10775597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BA1-FF91-4199-B3DD-EC200568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485-BEDE-4674-B157-53795C89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521-CF62-4704-A239-003274F5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B46E-1C74-4EA0-A517-6208E055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705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6D6-76C1-4654-9B81-F3E64008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71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705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FE3-FAC3-4DA4-B911-25CC37AC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6C6A-9A0E-4661-B30C-548D9BDD4B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505E-648F-4870-B163-0E8024E78E0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F229-A017-4EB6-9F51-BBA4D5A97AB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0" y="0"/>
            <a:ext cx="929628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ited States Department of Commerc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         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Office of Security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0" y="2971800"/>
            <a:ext cx="929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askerville Old Face"/>
              </a:rPr>
              <a:t>Orientation Briefing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ED0F-77E0-4E44-ADDB-55A3F7421DF4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unterespionage Divis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609480" y="11430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vides policies and operational support concerning National Security Information (NSI)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914400" y="225216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Manages the issuance and renewal of individual security clearances through the Personnel Security (PERSEC)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rovides support and enforcement of the proper handling of classified NSI through the Information Security (INFOSEC)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rovides guidance for the proper communication of NSI, through the Communication Security (COMSEC)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F81A-1E6A-4742-B216-7AB0ADAF2FE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0" y="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Continuity and Emergency Preparedness Divis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636480" y="914400"/>
            <a:ext cx="850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pares the Department of Commerce to respond effectively to any emergency situation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533520" y="1436040"/>
            <a:ext cx="822960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Ensures the safety and welfare of DOC occupants and properties by planning for all possible emergencies through the Occupant Emergency Plan (OE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anages the Emergency Operations Center (EOC), the hub for all emergency communications and coordination within the Department for security inciden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aintains Continuity of Operations (COOP), an effort within individual executive departments and agencies to ensure that primary mission-essential functions continue to be performed during a wide range of emergenc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Maintains Continuity of Government (COG), a coordinated effort within the Federal Government’s Executive Branch to ensure that national essential functions continue to be performed during a catastrophic emergenc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EF80-DA50-424C-9D61-3F6336E4896F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676520" y="472428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During emergency situations, each of us must demonstrate the utmost in human compassion and leadership by looking out for others and helping all those in need of assistanc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2057400" y="1295280"/>
            <a:ext cx="64008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mergency Procedures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cu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lter-In-Place (SI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dow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4" name="Picture 5" descr="j0293238"/>
          <p:cNvPicPr/>
          <p:nvPr/>
        </p:nvPicPr>
        <p:blipFill>
          <a:blip r:embed="rId1"/>
          <a:stretch/>
        </p:blipFill>
        <p:spPr>
          <a:xfrm>
            <a:off x="533520" y="4724280"/>
            <a:ext cx="1063440" cy="78588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6"/>
          <p:cNvSpPr/>
          <p:nvPr/>
        </p:nvSpPr>
        <p:spPr>
          <a:xfrm>
            <a:off x="2209680" y="640080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E5E6-6B01-4846-8D6C-3C17BFC749A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cua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685800" y="91440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06440" indent="-40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If the emergency requires u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Baskerville Old Face"/>
              </a:rPr>
              <a:t>Evacuate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the building, you will be required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ure classified material, take personal items (keys, ID, etc.) and close your office do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Exit the building -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know your stairwell(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ceed to your predetermined Rally Point within your designated Assembly Ar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Report to your supervis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5400-9E8B-40E1-8AF7-03196830EB4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lter-In-Place (SIP)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609480" y="914400"/>
            <a:ext cx="8382240" cy="53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When the emergency requires us 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Shelter-In-Place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 you will be required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lose windows and turn off stand-alone ventilation uni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Secure classified material, take personal items (keys, ID, etc.), close office doors, and turn off light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roceed to an INTERIOR hallway/room without window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ollow the directions of your supervisor and emergency personn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5338-3FE4-4581-A168-1F9A5C96EAD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5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ckdow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914400" y="2286000"/>
            <a:ext cx="769608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out of the hallway or other common area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ed to nearest offic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k office doors and turn off ligh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not open office doors for any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 the directions of your supervisor and/or Emergency Personn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762120" y="914400"/>
            <a:ext cx="769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e emergency requires us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ockdow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 you will be required t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762120" y="5530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Lockdown occurs when management is aware that a person inside the building has intent to commit a violent act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E29D-5D5A-4172-ABF3-7B69373F07C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tinuity of Operations (COOP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914040" y="91404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4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organization has a COOP Pl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reaus are stand-al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ice of the Secretary (OS) organizations create COOP Support Plans that become appendices to the overall OS COOP Pla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 your role – are you a member of a Emergency Response Group (ERG)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84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3" name="Rectangle 4"/>
          <p:cNvSpPr/>
          <p:nvPr/>
        </p:nvSpPr>
        <p:spPr>
          <a:xfrm>
            <a:off x="1371600" y="6324480"/>
            <a:ext cx="693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and Continu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30F3-105B-4B56-A287-6F3D8130C28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Rectangle 2"/>
          <p:cNvSpPr/>
          <p:nvPr/>
        </p:nvSpPr>
        <p:spPr>
          <a:xfrm>
            <a:off x="60948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Security is Everyone’s Responsibility!</a:t>
            </a:r>
            <a:br>
              <a:rPr sz="4000"/>
            </a:br>
            <a:br>
              <a:rPr sz="4000"/>
            </a:br>
            <a:r>
              <a:rPr b="0" i="1" lang="en-US" sz="2700" spc="-1" strike="noStrike">
                <a:solidFill>
                  <a:srgbClr val="ffff00"/>
                </a:solidFill>
                <a:latin typeface="Baskerville Old Face"/>
              </a:rPr>
              <a:t>Help safeguard our people, assets and information.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838080" y="213372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Be aler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Use common sense precau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eam with co-workers to prevent cri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Understand the risk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Report suspicious activ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askerville Old Face"/>
              </a:rPr>
              <a:t>Be familiar with the information in this presentation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515320" y="7996320"/>
            <a:ext cx="45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askerville Old Face"/>
              </a:rPr>
              <a:t>Security is Everyone’s Responsibilit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A483-B129-4139-BFC0-EF556E463EA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For additional security information, contact your Servicing Security Office at the number below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ensus Security Office, National Processing Center, Jeffersonville, IN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812-218-344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Census Security Office, Suitland, M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1-763-1716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DOC Headquarters, Washington, DC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202-482-835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Eastern Regional Security Office, Norfolk, VA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757-441-3431 ITA Security Contact, Washington, DC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202-482-1205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Mountain Regional Security Office, Boulder, CO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3-497-394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NIST Security Office, Gaithersburg, M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1-975-3304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NOAA Security Office, Silver Spring, MD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301-713-0954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Western Regional Security Office, Seattle, WA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206-526-657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2895120" y="-27720"/>
            <a:ext cx="1800" cy="20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685800" y="1371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00"/>
                </a:solidFill>
                <a:latin typeface="Baskerville Old Face"/>
              </a:rPr>
              <a:t>Thank You for Your Continued Vigilance. </a:t>
            </a:r>
            <a:endParaRPr b="0" lang="en-US" sz="2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229D-AE50-4CEB-B255-94A8480D543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62120" y="220968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Working together to make th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Department of Commerce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a more secure environment for all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FA2F-934A-4E0A-8F4A-4286443CB90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99072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Security Awareness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38080" y="213012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partment of Commerce has over 60,000 employees, contractors and other affiliates throughout its facilities.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security is based on the eyes, ears, and intuition of all DOC personne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see anything suspicious, unusual or out of place, report it immediately to your security office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5910-EB77-42F6-8213-29599F10F0E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09480" y="1828800"/>
            <a:ext cx="79250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nvestigations into terrorist attacks, such as 9/11 and the Oklahoma City bombing,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revealed that people had observed suspicious behavior, but did not report i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I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everyone’s responsibility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 to be observant and report any suspicious behavior.</a:t>
            </a:r>
            <a:r>
              <a:rPr b="1" lang="en-US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809E-D47E-4F07-9FA7-F4E58D46973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380880" y="979560"/>
            <a:ext cx="85345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stablishes policies and procedures fo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ction of Department personnel, facilities, and proper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actions and preparedne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 analysis and security risk assess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nel secur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guarding classified documents/inform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s secu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ons secur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artment-wide compliance with security policies and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urity education, awareness, and train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059C-7E74-47EA-A8DB-44470C188E2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 Regional Distribut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3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3" name="Group 9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AutoShape 8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Rectangle 91"/>
            <p:cNvSpPr/>
            <p:nvPr/>
          </p:nvSpPr>
          <p:spPr>
            <a:xfrm>
              <a:off x="0" y="0"/>
              <a:ext cx="9144000" cy="68565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6" name="Group 486"/>
            <p:cNvGrpSpPr/>
            <p:nvPr/>
          </p:nvGrpSpPr>
          <p:grpSpPr>
            <a:xfrm>
              <a:off x="457200" y="1143000"/>
              <a:ext cx="8610480" cy="5516640"/>
              <a:chOff x="457200" y="1143000"/>
              <a:chExt cx="8610480" cy="5516640"/>
            </a:xfrm>
          </p:grpSpPr>
          <p:grpSp>
            <p:nvGrpSpPr>
              <p:cNvPr id="117" name="Group 163"/>
              <p:cNvGrpSpPr/>
              <p:nvPr/>
            </p:nvGrpSpPr>
            <p:grpSpPr>
              <a:xfrm>
                <a:off x="609480" y="5715000"/>
                <a:ext cx="1219320" cy="944640"/>
                <a:chOff x="609480" y="5715000"/>
                <a:chExt cx="1219320" cy="944640"/>
              </a:xfrm>
            </p:grpSpPr>
            <p:grpSp>
              <p:nvGrpSpPr>
                <p:cNvPr id="118" name="Group 161"/>
                <p:cNvGrpSpPr/>
                <p:nvPr/>
              </p:nvGrpSpPr>
              <p:grpSpPr>
                <a:xfrm>
                  <a:off x="609480" y="5715000"/>
                  <a:ext cx="1219320" cy="944640"/>
                  <a:chOff x="609480" y="5715000"/>
                  <a:chExt cx="1219320" cy="944640"/>
                </a:xfrm>
              </p:grpSpPr>
              <p:sp>
                <p:nvSpPr>
                  <p:cNvPr id="119" name="Freeform 92"/>
                  <p:cNvSpPr/>
                  <p:nvPr/>
                </p:nvSpPr>
                <p:spPr>
                  <a:xfrm>
                    <a:off x="1355760" y="5959440"/>
                    <a:ext cx="34920" cy="21600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2" h="136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36"/>
                        </a:lnTo>
                        <a:lnTo>
                          <a:pt x="0" y="12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84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93"/>
                  <p:cNvSpPr/>
                  <p:nvPr/>
                </p:nvSpPr>
                <p:spPr>
                  <a:xfrm>
                    <a:off x="1319040" y="5978520"/>
                    <a:ext cx="36720" cy="20952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23" h="132">
                        <a:moveTo>
                          <a:pt x="23" y="0"/>
                        </a:moveTo>
                        <a:lnTo>
                          <a:pt x="23" y="124"/>
                        </a:lnTo>
                        <a:lnTo>
                          <a:pt x="0" y="132"/>
                        </a:lnTo>
                        <a:lnTo>
                          <a:pt x="0" y="9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7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94"/>
                  <p:cNvSpPr/>
                  <p:nvPr/>
                </p:nvSpPr>
                <p:spPr>
                  <a:xfrm>
                    <a:off x="1227240" y="5973840"/>
                    <a:ext cx="11160" cy="21744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7" h="137">
                        <a:moveTo>
                          <a:pt x="7" y="13"/>
                        </a:moveTo>
                        <a:lnTo>
                          <a:pt x="7" y="137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7" y="1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95"/>
                  <p:cNvSpPr/>
                  <p:nvPr/>
                </p:nvSpPr>
                <p:spPr>
                  <a:xfrm>
                    <a:off x="1278000" y="5992920"/>
                    <a:ext cx="41040" cy="204840"/>
                  </a:xfrm>
                  <a:custGeom>
                    <a:avLst/>
                    <a:gdLst>
                      <a:gd name="textAreaLeft" fmla="*/ 0 w 41040"/>
                      <a:gd name="textAreaRight" fmla="*/ 41400 w 41040"/>
                      <a:gd name="textAreaTop" fmla="*/ 0 h 204840"/>
                      <a:gd name="textAreaBottom" fmla="*/ 205200 h 204840"/>
                    </a:gdLst>
                    <a:ahLst/>
                    <a:rect l="textAreaLeft" t="textAreaTop" r="textAreaRight" b="textAreaBottom"/>
                    <a:pathLst>
                      <a:path w="26" h="129">
                        <a:moveTo>
                          <a:pt x="26" y="0"/>
                        </a:moveTo>
                        <a:lnTo>
                          <a:pt x="26" y="123"/>
                        </a:lnTo>
                        <a:lnTo>
                          <a:pt x="0" y="129"/>
                        </a:lnTo>
                        <a:lnTo>
                          <a:pt x="0" y="5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solidFill>
                    <a:srgbClr val="5e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96"/>
                  <p:cNvSpPr/>
                  <p:nvPr/>
                </p:nvSpPr>
                <p:spPr>
                  <a:xfrm>
                    <a:off x="1227240" y="5931000"/>
                    <a:ext cx="163440" cy="69840"/>
                  </a:xfrm>
                  <a:custGeom>
                    <a:avLst/>
                    <a:gdLst>
                      <a:gd name="textAreaLeft" fmla="*/ 0 w 163440"/>
                      <a:gd name="textAreaRight" fmla="*/ 163800 w 163440"/>
                      <a:gd name="textAreaTop" fmla="*/ 0 h 69840"/>
                      <a:gd name="textAreaBottom" fmla="*/ 70200 h 69840"/>
                    </a:gdLst>
                    <a:ahLst/>
                    <a:rect l="textAreaLeft" t="textAreaTop" r="textAreaRight" b="textAreaBottom"/>
                    <a:pathLst>
                      <a:path w="103" h="44">
                        <a:moveTo>
                          <a:pt x="10" y="10"/>
                        </a:moveTo>
                        <a:lnTo>
                          <a:pt x="22" y="3"/>
                        </a:lnTo>
                        <a:lnTo>
                          <a:pt x="50" y="0"/>
                        </a:lnTo>
                        <a:lnTo>
                          <a:pt x="76" y="1"/>
                        </a:lnTo>
                        <a:lnTo>
                          <a:pt x="103" y="5"/>
                        </a:lnTo>
                        <a:lnTo>
                          <a:pt x="103" y="18"/>
                        </a:lnTo>
                        <a:lnTo>
                          <a:pt x="81" y="30"/>
                        </a:lnTo>
                        <a:lnTo>
                          <a:pt x="58" y="39"/>
                        </a:lnTo>
                        <a:lnTo>
                          <a:pt x="32" y="44"/>
                        </a:lnTo>
                        <a:lnTo>
                          <a:pt x="7" y="40"/>
                        </a:lnTo>
                        <a:lnTo>
                          <a:pt x="0" y="27"/>
                        </a:lnTo>
                        <a:lnTo>
                          <a:pt x="3" y="15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97"/>
                  <p:cNvSpPr/>
                  <p:nvPr/>
                </p:nvSpPr>
                <p:spPr>
                  <a:xfrm>
                    <a:off x="1238400" y="5994360"/>
                    <a:ext cx="39600" cy="20340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5" h="128">
                        <a:moveTo>
                          <a:pt x="25" y="4"/>
                        </a:moveTo>
                        <a:lnTo>
                          <a:pt x="25" y="128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3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98"/>
                  <p:cNvSpPr/>
                  <p:nvPr/>
                </p:nvSpPr>
                <p:spPr>
                  <a:xfrm>
                    <a:off x="1366920" y="6032520"/>
                    <a:ext cx="6120" cy="22068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4" h="139">
                        <a:moveTo>
                          <a:pt x="4" y="0"/>
                        </a:moveTo>
                        <a:lnTo>
                          <a:pt x="4" y="124"/>
                        </a:lnTo>
                        <a:lnTo>
                          <a:pt x="0" y="139"/>
                        </a:lnTo>
                        <a:lnTo>
                          <a:pt x="0" y="1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a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99"/>
                  <p:cNvSpPr/>
                  <p:nvPr/>
                </p:nvSpPr>
                <p:spPr>
                  <a:xfrm>
                    <a:off x="1298520" y="6016680"/>
                    <a:ext cx="74520" cy="49320"/>
                  </a:xfrm>
                  <a:custGeom>
                    <a:avLst/>
                    <a:gdLst>
                      <a:gd name="textAreaLeft" fmla="*/ 0 w 74520"/>
                      <a:gd name="textAreaRight" fmla="*/ 74880 w 74520"/>
                      <a:gd name="textAreaTop" fmla="*/ 0 h 49320"/>
                      <a:gd name="textAreaBottom" fmla="*/ 49680 h 49320"/>
                    </a:gdLst>
                    <a:ahLst/>
                    <a:rect l="textAreaLeft" t="textAreaTop" r="textAreaRight" b="textAreaBottom"/>
                    <a:pathLst>
                      <a:path w="47" h="31">
                        <a:moveTo>
                          <a:pt x="47" y="10"/>
                        </a:moveTo>
                        <a:lnTo>
                          <a:pt x="43" y="25"/>
                        </a:lnTo>
                        <a:lnTo>
                          <a:pt x="20" y="31"/>
                        </a:lnTo>
                        <a:lnTo>
                          <a:pt x="0" y="25"/>
                        </a:lnTo>
                        <a:lnTo>
                          <a:pt x="7" y="3"/>
                        </a:lnTo>
                        <a:lnTo>
                          <a:pt x="31" y="0"/>
                        </a:lnTo>
                        <a:lnTo>
                          <a:pt x="47" y="1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Freeform 100"/>
                  <p:cNvSpPr/>
                  <p:nvPr/>
                </p:nvSpPr>
                <p:spPr>
                  <a:xfrm>
                    <a:off x="1330200" y="6056280"/>
                    <a:ext cx="36720" cy="20628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3" h="130">
                        <a:moveTo>
                          <a:pt x="23" y="0"/>
                        </a:moveTo>
                        <a:lnTo>
                          <a:pt x="23" y="124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68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Freeform 101"/>
                  <p:cNvSpPr/>
                  <p:nvPr/>
                </p:nvSpPr>
                <p:spPr>
                  <a:xfrm>
                    <a:off x="1298520" y="6056280"/>
                    <a:ext cx="31680" cy="206280"/>
                  </a:xfrm>
                  <a:custGeom>
                    <a:avLst/>
                    <a:gdLst>
                      <a:gd name="textAreaLeft" fmla="*/ 0 w 31680"/>
                      <a:gd name="textAreaRight" fmla="*/ 32040 w 3168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0" h="130">
                        <a:moveTo>
                          <a:pt x="20" y="6"/>
                        </a:moveTo>
                        <a:lnTo>
                          <a:pt x="20" y="13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0" y="6"/>
                        </a:lnTo>
                        <a:close/>
                      </a:path>
                    </a:pathLst>
                  </a:custGeom>
                  <a:solidFill>
                    <a:srgbClr val="2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102"/>
                  <p:cNvSpPr/>
                  <p:nvPr/>
                </p:nvSpPr>
                <p:spPr>
                  <a:xfrm>
                    <a:off x="1398600" y="5999040"/>
                    <a:ext cx="3240" cy="235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35080"/>
                      <a:gd name="textAreaBottom" fmla="*/ 235440 h 235080"/>
                    </a:gdLst>
                    <a:ahLst/>
                    <a:rect l="textAreaLeft" t="textAreaTop" r="textAreaRight" b="textAreaBottom"/>
                    <a:pathLst>
                      <a:path w="2" h="148">
                        <a:moveTo>
                          <a:pt x="2" y="24"/>
                        </a:moveTo>
                        <a:lnTo>
                          <a:pt x="2" y="148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" y="24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Freeform 103"/>
                  <p:cNvSpPr/>
                  <p:nvPr/>
                </p:nvSpPr>
                <p:spPr>
                  <a:xfrm>
                    <a:off x="1401840" y="6037200"/>
                    <a:ext cx="36360" cy="2253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23" h="142">
                        <a:moveTo>
                          <a:pt x="23" y="18"/>
                        </a:moveTo>
                        <a:lnTo>
                          <a:pt x="23" y="142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3" y="18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04"/>
                  <p:cNvSpPr/>
                  <p:nvPr/>
                </p:nvSpPr>
                <p:spPr>
                  <a:xfrm>
                    <a:off x="1562040" y="6051600"/>
                    <a:ext cx="7920" cy="22212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5" h="140">
                        <a:moveTo>
                          <a:pt x="5" y="0"/>
                        </a:moveTo>
                        <a:lnTo>
                          <a:pt x="5" y="124"/>
                        </a:lnTo>
                        <a:lnTo>
                          <a:pt x="0" y="140"/>
                        </a:lnTo>
                        <a:lnTo>
                          <a:pt x="0" y="1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a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05"/>
                  <p:cNvSpPr/>
                  <p:nvPr/>
                </p:nvSpPr>
                <p:spPr>
                  <a:xfrm>
                    <a:off x="1547640" y="6078600"/>
                    <a:ext cx="14400" cy="2188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9" h="138">
                        <a:moveTo>
                          <a:pt x="9" y="0"/>
                        </a:moveTo>
                        <a:lnTo>
                          <a:pt x="9" y="123"/>
                        </a:lnTo>
                        <a:lnTo>
                          <a:pt x="0" y="138"/>
                        </a:lnTo>
                        <a:lnTo>
                          <a:pt x="0" y="14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a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06"/>
                  <p:cNvSpPr/>
                  <p:nvPr/>
                </p:nvSpPr>
                <p:spPr>
                  <a:xfrm>
                    <a:off x="1438200" y="6066000"/>
                    <a:ext cx="15840" cy="23328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233280"/>
                      <a:gd name="textAreaBottom" fmla="*/ 233640 h 233280"/>
                    </a:gdLst>
                    <a:ahLst/>
                    <a:rect l="textAreaLeft" t="textAreaTop" r="textAreaRight" b="textAreaBottom"/>
                    <a:pathLst>
                      <a:path w="10" h="147">
                        <a:moveTo>
                          <a:pt x="10" y="23"/>
                        </a:moveTo>
                        <a:lnTo>
                          <a:pt x="10" y="14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0" y="2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Freeform 107"/>
                  <p:cNvSpPr/>
                  <p:nvPr/>
                </p:nvSpPr>
                <p:spPr>
                  <a:xfrm>
                    <a:off x="1454040" y="6102360"/>
                    <a:ext cx="11160" cy="201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7" h="127">
                        <a:moveTo>
                          <a:pt x="7" y="3"/>
                        </a:moveTo>
                        <a:lnTo>
                          <a:pt x="7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108"/>
                  <p:cNvSpPr/>
                  <p:nvPr/>
                </p:nvSpPr>
                <p:spPr>
                  <a:xfrm>
                    <a:off x="1428840" y="6086520"/>
                    <a:ext cx="1440" cy="21888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" h="138">
                        <a:moveTo>
                          <a:pt x="1" y="0"/>
                        </a:moveTo>
                        <a:lnTo>
                          <a:pt x="1" y="124"/>
                        </a:lnTo>
                        <a:lnTo>
                          <a:pt x="0" y="138"/>
                        </a:lnTo>
                        <a:lnTo>
                          <a:pt x="0" y="1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109"/>
                  <p:cNvSpPr/>
                  <p:nvPr/>
                </p:nvSpPr>
                <p:spPr>
                  <a:xfrm>
                    <a:off x="1365120" y="6075360"/>
                    <a:ext cx="65160" cy="3636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36360"/>
                      <a:gd name="textAreaBottom" fmla="*/ 36720 h 36360"/>
                    </a:gdLst>
                    <a:ahLst/>
                    <a:rect l="textAreaLeft" t="textAreaTop" r="textAreaRight" b="textAreaBottom"/>
                    <a:pathLst>
                      <a:path w="41" h="23">
                        <a:moveTo>
                          <a:pt x="24" y="0"/>
                        </a:moveTo>
                        <a:lnTo>
                          <a:pt x="41" y="7"/>
                        </a:lnTo>
                        <a:lnTo>
                          <a:pt x="40" y="21"/>
                        </a:lnTo>
                        <a:lnTo>
                          <a:pt x="28" y="23"/>
                        </a:lnTo>
                        <a:lnTo>
                          <a:pt x="0" y="16"/>
                        </a:lnTo>
                        <a:lnTo>
                          <a:pt x="7" y="5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Freeform 110"/>
                  <p:cNvSpPr/>
                  <p:nvPr/>
                </p:nvSpPr>
                <p:spPr>
                  <a:xfrm>
                    <a:off x="1409760" y="6108840"/>
                    <a:ext cx="19080" cy="199800"/>
                  </a:xfrm>
                  <a:custGeom>
                    <a:avLst/>
                    <a:gdLst>
                      <a:gd name="textAreaLeft" fmla="*/ 0 w 19080"/>
                      <a:gd name="textAreaRight" fmla="*/ 19440 w 1908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12" h="126">
                        <a:moveTo>
                          <a:pt x="12" y="0"/>
                        </a:moveTo>
                        <a:lnTo>
                          <a:pt x="12" y="124"/>
                        </a:lnTo>
                        <a:lnTo>
                          <a:pt x="0" y="126"/>
                        </a:lnTo>
                        <a:lnTo>
                          <a:pt x="0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56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11"/>
                  <p:cNvSpPr/>
                  <p:nvPr/>
                </p:nvSpPr>
                <p:spPr>
                  <a:xfrm>
                    <a:off x="1365120" y="6100920"/>
                    <a:ext cx="44640" cy="20772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w="28" h="131">
                        <a:moveTo>
                          <a:pt x="28" y="7"/>
                        </a:moveTo>
                        <a:lnTo>
                          <a:pt x="28" y="131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8" y="7"/>
                        </a:lnTo>
                        <a:close/>
                      </a:path>
                    </a:pathLst>
                  </a:custGeom>
                  <a:solidFill>
                    <a:srgbClr val="30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112"/>
                  <p:cNvSpPr/>
                  <p:nvPr/>
                </p:nvSpPr>
                <p:spPr>
                  <a:xfrm>
                    <a:off x="1398600" y="5981760"/>
                    <a:ext cx="171360" cy="131760"/>
                  </a:xfrm>
                  <a:custGeom>
                    <a:avLst/>
                    <a:gdLst>
                      <a:gd name="textAreaLeft" fmla="*/ 0 w 171360"/>
                      <a:gd name="textAreaRight" fmla="*/ 171720 w 171360"/>
                      <a:gd name="textAreaTop" fmla="*/ 0 h 131760"/>
                      <a:gd name="textAreaBottom" fmla="*/ 132120 h 131760"/>
                    </a:gdLst>
                    <a:ahLst/>
                    <a:rect l="textAreaLeft" t="textAreaTop" r="textAreaRight" b="textAreaBottom"/>
                    <a:pathLst>
                      <a:path w="108" h="83">
                        <a:moveTo>
                          <a:pt x="0" y="11"/>
                        </a:moveTo>
                        <a:lnTo>
                          <a:pt x="6" y="12"/>
                        </a:lnTo>
                        <a:lnTo>
                          <a:pt x="11" y="5"/>
                        </a:lnTo>
                        <a:lnTo>
                          <a:pt x="30" y="3"/>
                        </a:lnTo>
                        <a:lnTo>
                          <a:pt x="48" y="1"/>
                        </a:lnTo>
                        <a:lnTo>
                          <a:pt x="73" y="0"/>
                        </a:lnTo>
                        <a:lnTo>
                          <a:pt x="94" y="10"/>
                        </a:lnTo>
                        <a:lnTo>
                          <a:pt x="106" y="26"/>
                        </a:lnTo>
                        <a:lnTo>
                          <a:pt x="108" y="44"/>
                        </a:lnTo>
                        <a:lnTo>
                          <a:pt x="103" y="61"/>
                        </a:lnTo>
                        <a:lnTo>
                          <a:pt x="94" y="75"/>
                        </a:lnTo>
                        <a:lnTo>
                          <a:pt x="69" y="83"/>
                        </a:lnTo>
                        <a:lnTo>
                          <a:pt x="42" y="79"/>
                        </a:lnTo>
                        <a:lnTo>
                          <a:pt x="35" y="76"/>
                        </a:lnTo>
                        <a:lnTo>
                          <a:pt x="25" y="53"/>
                        </a:lnTo>
                        <a:lnTo>
                          <a:pt x="2" y="35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113"/>
                  <p:cNvSpPr/>
                  <p:nvPr/>
                </p:nvSpPr>
                <p:spPr>
                  <a:xfrm>
                    <a:off x="1465200" y="6107040"/>
                    <a:ext cx="42840" cy="20160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27" h="127">
                        <a:moveTo>
                          <a:pt x="27" y="4"/>
                        </a:moveTo>
                        <a:lnTo>
                          <a:pt x="27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7" y="4"/>
                        </a:lnTo>
                        <a:close/>
                      </a:path>
                    </a:pathLst>
                  </a:custGeom>
                  <a:solidFill>
                    <a:srgbClr val="3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14"/>
                  <p:cNvSpPr/>
                  <p:nvPr/>
                </p:nvSpPr>
                <p:spPr>
                  <a:xfrm>
                    <a:off x="1508040" y="6100920"/>
                    <a:ext cx="39600" cy="20772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07720"/>
                      <a:gd name="textAreaBottom" fmla="*/ 208080 h 207720"/>
                    </a:gdLst>
                    <a:ahLst/>
                    <a:rect l="textAreaLeft" t="textAreaTop" r="textAreaRight" b="textAreaBottom"/>
                    <a:pathLst>
                      <a:path w="25" h="131">
                        <a:moveTo>
                          <a:pt x="25" y="0"/>
                        </a:moveTo>
                        <a:lnTo>
                          <a:pt x="25" y="124"/>
                        </a:lnTo>
                        <a:lnTo>
                          <a:pt x="0" y="131"/>
                        </a:lnTo>
                        <a:lnTo>
                          <a:pt x="0" y="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6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115"/>
                  <p:cNvSpPr/>
                  <p:nvPr/>
                </p:nvSpPr>
                <p:spPr>
                  <a:xfrm>
                    <a:off x="1527120" y="6165720"/>
                    <a:ext cx="14400" cy="22248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9" h="140">
                        <a:moveTo>
                          <a:pt x="9" y="16"/>
                        </a:moveTo>
                        <a:lnTo>
                          <a:pt x="9" y="14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9" y="16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Freeform 116"/>
                  <p:cNvSpPr/>
                  <p:nvPr/>
                </p:nvSpPr>
                <p:spPr>
                  <a:xfrm>
                    <a:off x="1541520" y="6191280"/>
                    <a:ext cx="3240" cy="21600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2" h="136">
                        <a:moveTo>
                          <a:pt x="2" y="12"/>
                        </a:moveTo>
                        <a:lnTo>
                          <a:pt x="2" y="13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17"/>
                  <p:cNvSpPr/>
                  <p:nvPr/>
                </p:nvSpPr>
                <p:spPr>
                  <a:xfrm>
                    <a:off x="1471680" y="6257880"/>
                    <a:ext cx="12600" cy="22068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8" h="139">
                        <a:moveTo>
                          <a:pt x="8" y="15"/>
                        </a:moveTo>
                        <a:lnTo>
                          <a:pt x="8" y="139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8" y="15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18"/>
                  <p:cNvSpPr/>
                  <p:nvPr/>
                </p:nvSpPr>
                <p:spPr>
                  <a:xfrm>
                    <a:off x="1827360" y="6261120"/>
                    <a:ext cx="1440" cy="22212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" h="140">
                        <a:moveTo>
                          <a:pt x="1" y="0"/>
                        </a:moveTo>
                        <a:lnTo>
                          <a:pt x="1" y="124"/>
                        </a:lnTo>
                        <a:lnTo>
                          <a:pt x="0" y="140"/>
                        </a:lnTo>
                        <a:lnTo>
                          <a:pt x="0" y="1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Freeform 119"/>
                  <p:cNvSpPr/>
                  <p:nvPr/>
                </p:nvSpPr>
                <p:spPr>
                  <a:xfrm>
                    <a:off x="1484280" y="6281640"/>
                    <a:ext cx="1800" cy="22392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23920"/>
                      <a:gd name="textAreaBottom" fmla="*/ 224280 h 223920"/>
                    </a:gdLst>
                    <a:ahLst/>
                    <a:rect l="textAreaLeft" t="textAreaTop" r="textAreaRight" b="textAreaBottom"/>
                    <a:pathLst>
                      <a:path w="1" h="141">
                        <a:moveTo>
                          <a:pt x="1" y="17"/>
                        </a:moveTo>
                        <a:lnTo>
                          <a:pt x="1" y="141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" y="17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20"/>
                  <p:cNvSpPr/>
                  <p:nvPr/>
                </p:nvSpPr>
                <p:spPr>
                  <a:xfrm>
                    <a:off x="1816200" y="6286680"/>
                    <a:ext cx="11160" cy="22032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7" h="139">
                        <a:moveTo>
                          <a:pt x="7" y="0"/>
                        </a:moveTo>
                        <a:lnTo>
                          <a:pt x="7" y="124"/>
                        </a:lnTo>
                        <a:lnTo>
                          <a:pt x="0" y="139"/>
                        </a:lnTo>
                        <a:lnTo>
                          <a:pt x="0" y="15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21"/>
                  <p:cNvSpPr/>
                  <p:nvPr/>
                </p:nvSpPr>
                <p:spPr>
                  <a:xfrm>
                    <a:off x="1486080" y="6308640"/>
                    <a:ext cx="15840" cy="21744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10" h="137">
                        <a:moveTo>
                          <a:pt x="10" y="14"/>
                        </a:moveTo>
                        <a:lnTo>
                          <a:pt x="10" y="13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0" y="14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22"/>
                  <p:cNvSpPr/>
                  <p:nvPr/>
                </p:nvSpPr>
                <p:spPr>
                  <a:xfrm>
                    <a:off x="1501920" y="6330960"/>
                    <a:ext cx="1440" cy="21744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1" h="137">
                        <a:moveTo>
                          <a:pt x="1" y="13"/>
                        </a:moveTo>
                        <a:lnTo>
                          <a:pt x="1" y="137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1" y="1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23"/>
                  <p:cNvSpPr/>
                  <p:nvPr/>
                </p:nvSpPr>
                <p:spPr>
                  <a:xfrm>
                    <a:off x="1803240" y="6337440"/>
                    <a:ext cx="17640" cy="21888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11" h="138">
                        <a:moveTo>
                          <a:pt x="11" y="0"/>
                        </a:moveTo>
                        <a:lnTo>
                          <a:pt x="11" y="124"/>
                        </a:lnTo>
                        <a:lnTo>
                          <a:pt x="0" y="138"/>
                        </a:lnTo>
                        <a:lnTo>
                          <a:pt x="0" y="14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a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24"/>
                  <p:cNvSpPr/>
                  <p:nvPr/>
                </p:nvSpPr>
                <p:spPr>
                  <a:xfrm>
                    <a:off x="1768320" y="6359400"/>
                    <a:ext cx="34920" cy="20340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22" h="128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28"/>
                        </a:lnTo>
                        <a:lnTo>
                          <a:pt x="0" y="4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5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25"/>
                  <p:cNvSpPr/>
                  <p:nvPr/>
                </p:nvSpPr>
                <p:spPr>
                  <a:xfrm>
                    <a:off x="1733400" y="6365880"/>
                    <a:ext cx="34920" cy="20484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04840"/>
                      <a:gd name="textAreaBottom" fmla="*/ 205200 h 204840"/>
                    </a:gdLst>
                    <a:ahLst/>
                    <a:rect l="textAreaLeft" t="textAreaTop" r="textAreaRight" b="textAreaBottom"/>
                    <a:pathLst>
                      <a:path w="22" h="129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29"/>
                        </a:lnTo>
                        <a:lnTo>
                          <a:pt x="0" y="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5e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26"/>
                  <p:cNvSpPr/>
                  <p:nvPr/>
                </p:nvSpPr>
                <p:spPr>
                  <a:xfrm>
                    <a:off x="1720800" y="6373800"/>
                    <a:ext cx="12600" cy="21132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8" h="133">
                        <a:moveTo>
                          <a:pt x="8" y="0"/>
                        </a:moveTo>
                        <a:lnTo>
                          <a:pt x="8" y="124"/>
                        </a:lnTo>
                        <a:lnTo>
                          <a:pt x="0" y="133"/>
                        </a:lnTo>
                        <a:lnTo>
                          <a:pt x="0" y="9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9e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27"/>
                  <p:cNvSpPr/>
                  <p:nvPr/>
                </p:nvSpPr>
                <p:spPr>
                  <a:xfrm>
                    <a:off x="1488960" y="6372360"/>
                    <a:ext cx="3240" cy="23652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36520"/>
                      <a:gd name="textAreaBottom" fmla="*/ 236880 h 236520"/>
                    </a:gdLst>
                    <a:ahLst/>
                    <a:rect l="textAreaLeft" t="textAreaTop" r="textAreaRight" b="textAreaBottom"/>
                    <a:pathLst>
                      <a:path w="2" h="149">
                        <a:moveTo>
                          <a:pt x="2" y="25"/>
                        </a:moveTo>
                        <a:lnTo>
                          <a:pt x="2" y="149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" y="25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128"/>
                  <p:cNvSpPr/>
                  <p:nvPr/>
                </p:nvSpPr>
                <p:spPr>
                  <a:xfrm>
                    <a:off x="1704960" y="6388200"/>
                    <a:ext cx="15840" cy="223560"/>
                  </a:xfrm>
                  <a:custGeom>
                    <a:avLst/>
                    <a:gdLst>
                      <a:gd name="textAreaLeft" fmla="*/ 0 w 15840"/>
                      <a:gd name="textAreaRight" fmla="*/ 16200 w 15840"/>
                      <a:gd name="textAreaTop" fmla="*/ 0 h 223560"/>
                      <a:gd name="textAreaBottom" fmla="*/ 223920 h 223560"/>
                    </a:gdLst>
                    <a:ahLst/>
                    <a:rect l="textAreaLeft" t="textAreaTop" r="textAreaRight" b="textAreaBottom"/>
                    <a:pathLst>
                      <a:path w="10" h="141">
                        <a:moveTo>
                          <a:pt x="10" y="0"/>
                        </a:moveTo>
                        <a:lnTo>
                          <a:pt x="10" y="124"/>
                        </a:lnTo>
                        <a:lnTo>
                          <a:pt x="0" y="141"/>
                        </a:lnTo>
                        <a:lnTo>
                          <a:pt x="0" y="18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a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9"/>
                  <p:cNvSpPr/>
                  <p:nvPr/>
                </p:nvSpPr>
                <p:spPr>
                  <a:xfrm>
                    <a:off x="1492200" y="6411960"/>
                    <a:ext cx="27000" cy="210960"/>
                  </a:xfrm>
                  <a:custGeom>
                    <a:avLst/>
                    <a:gdLst>
                      <a:gd name="textAreaLeft" fmla="*/ 0 w 27000"/>
                      <a:gd name="textAreaRight" fmla="*/ 27360 w 27000"/>
                      <a:gd name="textAreaTop" fmla="*/ 0 h 210960"/>
                      <a:gd name="textAreaBottom" fmla="*/ 211320 h 210960"/>
                    </a:gdLst>
                    <a:ahLst/>
                    <a:rect l="textAreaLeft" t="textAreaTop" r="textAreaRight" b="textAreaBottom"/>
                    <a:pathLst>
                      <a:path w="17" h="133">
                        <a:moveTo>
                          <a:pt x="17" y="9"/>
                        </a:moveTo>
                        <a:lnTo>
                          <a:pt x="17" y="133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7" y="9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130"/>
                  <p:cNvSpPr/>
                  <p:nvPr/>
                </p:nvSpPr>
                <p:spPr>
                  <a:xfrm>
                    <a:off x="1703520" y="6416640"/>
                    <a:ext cx="1440" cy="22392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3920"/>
                      <a:gd name="textAreaBottom" fmla="*/ 224280 h 223920"/>
                    </a:gdLst>
                    <a:ahLst/>
                    <a:rect l="textAreaLeft" t="textAreaTop" r="textAreaRight" b="textAreaBottom"/>
                    <a:pathLst>
                      <a:path w="1" h="141">
                        <a:moveTo>
                          <a:pt x="1" y="0"/>
                        </a:moveTo>
                        <a:lnTo>
                          <a:pt x="1" y="123"/>
                        </a:lnTo>
                        <a:lnTo>
                          <a:pt x="0" y="141"/>
                        </a:lnTo>
                        <a:lnTo>
                          <a:pt x="0" y="1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131"/>
                  <p:cNvSpPr/>
                  <p:nvPr/>
                </p:nvSpPr>
                <p:spPr>
                  <a:xfrm>
                    <a:off x="1519200" y="6426360"/>
                    <a:ext cx="17640" cy="222120"/>
                  </a:xfrm>
                  <a:custGeom>
                    <a:avLst/>
                    <a:gdLst>
                      <a:gd name="textAreaLeft" fmla="*/ 0 w 17640"/>
                      <a:gd name="textAreaRight" fmla="*/ 18000 w 17640"/>
                      <a:gd name="textAreaTop" fmla="*/ 0 h 222120"/>
                      <a:gd name="textAreaBottom" fmla="*/ 222480 h 222120"/>
                    </a:gdLst>
                    <a:ahLst/>
                    <a:rect l="textAreaLeft" t="textAreaTop" r="textAreaRight" b="textAreaBottom"/>
                    <a:pathLst>
                      <a:path w="11" h="140">
                        <a:moveTo>
                          <a:pt x="11" y="16"/>
                        </a:moveTo>
                        <a:lnTo>
                          <a:pt x="11" y="14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1" y="16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132"/>
                  <p:cNvSpPr/>
                  <p:nvPr/>
                </p:nvSpPr>
                <p:spPr>
                  <a:xfrm>
                    <a:off x="1673280" y="6443640"/>
                    <a:ext cx="30240" cy="2080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08080"/>
                      <a:gd name="textAreaBottom" fmla="*/ 208440 h 208080"/>
                    </a:gdLst>
                    <a:ahLst/>
                    <a:rect l="textAreaLeft" t="textAreaTop" r="textAreaRight" b="textAreaBottom"/>
                    <a:pathLst>
                      <a:path w="19" h="131">
                        <a:moveTo>
                          <a:pt x="19" y="0"/>
                        </a:moveTo>
                        <a:lnTo>
                          <a:pt x="19" y="124"/>
                        </a:lnTo>
                        <a:lnTo>
                          <a:pt x="0" y="131"/>
                        </a:lnTo>
                        <a:lnTo>
                          <a:pt x="0" y="7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6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33"/>
                  <p:cNvSpPr/>
                  <p:nvPr/>
                </p:nvSpPr>
                <p:spPr>
                  <a:xfrm>
                    <a:off x="1636560" y="6450120"/>
                    <a:ext cx="36720" cy="20160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23" h="127">
                        <a:moveTo>
                          <a:pt x="23" y="3"/>
                        </a:moveTo>
                        <a:lnTo>
                          <a:pt x="23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38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34"/>
                  <p:cNvSpPr/>
                  <p:nvPr/>
                </p:nvSpPr>
                <p:spPr>
                  <a:xfrm>
                    <a:off x="1536840" y="6451560"/>
                    <a:ext cx="33120" cy="20628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21" h="130">
                        <a:moveTo>
                          <a:pt x="21" y="7"/>
                        </a:moveTo>
                        <a:lnTo>
                          <a:pt x="21" y="130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1" y="7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5"/>
                  <p:cNvSpPr/>
                  <p:nvPr/>
                </p:nvSpPr>
                <p:spPr>
                  <a:xfrm>
                    <a:off x="1611360" y="6450120"/>
                    <a:ext cx="25200" cy="2095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16" h="132">
                        <a:moveTo>
                          <a:pt x="16" y="0"/>
                        </a:moveTo>
                        <a:lnTo>
                          <a:pt x="16" y="124"/>
                        </a:lnTo>
                        <a:lnTo>
                          <a:pt x="0" y="132"/>
                        </a:lnTo>
                        <a:lnTo>
                          <a:pt x="0" y="9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82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36"/>
                  <p:cNvSpPr/>
                  <p:nvPr/>
                </p:nvSpPr>
                <p:spPr>
                  <a:xfrm>
                    <a:off x="1471680" y="6149880"/>
                    <a:ext cx="357120" cy="31428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314280"/>
                      <a:gd name="textAreaBottom" fmla="*/ 314640 h 314280"/>
                    </a:gdLst>
                    <a:ahLst/>
                    <a:rect l="textAreaLeft" t="textAreaTop" r="textAreaRight" b="textAreaBottom"/>
                    <a:pathLst>
                      <a:path w="225" h="198">
                        <a:moveTo>
                          <a:pt x="114" y="12"/>
                        </a:moveTo>
                        <a:lnTo>
                          <a:pt x="117" y="5"/>
                        </a:lnTo>
                        <a:lnTo>
                          <a:pt x="136" y="3"/>
                        </a:lnTo>
                        <a:lnTo>
                          <a:pt x="154" y="3"/>
                        </a:lnTo>
                        <a:lnTo>
                          <a:pt x="176" y="13"/>
                        </a:lnTo>
                        <a:lnTo>
                          <a:pt x="196" y="24"/>
                        </a:lnTo>
                        <a:lnTo>
                          <a:pt x="210" y="38"/>
                        </a:lnTo>
                        <a:lnTo>
                          <a:pt x="219" y="53"/>
                        </a:lnTo>
                        <a:lnTo>
                          <a:pt x="225" y="70"/>
                        </a:lnTo>
                        <a:lnTo>
                          <a:pt x="224" y="86"/>
                        </a:lnTo>
                        <a:lnTo>
                          <a:pt x="217" y="101"/>
                        </a:lnTo>
                        <a:lnTo>
                          <a:pt x="220" y="118"/>
                        </a:lnTo>
                        <a:lnTo>
                          <a:pt x="209" y="132"/>
                        </a:lnTo>
                        <a:lnTo>
                          <a:pt x="187" y="136"/>
                        </a:lnTo>
                        <a:lnTo>
                          <a:pt x="165" y="141"/>
                        </a:lnTo>
                        <a:lnTo>
                          <a:pt x="157" y="150"/>
                        </a:lnTo>
                        <a:lnTo>
                          <a:pt x="147" y="168"/>
                        </a:lnTo>
                        <a:lnTo>
                          <a:pt x="146" y="185"/>
                        </a:lnTo>
                        <a:lnTo>
                          <a:pt x="127" y="192"/>
                        </a:lnTo>
                        <a:lnTo>
                          <a:pt x="104" y="189"/>
                        </a:lnTo>
                        <a:lnTo>
                          <a:pt x="88" y="198"/>
                        </a:lnTo>
                        <a:lnTo>
                          <a:pt x="62" y="197"/>
                        </a:lnTo>
                        <a:lnTo>
                          <a:pt x="41" y="190"/>
                        </a:lnTo>
                        <a:lnTo>
                          <a:pt x="30" y="174"/>
                        </a:lnTo>
                        <a:lnTo>
                          <a:pt x="13" y="165"/>
                        </a:lnTo>
                        <a:lnTo>
                          <a:pt x="11" y="140"/>
                        </a:lnTo>
                        <a:lnTo>
                          <a:pt x="20" y="127"/>
                        </a:lnTo>
                        <a:lnTo>
                          <a:pt x="19" y="114"/>
                        </a:lnTo>
                        <a:lnTo>
                          <a:pt x="9" y="100"/>
                        </a:lnTo>
                        <a:lnTo>
                          <a:pt x="8" y="83"/>
                        </a:lnTo>
                        <a:lnTo>
                          <a:pt x="0" y="68"/>
                        </a:lnTo>
                        <a:lnTo>
                          <a:pt x="18" y="59"/>
                        </a:lnTo>
                        <a:lnTo>
                          <a:pt x="33" y="49"/>
                        </a:lnTo>
                        <a:lnTo>
                          <a:pt x="46" y="38"/>
                        </a:lnTo>
                        <a:lnTo>
                          <a:pt x="44" y="26"/>
                        </a:lnTo>
                        <a:lnTo>
                          <a:pt x="35" y="10"/>
                        </a:lnTo>
                        <a:lnTo>
                          <a:pt x="50" y="0"/>
                        </a:lnTo>
                        <a:lnTo>
                          <a:pt x="81" y="2"/>
                        </a:lnTo>
                        <a:lnTo>
                          <a:pt x="114" y="12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37"/>
                  <p:cNvSpPr/>
                  <p:nvPr/>
                </p:nvSpPr>
                <p:spPr>
                  <a:xfrm>
                    <a:off x="1569960" y="6462720"/>
                    <a:ext cx="41400" cy="196920"/>
                  </a:xfrm>
                  <a:custGeom>
                    <a:avLst/>
                    <a:gdLst>
                      <a:gd name="textAreaLeft" fmla="*/ 0 w 41400"/>
                      <a:gd name="textAreaRight" fmla="*/ 41760 w 41400"/>
                      <a:gd name="textAreaTop" fmla="*/ 0 h 196920"/>
                      <a:gd name="textAreaBottom" fmla="*/ 197280 h 196920"/>
                    </a:gdLst>
                    <a:ahLst/>
                    <a:rect l="textAreaLeft" t="textAreaTop" r="textAreaRight" b="textAreaBottom"/>
                    <a:pathLst>
                      <a:path w="26" h="124">
                        <a:moveTo>
                          <a:pt x="26" y="1"/>
                        </a:moveTo>
                        <a:lnTo>
                          <a:pt x="26" y="124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26" y="1"/>
                        </a:lnTo>
                        <a:close/>
                      </a:path>
                    </a:pathLst>
                  </a:custGeom>
                  <a:solidFill>
                    <a:srgbClr val="3f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38"/>
                  <p:cNvSpPr/>
                  <p:nvPr/>
                </p:nvSpPr>
                <p:spPr>
                  <a:xfrm>
                    <a:off x="1162080" y="5857920"/>
                    <a:ext cx="1440" cy="22860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8600"/>
                      <a:gd name="textAreaBottom" fmla="*/ 228960 h 228600"/>
                    </a:gdLst>
                    <a:ahLst/>
                    <a:rect l="textAreaLeft" t="textAreaTop" r="textAreaRight" b="textAreaBottom"/>
                    <a:pathLst>
                      <a:path w="1" h="144">
                        <a:moveTo>
                          <a:pt x="1" y="0"/>
                        </a:moveTo>
                        <a:lnTo>
                          <a:pt x="1" y="123"/>
                        </a:lnTo>
                        <a:lnTo>
                          <a:pt x="0" y="144"/>
                        </a:lnTo>
                        <a:lnTo>
                          <a:pt x="0" y="2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39"/>
                  <p:cNvSpPr/>
                  <p:nvPr/>
                </p:nvSpPr>
                <p:spPr>
                  <a:xfrm>
                    <a:off x="1054080" y="5925960"/>
                    <a:ext cx="11160" cy="2178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7800"/>
                      <a:gd name="textAreaBottom" fmla="*/ 218160 h 217800"/>
                    </a:gdLst>
                    <a:ahLst/>
                    <a:rect l="textAreaLeft" t="textAreaTop" r="textAreaRight" b="textAreaBottom"/>
                    <a:pathLst>
                      <a:path w="7" h="137">
                        <a:moveTo>
                          <a:pt x="7" y="13"/>
                        </a:moveTo>
                        <a:lnTo>
                          <a:pt x="7" y="137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7" y="13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40"/>
                  <p:cNvSpPr/>
                  <p:nvPr/>
                </p:nvSpPr>
                <p:spPr>
                  <a:xfrm>
                    <a:off x="1162080" y="5921280"/>
                    <a:ext cx="1440" cy="22716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7160"/>
                      <a:gd name="textAreaBottom" fmla="*/ 227160 h 227160"/>
                    </a:gdLst>
                    <a:ahLst/>
                    <a:rect l="textAreaLeft" t="textAreaTop" r="textAreaRight" b="textAreaBottom"/>
                    <a:pathLst>
                      <a:path w="1" h="143">
                        <a:moveTo>
                          <a:pt x="1" y="0"/>
                        </a:moveTo>
                        <a:lnTo>
                          <a:pt x="1" y="124"/>
                        </a:lnTo>
                        <a:lnTo>
                          <a:pt x="0" y="143"/>
                        </a:lnTo>
                        <a:lnTo>
                          <a:pt x="0" y="1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41"/>
                  <p:cNvSpPr/>
                  <p:nvPr/>
                </p:nvSpPr>
                <p:spPr>
                  <a:xfrm>
                    <a:off x="1065240" y="5946840"/>
                    <a:ext cx="25200" cy="209520"/>
                  </a:xfrm>
                  <a:custGeom>
                    <a:avLst/>
                    <a:gdLst>
                      <a:gd name="textAreaLeft" fmla="*/ 0 w 25200"/>
                      <a:gd name="textAreaRight" fmla="*/ 25560 w 2520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16" h="132">
                        <a:moveTo>
                          <a:pt x="16" y="8"/>
                        </a:moveTo>
                        <a:lnTo>
                          <a:pt x="16" y="132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16" y="8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42"/>
                  <p:cNvSpPr/>
                  <p:nvPr/>
                </p:nvSpPr>
                <p:spPr>
                  <a:xfrm>
                    <a:off x="1054080" y="5857920"/>
                    <a:ext cx="109440" cy="106200"/>
                  </a:xfrm>
                  <a:custGeom>
                    <a:avLst/>
                    <a:gdLst>
                      <a:gd name="textAreaLeft" fmla="*/ 0 w 109440"/>
                      <a:gd name="textAreaRight" fmla="*/ 109800 w 10944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69" h="67">
                        <a:moveTo>
                          <a:pt x="1" y="28"/>
                        </a:moveTo>
                        <a:lnTo>
                          <a:pt x="12" y="6"/>
                        </a:lnTo>
                        <a:lnTo>
                          <a:pt x="32" y="2"/>
                        </a:lnTo>
                        <a:lnTo>
                          <a:pt x="52" y="0"/>
                        </a:lnTo>
                        <a:lnTo>
                          <a:pt x="69" y="0"/>
                        </a:lnTo>
                        <a:lnTo>
                          <a:pt x="68" y="20"/>
                        </a:lnTo>
                        <a:lnTo>
                          <a:pt x="69" y="40"/>
                        </a:lnTo>
                        <a:lnTo>
                          <a:pt x="68" y="59"/>
                        </a:lnTo>
                        <a:lnTo>
                          <a:pt x="46" y="67"/>
                        </a:lnTo>
                        <a:lnTo>
                          <a:pt x="23" y="64"/>
                        </a:lnTo>
                        <a:lnTo>
                          <a:pt x="7" y="56"/>
                        </a:lnTo>
                        <a:lnTo>
                          <a:pt x="0" y="43"/>
                        </a:lnTo>
                        <a:lnTo>
                          <a:pt x="1" y="28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143"/>
                  <p:cNvSpPr/>
                  <p:nvPr/>
                </p:nvSpPr>
                <p:spPr>
                  <a:xfrm>
                    <a:off x="1090440" y="5959440"/>
                    <a:ext cx="36720" cy="201600"/>
                  </a:xfrm>
                  <a:custGeom>
                    <a:avLst/>
                    <a:gdLst>
                      <a:gd name="textAreaLeft" fmla="*/ 0 w 36720"/>
                      <a:gd name="textAreaRight" fmla="*/ 37080 w 36720"/>
                      <a:gd name="textAreaTop" fmla="*/ 0 h 201600"/>
                      <a:gd name="textAreaBottom" fmla="*/ 201960 h 201600"/>
                    </a:gdLst>
                    <a:ahLst/>
                    <a:rect l="textAreaLeft" t="textAreaTop" r="textAreaRight" b="textAreaBottom"/>
                    <a:pathLst>
                      <a:path w="23" h="127">
                        <a:moveTo>
                          <a:pt x="23" y="3"/>
                        </a:moveTo>
                        <a:lnTo>
                          <a:pt x="23" y="127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3" y="3"/>
                        </a:lnTo>
                        <a:close/>
                      </a:path>
                    </a:pathLst>
                  </a:custGeom>
                  <a:solidFill>
                    <a:srgbClr val="3a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Freeform 144"/>
                  <p:cNvSpPr/>
                  <p:nvPr/>
                </p:nvSpPr>
                <p:spPr>
                  <a:xfrm>
                    <a:off x="1127160" y="5951520"/>
                    <a:ext cx="34920" cy="209520"/>
                  </a:xfrm>
                  <a:custGeom>
                    <a:avLst/>
                    <a:gdLst>
                      <a:gd name="textAreaLeft" fmla="*/ 0 w 34920"/>
                      <a:gd name="textAreaRight" fmla="*/ 34920 w 34920"/>
                      <a:gd name="textAreaTop" fmla="*/ 0 h 209520"/>
                      <a:gd name="textAreaBottom" fmla="*/ 209880 h 209520"/>
                    </a:gdLst>
                    <a:ahLst/>
                    <a:rect l="textAreaLeft" t="textAreaTop" r="textAreaRight" b="textAreaBottom"/>
                    <a:pathLst>
                      <a:path w="22" h="132">
                        <a:moveTo>
                          <a:pt x="22" y="0"/>
                        </a:moveTo>
                        <a:lnTo>
                          <a:pt x="22" y="124"/>
                        </a:lnTo>
                        <a:lnTo>
                          <a:pt x="0" y="132"/>
                        </a:lnTo>
                        <a:lnTo>
                          <a:pt x="0" y="8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6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145"/>
                  <p:cNvSpPr/>
                  <p:nvPr/>
                </p:nvSpPr>
                <p:spPr>
                  <a:xfrm>
                    <a:off x="922320" y="5754600"/>
                    <a:ext cx="3240" cy="2224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22480"/>
                      <a:gd name="textAreaBottom" fmla="*/ 222840 h 222480"/>
                    </a:gdLst>
                    <a:ahLst/>
                    <a:rect l="textAreaLeft" t="textAreaTop" r="textAreaRight" b="textAreaBottom"/>
                    <a:pathLst>
                      <a:path w="2" h="140">
                        <a:moveTo>
                          <a:pt x="2" y="0"/>
                        </a:moveTo>
                        <a:lnTo>
                          <a:pt x="2" y="124"/>
                        </a:lnTo>
                        <a:lnTo>
                          <a:pt x="0" y="140"/>
                        </a:lnTo>
                        <a:lnTo>
                          <a:pt x="0" y="1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146"/>
                  <p:cNvSpPr/>
                  <p:nvPr/>
                </p:nvSpPr>
                <p:spPr>
                  <a:xfrm>
                    <a:off x="755640" y="5770440"/>
                    <a:ext cx="4680" cy="212760"/>
                  </a:xfrm>
                  <a:custGeom>
                    <a:avLst/>
                    <a:gdLst>
                      <a:gd name="textAreaLeft" fmla="*/ 0 w 4680"/>
                      <a:gd name="textAreaRight" fmla="*/ 5040 w 468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w="3" h="134">
                        <a:moveTo>
                          <a:pt x="3" y="11"/>
                        </a:moveTo>
                        <a:lnTo>
                          <a:pt x="3" y="134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47"/>
                  <p:cNvSpPr/>
                  <p:nvPr/>
                </p:nvSpPr>
                <p:spPr>
                  <a:xfrm>
                    <a:off x="919080" y="5780160"/>
                    <a:ext cx="3240" cy="2188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18880"/>
                      <a:gd name="textAreaBottom" fmla="*/ 219240 h 218880"/>
                    </a:gdLst>
                    <a:ahLst/>
                    <a:rect l="textAreaLeft" t="textAreaTop" r="textAreaRight" b="textAreaBottom"/>
                    <a:pathLst>
                      <a:path w="2" h="138">
                        <a:moveTo>
                          <a:pt x="2" y="0"/>
                        </a:moveTo>
                        <a:lnTo>
                          <a:pt x="2" y="124"/>
                        </a:lnTo>
                        <a:lnTo>
                          <a:pt x="0" y="138"/>
                        </a:lnTo>
                        <a:lnTo>
                          <a:pt x="0" y="1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3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148"/>
                  <p:cNvSpPr/>
                  <p:nvPr/>
                </p:nvSpPr>
                <p:spPr>
                  <a:xfrm>
                    <a:off x="752400" y="5815080"/>
                    <a:ext cx="20880" cy="226800"/>
                  </a:xfrm>
                  <a:custGeom>
                    <a:avLst/>
                    <a:gdLst>
                      <a:gd name="textAreaLeft" fmla="*/ 0 w 20880"/>
                      <a:gd name="textAreaRight" fmla="*/ 21240 w 20880"/>
                      <a:gd name="textAreaTop" fmla="*/ 0 h 226800"/>
                      <a:gd name="textAreaBottom" fmla="*/ 227160 h 226800"/>
                    </a:gdLst>
                    <a:ahLst/>
                    <a:rect l="textAreaLeft" t="textAreaTop" r="textAreaRight" b="textAreaBottom"/>
                    <a:pathLst>
                      <a:path w="13" h="143">
                        <a:moveTo>
                          <a:pt x="13" y="19"/>
                        </a:moveTo>
                        <a:lnTo>
                          <a:pt x="13" y="143"/>
                        </a:lnTo>
                        <a:lnTo>
                          <a:pt x="0" y="123"/>
                        </a:lnTo>
                        <a:lnTo>
                          <a:pt x="0" y="0"/>
                        </a:lnTo>
                        <a:lnTo>
                          <a:pt x="13" y="19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149"/>
                  <p:cNvSpPr/>
                  <p:nvPr/>
                </p:nvSpPr>
                <p:spPr>
                  <a:xfrm>
                    <a:off x="896760" y="5827680"/>
                    <a:ext cx="24120" cy="216000"/>
                  </a:xfrm>
                  <a:custGeom>
                    <a:avLst/>
                    <a:gdLst>
                      <a:gd name="textAreaLeft" fmla="*/ 0 w 24120"/>
                      <a:gd name="textAreaRight" fmla="*/ 24480 w 241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5" h="136">
                        <a:moveTo>
                          <a:pt x="15" y="0"/>
                        </a:moveTo>
                        <a:lnTo>
                          <a:pt x="15" y="123"/>
                        </a:lnTo>
                        <a:lnTo>
                          <a:pt x="0" y="136"/>
                        </a:lnTo>
                        <a:lnTo>
                          <a:pt x="0" y="13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99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50"/>
                  <p:cNvSpPr/>
                  <p:nvPr/>
                </p:nvSpPr>
                <p:spPr>
                  <a:xfrm>
                    <a:off x="868320" y="5848200"/>
                    <a:ext cx="28440" cy="2113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18" h="133">
                        <a:moveTo>
                          <a:pt x="18" y="0"/>
                        </a:moveTo>
                        <a:lnTo>
                          <a:pt x="18" y="123"/>
                        </a:lnTo>
                        <a:lnTo>
                          <a:pt x="0" y="133"/>
                        </a:lnTo>
                        <a:lnTo>
                          <a:pt x="0" y="9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84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51"/>
                  <p:cNvSpPr/>
                  <p:nvPr/>
                </p:nvSpPr>
                <p:spPr>
                  <a:xfrm>
                    <a:off x="773280" y="5845320"/>
                    <a:ext cx="33120" cy="225360"/>
                  </a:xfrm>
                  <a:custGeom>
                    <a:avLst/>
                    <a:gdLst>
                      <a:gd name="textAreaLeft" fmla="*/ 0 w 33120"/>
                      <a:gd name="textAreaRight" fmla="*/ 33480 w 3312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21" h="142">
                        <a:moveTo>
                          <a:pt x="21" y="18"/>
                        </a:moveTo>
                        <a:lnTo>
                          <a:pt x="21" y="142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1" y="18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52"/>
                  <p:cNvSpPr/>
                  <p:nvPr/>
                </p:nvSpPr>
                <p:spPr>
                  <a:xfrm>
                    <a:off x="806400" y="5873760"/>
                    <a:ext cx="33480" cy="20016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200160"/>
                      <a:gd name="textAreaBottom" fmla="*/ 200520 h 200160"/>
                    </a:gdLst>
                    <a:ahLst/>
                    <a:rect l="textAreaLeft" t="textAreaTop" r="textAreaRight" b="textAreaBottom"/>
                    <a:pathLst>
                      <a:path w="21" h="126">
                        <a:moveTo>
                          <a:pt x="21" y="2"/>
                        </a:moveTo>
                        <a:lnTo>
                          <a:pt x="21" y="12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1" y="2"/>
                        </a:lnTo>
                        <a:close/>
                      </a:path>
                    </a:pathLst>
                  </a:custGeom>
                  <a:solidFill>
                    <a:srgbClr val="3d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53"/>
                  <p:cNvSpPr/>
                  <p:nvPr/>
                </p:nvSpPr>
                <p:spPr>
                  <a:xfrm>
                    <a:off x="839880" y="5862600"/>
                    <a:ext cx="28440" cy="21132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11320"/>
                      <a:gd name="textAreaBottom" fmla="*/ 211680 h 211320"/>
                    </a:gdLst>
                    <a:ahLst/>
                    <a:rect l="textAreaLeft" t="textAreaTop" r="textAreaRight" b="textAreaBottom"/>
                    <a:pathLst>
                      <a:path w="18" h="133">
                        <a:moveTo>
                          <a:pt x="18" y="0"/>
                        </a:moveTo>
                        <a:lnTo>
                          <a:pt x="18" y="124"/>
                        </a:lnTo>
                        <a:lnTo>
                          <a:pt x="0" y="133"/>
                        </a:lnTo>
                        <a:lnTo>
                          <a:pt x="0" y="9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7c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154"/>
                  <p:cNvSpPr/>
                  <p:nvPr/>
                </p:nvSpPr>
                <p:spPr>
                  <a:xfrm>
                    <a:off x="752400" y="5715000"/>
                    <a:ext cx="173160" cy="162000"/>
                  </a:xfrm>
                  <a:custGeom>
                    <a:avLst/>
                    <a:gdLst>
                      <a:gd name="textAreaLeft" fmla="*/ 0 w 173160"/>
                      <a:gd name="textAreaRight" fmla="*/ 173160 w 17316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109" h="102">
                        <a:moveTo>
                          <a:pt x="5" y="46"/>
                        </a:moveTo>
                        <a:lnTo>
                          <a:pt x="2" y="35"/>
                        </a:lnTo>
                        <a:lnTo>
                          <a:pt x="23" y="28"/>
                        </a:lnTo>
                        <a:lnTo>
                          <a:pt x="39" y="16"/>
                        </a:lnTo>
                        <a:lnTo>
                          <a:pt x="43" y="2"/>
                        </a:lnTo>
                        <a:lnTo>
                          <a:pt x="63" y="0"/>
                        </a:lnTo>
                        <a:lnTo>
                          <a:pt x="83" y="1"/>
                        </a:lnTo>
                        <a:lnTo>
                          <a:pt x="101" y="3"/>
                        </a:lnTo>
                        <a:lnTo>
                          <a:pt x="105" y="9"/>
                        </a:lnTo>
                        <a:lnTo>
                          <a:pt x="109" y="25"/>
                        </a:lnTo>
                        <a:lnTo>
                          <a:pt x="107" y="41"/>
                        </a:lnTo>
                        <a:lnTo>
                          <a:pt x="105" y="56"/>
                        </a:lnTo>
                        <a:lnTo>
                          <a:pt x="106" y="71"/>
                        </a:lnTo>
                        <a:lnTo>
                          <a:pt x="91" y="84"/>
                        </a:lnTo>
                        <a:lnTo>
                          <a:pt x="73" y="93"/>
                        </a:lnTo>
                        <a:lnTo>
                          <a:pt x="55" y="102"/>
                        </a:lnTo>
                        <a:lnTo>
                          <a:pt x="34" y="100"/>
                        </a:lnTo>
                        <a:lnTo>
                          <a:pt x="13" y="82"/>
                        </a:lnTo>
                        <a:lnTo>
                          <a:pt x="0" y="63"/>
                        </a:lnTo>
                        <a:lnTo>
                          <a:pt x="5" y="46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155"/>
                  <p:cNvSpPr/>
                  <p:nvPr/>
                </p:nvSpPr>
                <p:spPr>
                  <a:xfrm>
                    <a:off x="708120" y="5746680"/>
                    <a:ext cx="1440" cy="227160"/>
                  </a:xfrm>
                  <a:custGeom>
                    <a:avLst/>
                    <a:gdLst>
                      <a:gd name="textAreaLeft" fmla="*/ 0 w 1440"/>
                      <a:gd name="textAreaRight" fmla="*/ 1800 w 1440"/>
                      <a:gd name="textAreaTop" fmla="*/ 0 h 227160"/>
                      <a:gd name="textAreaBottom" fmla="*/ 227160 h 227160"/>
                    </a:gdLst>
                    <a:ahLst/>
                    <a:rect l="textAreaLeft" t="textAreaTop" r="textAreaRight" b="textAreaBottom"/>
                    <a:pathLst>
                      <a:path w="1" h="143">
                        <a:moveTo>
                          <a:pt x="1" y="0"/>
                        </a:moveTo>
                        <a:lnTo>
                          <a:pt x="1" y="123"/>
                        </a:lnTo>
                        <a:lnTo>
                          <a:pt x="0" y="143"/>
                        </a:lnTo>
                        <a:lnTo>
                          <a:pt x="0" y="2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1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Freeform 156"/>
                  <p:cNvSpPr/>
                  <p:nvPr/>
                </p:nvSpPr>
                <p:spPr>
                  <a:xfrm>
                    <a:off x="696960" y="5778360"/>
                    <a:ext cx="11160" cy="2160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7" h="136">
                        <a:moveTo>
                          <a:pt x="7" y="0"/>
                        </a:moveTo>
                        <a:lnTo>
                          <a:pt x="7" y="123"/>
                        </a:lnTo>
                        <a:lnTo>
                          <a:pt x="0" y="136"/>
                        </a:lnTo>
                        <a:lnTo>
                          <a:pt x="0" y="12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57"/>
                  <p:cNvSpPr/>
                  <p:nvPr/>
                </p:nvSpPr>
                <p:spPr>
                  <a:xfrm>
                    <a:off x="685800" y="5797440"/>
                    <a:ext cx="11160" cy="21744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17440"/>
                      <a:gd name="textAreaBottom" fmla="*/ 217800 h 217440"/>
                    </a:gdLst>
                    <a:ahLst/>
                    <a:rect l="textAreaLeft" t="textAreaTop" r="textAreaRight" b="textAreaBottom"/>
                    <a:pathLst>
                      <a:path w="7" h="137">
                        <a:moveTo>
                          <a:pt x="7" y="0"/>
                        </a:moveTo>
                        <a:lnTo>
                          <a:pt x="7" y="124"/>
                        </a:lnTo>
                        <a:lnTo>
                          <a:pt x="0" y="137"/>
                        </a:lnTo>
                        <a:lnTo>
                          <a:pt x="0" y="13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a5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58"/>
                  <p:cNvSpPr/>
                  <p:nvPr/>
                </p:nvSpPr>
                <p:spPr>
                  <a:xfrm>
                    <a:off x="609480" y="5743440"/>
                    <a:ext cx="100080" cy="84240"/>
                  </a:xfrm>
                  <a:custGeom>
                    <a:avLst/>
                    <a:gdLst>
                      <a:gd name="textAreaLeft" fmla="*/ 0 w 100080"/>
                      <a:gd name="textAreaRight" fmla="*/ 100440 w 100080"/>
                      <a:gd name="textAreaTop" fmla="*/ 0 h 84240"/>
                      <a:gd name="textAreaBottom" fmla="*/ 84240 h 84240"/>
                    </a:gdLst>
                    <a:ahLst/>
                    <a:rect l="textAreaLeft" t="textAreaTop" r="textAreaRight" b="textAreaBottom"/>
                    <a:pathLst>
                      <a:path w="63" h="53">
                        <a:moveTo>
                          <a:pt x="4" y="20"/>
                        </a:moveTo>
                        <a:lnTo>
                          <a:pt x="30" y="10"/>
                        </a:lnTo>
                        <a:lnTo>
                          <a:pt x="51" y="0"/>
                        </a:lnTo>
                        <a:lnTo>
                          <a:pt x="63" y="2"/>
                        </a:lnTo>
                        <a:lnTo>
                          <a:pt x="62" y="22"/>
                        </a:lnTo>
                        <a:lnTo>
                          <a:pt x="55" y="34"/>
                        </a:lnTo>
                        <a:lnTo>
                          <a:pt x="48" y="47"/>
                        </a:lnTo>
                        <a:lnTo>
                          <a:pt x="29" y="53"/>
                        </a:lnTo>
                        <a:lnTo>
                          <a:pt x="0" y="39"/>
                        </a:lnTo>
                        <a:lnTo>
                          <a:pt x="4" y="2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59"/>
                  <p:cNvSpPr/>
                  <p:nvPr/>
                </p:nvSpPr>
                <p:spPr>
                  <a:xfrm>
                    <a:off x="655560" y="5818320"/>
                    <a:ext cx="30240" cy="20628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06280"/>
                      <a:gd name="textAreaBottom" fmla="*/ 206640 h 206280"/>
                    </a:gdLst>
                    <a:ahLst/>
                    <a:rect l="textAreaLeft" t="textAreaTop" r="textAreaRight" b="textAreaBottom"/>
                    <a:pathLst>
                      <a:path w="19" h="130">
                        <a:moveTo>
                          <a:pt x="19" y="0"/>
                        </a:moveTo>
                        <a:lnTo>
                          <a:pt x="19" y="124"/>
                        </a:lnTo>
                        <a:lnTo>
                          <a:pt x="0" y="130"/>
                        </a:lnTo>
                        <a:lnTo>
                          <a:pt x="0" y="6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6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60"/>
                  <p:cNvSpPr/>
                  <p:nvPr/>
                </p:nvSpPr>
                <p:spPr>
                  <a:xfrm>
                    <a:off x="609480" y="5805360"/>
                    <a:ext cx="46080" cy="2192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19240"/>
                      <a:gd name="textAreaBottom" fmla="*/ 219600 h 219240"/>
                    </a:gdLst>
                    <a:ahLst/>
                    <a:rect l="textAreaLeft" t="textAreaTop" r="textAreaRight" b="textAreaBottom"/>
                    <a:pathLst>
                      <a:path w="29" h="138">
                        <a:moveTo>
                          <a:pt x="29" y="14"/>
                        </a:moveTo>
                        <a:lnTo>
                          <a:pt x="29" y="138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lnTo>
                          <a:pt x="29" y="14"/>
                        </a:lnTo>
                        <a:close/>
                      </a:path>
                    </a:pathLst>
                  </a:custGeom>
                  <a:solidFill>
                    <a:srgbClr val="2b00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Rectangle 162"/>
                <p:cNvSpPr/>
                <p:nvPr/>
              </p:nvSpPr>
              <p:spPr>
                <a:xfrm>
                  <a:off x="1539360" y="6224760"/>
                  <a:ext cx="1789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HI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66"/>
              <p:cNvGrpSpPr/>
              <p:nvPr/>
            </p:nvGrpSpPr>
            <p:grpSpPr>
              <a:xfrm>
                <a:off x="4648320" y="2011320"/>
                <a:ext cx="1676160" cy="577800"/>
                <a:chOff x="4648320" y="2011320"/>
                <a:chExt cx="1676160" cy="577800"/>
              </a:xfrm>
            </p:grpSpPr>
            <p:sp>
              <p:nvSpPr>
                <p:cNvPr id="190" name="Rectangle 164"/>
                <p:cNvSpPr/>
                <p:nvPr/>
              </p:nvSpPr>
              <p:spPr>
                <a:xfrm>
                  <a:off x="4648320" y="2011320"/>
                  <a:ext cx="1676160" cy="5778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65"/>
                <p:cNvSpPr/>
                <p:nvPr/>
              </p:nvSpPr>
              <p:spPr>
                <a:xfrm>
                  <a:off x="4648320" y="2011320"/>
                  <a:ext cx="1676160" cy="57780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Rectangle 167"/>
              <p:cNvSpPr/>
              <p:nvPr/>
            </p:nvSpPr>
            <p:spPr>
              <a:xfrm>
                <a:off x="4780080" y="2087640"/>
                <a:ext cx="1302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AA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3" name="Rectangle 168"/>
              <p:cNvSpPr/>
              <p:nvPr/>
            </p:nvSpPr>
            <p:spPr>
              <a:xfrm>
                <a:off x="4907520" y="2222640"/>
                <a:ext cx="1046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ilver Spring, MD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4" name="Rectangle 169"/>
              <p:cNvSpPr/>
              <p:nvPr/>
            </p:nvSpPr>
            <p:spPr>
              <a:xfrm>
                <a:off x="5038200" y="2360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5" name="Rectangle 170"/>
              <p:cNvSpPr/>
              <p:nvPr/>
            </p:nvSpPr>
            <p:spPr>
              <a:xfrm>
                <a:off x="524808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6" name="Rectangle 171"/>
              <p:cNvSpPr/>
              <p:nvPr/>
            </p:nvSpPr>
            <p:spPr>
              <a:xfrm>
                <a:off x="5290560" y="23605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1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7" name="Rectangle 172"/>
              <p:cNvSpPr/>
              <p:nvPr/>
            </p:nvSpPr>
            <p:spPr>
              <a:xfrm>
                <a:off x="5501880" y="23605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8" name="Rectangle 173"/>
              <p:cNvSpPr/>
              <p:nvPr/>
            </p:nvSpPr>
            <p:spPr>
              <a:xfrm>
                <a:off x="5542920" y="23605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0954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99" name="Group 176"/>
              <p:cNvGrpSpPr/>
              <p:nvPr/>
            </p:nvGrpSpPr>
            <p:grpSpPr>
              <a:xfrm>
                <a:off x="5653080" y="4751280"/>
                <a:ext cx="684360" cy="641520"/>
                <a:chOff x="5653080" y="4751280"/>
                <a:chExt cx="684360" cy="641520"/>
              </a:xfrm>
            </p:grpSpPr>
            <p:sp>
              <p:nvSpPr>
                <p:cNvPr id="200" name="Freeform 174"/>
                <p:cNvSpPr/>
                <p:nvPr/>
              </p:nvSpPr>
              <p:spPr>
                <a:xfrm>
                  <a:off x="5653080" y="4751280"/>
                  <a:ext cx="684360" cy="64152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641520"/>
                    <a:gd name="textAreaBottom" fmla="*/ 641520 h 641520"/>
                  </a:gdLst>
                  <a:ahLst/>
                  <a:rect l="textAreaLeft" t="textAreaTop" r="textAreaRight" b="textAreaBottom"/>
                  <a:pathLst>
                    <a:path w="431" h="404">
                      <a:moveTo>
                        <a:pt x="427" y="360"/>
                      </a:moveTo>
                      <a:lnTo>
                        <a:pt x="373" y="360"/>
                      </a:lnTo>
                      <a:lnTo>
                        <a:pt x="368" y="400"/>
                      </a:lnTo>
                      <a:lnTo>
                        <a:pt x="350" y="380"/>
                      </a:lnTo>
                      <a:lnTo>
                        <a:pt x="126" y="404"/>
                      </a:lnTo>
                      <a:lnTo>
                        <a:pt x="117" y="384"/>
                      </a:lnTo>
                      <a:lnTo>
                        <a:pt x="94" y="304"/>
                      </a:lnTo>
                      <a:lnTo>
                        <a:pt x="108" y="258"/>
                      </a:lnTo>
                      <a:lnTo>
                        <a:pt x="0" y="30"/>
                      </a:lnTo>
                      <a:lnTo>
                        <a:pt x="121" y="14"/>
                      </a:lnTo>
                      <a:lnTo>
                        <a:pt x="220" y="0"/>
                      </a:lnTo>
                      <a:lnTo>
                        <a:pt x="189" y="34"/>
                      </a:lnTo>
                      <a:lnTo>
                        <a:pt x="346" y="154"/>
                      </a:lnTo>
                      <a:lnTo>
                        <a:pt x="431" y="251"/>
                      </a:lnTo>
                      <a:lnTo>
                        <a:pt x="413" y="328"/>
                      </a:lnTo>
                      <a:lnTo>
                        <a:pt x="418" y="336"/>
                      </a:lnTo>
                      <a:lnTo>
                        <a:pt x="422" y="348"/>
                      </a:lnTo>
                      <a:lnTo>
                        <a:pt x="427" y="36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75"/>
                <p:cNvSpPr/>
                <p:nvPr/>
              </p:nvSpPr>
              <p:spPr>
                <a:xfrm>
                  <a:off x="5653080" y="4751280"/>
                  <a:ext cx="684360" cy="64152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641520"/>
                    <a:gd name="textAreaBottom" fmla="*/ 641520 h 641520"/>
                  </a:gdLst>
                  <a:ahLst/>
                  <a:rect l="textAreaLeft" t="textAreaTop" r="textAreaRight" b="textAreaBottom"/>
                  <a:pathLst>
                    <a:path w="431" h="404">
                      <a:moveTo>
                        <a:pt x="427" y="360"/>
                      </a:moveTo>
                      <a:lnTo>
                        <a:pt x="373" y="360"/>
                      </a:lnTo>
                      <a:lnTo>
                        <a:pt x="368" y="400"/>
                      </a:lnTo>
                      <a:lnTo>
                        <a:pt x="350" y="380"/>
                      </a:lnTo>
                      <a:lnTo>
                        <a:pt x="126" y="404"/>
                      </a:lnTo>
                      <a:lnTo>
                        <a:pt x="117" y="384"/>
                      </a:lnTo>
                      <a:lnTo>
                        <a:pt x="94" y="304"/>
                      </a:lnTo>
                      <a:lnTo>
                        <a:pt x="108" y="258"/>
                      </a:lnTo>
                      <a:lnTo>
                        <a:pt x="0" y="30"/>
                      </a:lnTo>
                      <a:lnTo>
                        <a:pt x="121" y="14"/>
                      </a:lnTo>
                      <a:lnTo>
                        <a:pt x="220" y="0"/>
                      </a:lnTo>
                      <a:lnTo>
                        <a:pt x="189" y="34"/>
                      </a:lnTo>
                      <a:lnTo>
                        <a:pt x="346" y="154"/>
                      </a:lnTo>
                      <a:lnTo>
                        <a:pt x="431" y="251"/>
                      </a:lnTo>
                      <a:lnTo>
                        <a:pt x="413" y="328"/>
                      </a:lnTo>
                      <a:lnTo>
                        <a:pt x="418" y="336"/>
                      </a:lnTo>
                      <a:lnTo>
                        <a:pt x="422" y="348"/>
                      </a:lnTo>
                      <a:lnTo>
                        <a:pt x="427" y="36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179"/>
              <p:cNvGrpSpPr/>
              <p:nvPr/>
            </p:nvGrpSpPr>
            <p:grpSpPr>
              <a:xfrm>
                <a:off x="5486400" y="5354640"/>
                <a:ext cx="1139760" cy="851040"/>
                <a:chOff x="5486400" y="5354640"/>
                <a:chExt cx="1139760" cy="851040"/>
              </a:xfrm>
            </p:grpSpPr>
            <p:sp>
              <p:nvSpPr>
                <p:cNvPr id="203" name="Freeform 177"/>
                <p:cNvSpPr/>
                <p:nvPr/>
              </p:nvSpPr>
              <p:spPr>
                <a:xfrm>
                  <a:off x="5486400" y="5354640"/>
                  <a:ext cx="1139760" cy="851040"/>
                </a:xfrm>
                <a:custGeom>
                  <a:avLst/>
                  <a:gdLst>
                    <a:gd name="textAreaLeft" fmla="*/ 0 w 1139760"/>
                    <a:gd name="textAreaRight" fmla="*/ 1139760 w 1139760"/>
                    <a:gd name="textAreaTop" fmla="*/ 0 h 851040"/>
                    <a:gd name="textAreaBottom" fmla="*/ 851400 h 851040"/>
                  </a:gdLst>
                  <a:ahLst/>
                  <a:rect l="textAreaLeft" t="textAreaTop" r="textAreaRight" b="textAreaBottom"/>
                  <a:pathLst>
                    <a:path w="718" h="536">
                      <a:moveTo>
                        <a:pt x="530" y="0"/>
                      </a:moveTo>
                      <a:lnTo>
                        <a:pt x="498" y="0"/>
                      </a:lnTo>
                      <a:lnTo>
                        <a:pt x="476" y="69"/>
                      </a:lnTo>
                      <a:lnTo>
                        <a:pt x="440" y="24"/>
                      </a:lnTo>
                      <a:lnTo>
                        <a:pt x="211" y="48"/>
                      </a:lnTo>
                      <a:lnTo>
                        <a:pt x="202" y="28"/>
                      </a:lnTo>
                      <a:lnTo>
                        <a:pt x="0" y="52"/>
                      </a:lnTo>
                      <a:lnTo>
                        <a:pt x="13" y="85"/>
                      </a:lnTo>
                      <a:lnTo>
                        <a:pt x="27" y="97"/>
                      </a:lnTo>
                      <a:lnTo>
                        <a:pt x="54" y="88"/>
                      </a:lnTo>
                      <a:lnTo>
                        <a:pt x="58" y="97"/>
                      </a:lnTo>
                      <a:lnTo>
                        <a:pt x="107" y="81"/>
                      </a:lnTo>
                      <a:lnTo>
                        <a:pt x="170" y="97"/>
                      </a:lnTo>
                      <a:lnTo>
                        <a:pt x="215" y="133"/>
                      </a:lnTo>
                      <a:lnTo>
                        <a:pt x="301" y="117"/>
                      </a:lnTo>
                      <a:lnTo>
                        <a:pt x="301" y="97"/>
                      </a:lnTo>
                      <a:lnTo>
                        <a:pt x="327" y="88"/>
                      </a:lnTo>
                      <a:lnTo>
                        <a:pt x="435" y="169"/>
                      </a:lnTo>
                      <a:lnTo>
                        <a:pt x="476" y="290"/>
                      </a:lnTo>
                      <a:lnTo>
                        <a:pt x="534" y="354"/>
                      </a:lnTo>
                      <a:lnTo>
                        <a:pt x="673" y="471"/>
                      </a:lnTo>
                      <a:lnTo>
                        <a:pt x="709" y="454"/>
                      </a:lnTo>
                      <a:lnTo>
                        <a:pt x="709" y="487"/>
                      </a:lnTo>
                      <a:lnTo>
                        <a:pt x="651" y="536"/>
                      </a:lnTo>
                      <a:lnTo>
                        <a:pt x="709" y="499"/>
                      </a:lnTo>
                      <a:lnTo>
                        <a:pt x="718" y="451"/>
                      </a:lnTo>
                      <a:lnTo>
                        <a:pt x="714" y="309"/>
                      </a:lnTo>
                      <a:lnTo>
                        <a:pt x="646" y="208"/>
                      </a:lnTo>
                      <a:lnTo>
                        <a:pt x="637" y="201"/>
                      </a:lnTo>
                      <a:lnTo>
                        <a:pt x="637" y="177"/>
                      </a:lnTo>
                      <a:lnTo>
                        <a:pt x="547" y="73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78"/>
                <p:cNvSpPr/>
                <p:nvPr/>
              </p:nvSpPr>
              <p:spPr>
                <a:xfrm>
                  <a:off x="5486400" y="5354640"/>
                  <a:ext cx="1139760" cy="851040"/>
                </a:xfrm>
                <a:custGeom>
                  <a:avLst/>
                  <a:gdLst>
                    <a:gd name="textAreaLeft" fmla="*/ 0 w 1139760"/>
                    <a:gd name="textAreaRight" fmla="*/ 1139760 w 1139760"/>
                    <a:gd name="textAreaTop" fmla="*/ 0 h 851040"/>
                    <a:gd name="textAreaBottom" fmla="*/ 851400 h 851040"/>
                  </a:gdLst>
                  <a:ahLst/>
                  <a:rect l="textAreaLeft" t="textAreaTop" r="textAreaRight" b="textAreaBottom"/>
                  <a:pathLst>
                    <a:path w="718" h="536">
                      <a:moveTo>
                        <a:pt x="530" y="0"/>
                      </a:moveTo>
                      <a:lnTo>
                        <a:pt x="498" y="0"/>
                      </a:lnTo>
                      <a:lnTo>
                        <a:pt x="476" y="69"/>
                      </a:lnTo>
                      <a:lnTo>
                        <a:pt x="440" y="24"/>
                      </a:lnTo>
                      <a:lnTo>
                        <a:pt x="211" y="48"/>
                      </a:lnTo>
                      <a:lnTo>
                        <a:pt x="202" y="28"/>
                      </a:lnTo>
                      <a:lnTo>
                        <a:pt x="0" y="52"/>
                      </a:lnTo>
                      <a:lnTo>
                        <a:pt x="13" y="85"/>
                      </a:lnTo>
                      <a:lnTo>
                        <a:pt x="27" y="97"/>
                      </a:lnTo>
                      <a:lnTo>
                        <a:pt x="54" y="88"/>
                      </a:lnTo>
                      <a:lnTo>
                        <a:pt x="58" y="97"/>
                      </a:lnTo>
                      <a:lnTo>
                        <a:pt x="107" y="81"/>
                      </a:lnTo>
                      <a:lnTo>
                        <a:pt x="170" y="97"/>
                      </a:lnTo>
                      <a:lnTo>
                        <a:pt x="215" y="133"/>
                      </a:lnTo>
                      <a:lnTo>
                        <a:pt x="301" y="117"/>
                      </a:lnTo>
                      <a:lnTo>
                        <a:pt x="301" y="97"/>
                      </a:lnTo>
                      <a:lnTo>
                        <a:pt x="327" y="88"/>
                      </a:lnTo>
                      <a:lnTo>
                        <a:pt x="435" y="169"/>
                      </a:lnTo>
                      <a:lnTo>
                        <a:pt x="476" y="290"/>
                      </a:lnTo>
                      <a:lnTo>
                        <a:pt x="534" y="354"/>
                      </a:lnTo>
                      <a:lnTo>
                        <a:pt x="673" y="471"/>
                      </a:lnTo>
                      <a:lnTo>
                        <a:pt x="709" y="454"/>
                      </a:lnTo>
                      <a:lnTo>
                        <a:pt x="709" y="487"/>
                      </a:lnTo>
                      <a:lnTo>
                        <a:pt x="651" y="536"/>
                      </a:lnTo>
                      <a:lnTo>
                        <a:pt x="709" y="499"/>
                      </a:lnTo>
                      <a:lnTo>
                        <a:pt x="718" y="451"/>
                      </a:lnTo>
                      <a:lnTo>
                        <a:pt x="714" y="309"/>
                      </a:lnTo>
                      <a:lnTo>
                        <a:pt x="646" y="208"/>
                      </a:lnTo>
                      <a:lnTo>
                        <a:pt x="637" y="201"/>
                      </a:lnTo>
                      <a:lnTo>
                        <a:pt x="637" y="177"/>
                      </a:lnTo>
                      <a:lnTo>
                        <a:pt x="547" y="73"/>
                      </a:lnTo>
                      <a:lnTo>
                        <a:pt x="530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182"/>
              <p:cNvGrpSpPr/>
              <p:nvPr/>
            </p:nvGrpSpPr>
            <p:grpSpPr>
              <a:xfrm>
                <a:off x="5254560" y="3718080"/>
                <a:ext cx="392040" cy="614160"/>
                <a:chOff x="5254560" y="3718080"/>
                <a:chExt cx="392040" cy="614160"/>
              </a:xfrm>
            </p:grpSpPr>
            <p:sp>
              <p:nvSpPr>
                <p:cNvPr id="206" name="Freeform 180"/>
                <p:cNvSpPr/>
                <p:nvPr/>
              </p:nvSpPr>
              <p:spPr>
                <a:xfrm>
                  <a:off x="5254560" y="3718080"/>
                  <a:ext cx="392040" cy="61416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614160"/>
                    <a:gd name="textAreaBottom" fmla="*/ 614520 h 614160"/>
                  </a:gdLst>
                  <a:ahLst/>
                  <a:rect l="textAreaLeft" t="textAreaTop" r="textAreaRight" b="textAreaBottom"/>
                  <a:pathLst>
                    <a:path w="247" h="387">
                      <a:moveTo>
                        <a:pt x="49" y="15"/>
                      </a:moveTo>
                      <a:lnTo>
                        <a:pt x="36" y="36"/>
                      </a:lnTo>
                      <a:lnTo>
                        <a:pt x="0" y="27"/>
                      </a:lnTo>
                      <a:lnTo>
                        <a:pt x="44" y="249"/>
                      </a:lnTo>
                      <a:lnTo>
                        <a:pt x="36" y="266"/>
                      </a:lnTo>
                      <a:lnTo>
                        <a:pt x="58" y="282"/>
                      </a:lnTo>
                      <a:lnTo>
                        <a:pt x="44" y="387"/>
                      </a:lnTo>
                      <a:lnTo>
                        <a:pt x="139" y="378"/>
                      </a:lnTo>
                      <a:lnTo>
                        <a:pt x="179" y="318"/>
                      </a:lnTo>
                      <a:lnTo>
                        <a:pt x="193" y="338"/>
                      </a:lnTo>
                      <a:lnTo>
                        <a:pt x="247" y="270"/>
                      </a:lnTo>
                      <a:lnTo>
                        <a:pt x="247" y="225"/>
                      </a:lnTo>
                      <a:lnTo>
                        <a:pt x="206" y="0"/>
                      </a:lnTo>
                      <a:lnTo>
                        <a:pt x="49" y="1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81"/>
                <p:cNvSpPr/>
                <p:nvPr/>
              </p:nvSpPr>
              <p:spPr>
                <a:xfrm>
                  <a:off x="5254560" y="3718080"/>
                  <a:ext cx="392040" cy="61416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614160"/>
                    <a:gd name="textAreaBottom" fmla="*/ 614520 h 614160"/>
                  </a:gdLst>
                  <a:ahLst/>
                  <a:rect l="textAreaLeft" t="textAreaTop" r="textAreaRight" b="textAreaBottom"/>
                  <a:pathLst>
                    <a:path w="247" h="387">
                      <a:moveTo>
                        <a:pt x="49" y="15"/>
                      </a:moveTo>
                      <a:lnTo>
                        <a:pt x="36" y="36"/>
                      </a:lnTo>
                      <a:lnTo>
                        <a:pt x="0" y="27"/>
                      </a:lnTo>
                      <a:lnTo>
                        <a:pt x="44" y="249"/>
                      </a:lnTo>
                      <a:lnTo>
                        <a:pt x="36" y="266"/>
                      </a:lnTo>
                      <a:lnTo>
                        <a:pt x="58" y="282"/>
                      </a:lnTo>
                      <a:lnTo>
                        <a:pt x="44" y="387"/>
                      </a:lnTo>
                      <a:lnTo>
                        <a:pt x="139" y="378"/>
                      </a:lnTo>
                      <a:lnTo>
                        <a:pt x="179" y="318"/>
                      </a:lnTo>
                      <a:lnTo>
                        <a:pt x="193" y="338"/>
                      </a:lnTo>
                      <a:lnTo>
                        <a:pt x="247" y="270"/>
                      </a:lnTo>
                      <a:lnTo>
                        <a:pt x="247" y="225"/>
                      </a:lnTo>
                      <a:lnTo>
                        <a:pt x="206" y="0"/>
                      </a:lnTo>
                      <a:lnTo>
                        <a:pt x="49" y="1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185"/>
              <p:cNvGrpSpPr/>
              <p:nvPr/>
            </p:nvGrpSpPr>
            <p:grpSpPr>
              <a:xfrm>
                <a:off x="5160960" y="4102200"/>
                <a:ext cx="912960" cy="466560"/>
                <a:chOff x="5160960" y="4102200"/>
                <a:chExt cx="912960" cy="466560"/>
              </a:xfrm>
            </p:grpSpPr>
            <p:sp>
              <p:nvSpPr>
                <p:cNvPr id="209" name="Freeform 183"/>
                <p:cNvSpPr/>
                <p:nvPr/>
              </p:nvSpPr>
              <p:spPr>
                <a:xfrm>
                  <a:off x="5160960" y="4102200"/>
                  <a:ext cx="912960" cy="46656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466560"/>
                    <a:gd name="textAreaBottom" fmla="*/ 466920 h 466560"/>
                  </a:gdLst>
                  <a:ahLst/>
                  <a:rect l="textAreaLeft" t="textAreaTop" r="textAreaRight" b="textAreaBottom"/>
                  <a:pathLst>
                    <a:path w="575" h="294">
                      <a:moveTo>
                        <a:pt x="332" y="31"/>
                      </a:moveTo>
                      <a:lnTo>
                        <a:pt x="346" y="16"/>
                      </a:lnTo>
                      <a:lnTo>
                        <a:pt x="350" y="7"/>
                      </a:lnTo>
                      <a:lnTo>
                        <a:pt x="359" y="0"/>
                      </a:lnTo>
                      <a:lnTo>
                        <a:pt x="373" y="7"/>
                      </a:lnTo>
                      <a:lnTo>
                        <a:pt x="485" y="36"/>
                      </a:lnTo>
                      <a:lnTo>
                        <a:pt x="521" y="67"/>
                      </a:lnTo>
                      <a:lnTo>
                        <a:pt x="575" y="133"/>
                      </a:lnTo>
                      <a:lnTo>
                        <a:pt x="476" y="217"/>
                      </a:lnTo>
                      <a:lnTo>
                        <a:pt x="0" y="294"/>
                      </a:lnTo>
                      <a:lnTo>
                        <a:pt x="41" y="220"/>
                      </a:lnTo>
                      <a:lnTo>
                        <a:pt x="86" y="241"/>
                      </a:lnTo>
                      <a:lnTo>
                        <a:pt x="99" y="169"/>
                      </a:lnTo>
                      <a:lnTo>
                        <a:pt x="216" y="157"/>
                      </a:lnTo>
                      <a:lnTo>
                        <a:pt x="238" y="115"/>
                      </a:lnTo>
                      <a:lnTo>
                        <a:pt x="252" y="141"/>
                      </a:lnTo>
                      <a:lnTo>
                        <a:pt x="332" y="31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84"/>
                <p:cNvSpPr/>
                <p:nvPr/>
              </p:nvSpPr>
              <p:spPr>
                <a:xfrm>
                  <a:off x="5160960" y="4102200"/>
                  <a:ext cx="912960" cy="46656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466560"/>
                    <a:gd name="textAreaBottom" fmla="*/ 466920 h 466560"/>
                  </a:gdLst>
                  <a:ahLst/>
                  <a:rect l="textAreaLeft" t="textAreaTop" r="textAreaRight" b="textAreaBottom"/>
                  <a:pathLst>
                    <a:path w="575" h="294">
                      <a:moveTo>
                        <a:pt x="332" y="31"/>
                      </a:moveTo>
                      <a:lnTo>
                        <a:pt x="346" y="16"/>
                      </a:lnTo>
                      <a:lnTo>
                        <a:pt x="350" y="7"/>
                      </a:lnTo>
                      <a:lnTo>
                        <a:pt x="359" y="0"/>
                      </a:lnTo>
                      <a:lnTo>
                        <a:pt x="373" y="7"/>
                      </a:lnTo>
                      <a:lnTo>
                        <a:pt x="485" y="36"/>
                      </a:lnTo>
                      <a:lnTo>
                        <a:pt x="521" y="67"/>
                      </a:lnTo>
                      <a:lnTo>
                        <a:pt x="575" y="133"/>
                      </a:lnTo>
                      <a:lnTo>
                        <a:pt x="476" y="217"/>
                      </a:lnTo>
                      <a:lnTo>
                        <a:pt x="0" y="294"/>
                      </a:lnTo>
                      <a:lnTo>
                        <a:pt x="41" y="220"/>
                      </a:lnTo>
                      <a:lnTo>
                        <a:pt x="86" y="241"/>
                      </a:lnTo>
                      <a:lnTo>
                        <a:pt x="99" y="169"/>
                      </a:lnTo>
                      <a:lnTo>
                        <a:pt x="216" y="157"/>
                      </a:lnTo>
                      <a:lnTo>
                        <a:pt x="238" y="115"/>
                      </a:lnTo>
                      <a:lnTo>
                        <a:pt x="252" y="141"/>
                      </a:lnTo>
                      <a:lnTo>
                        <a:pt x="332" y="3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188"/>
              <p:cNvGrpSpPr/>
              <p:nvPr/>
            </p:nvGrpSpPr>
            <p:grpSpPr>
              <a:xfrm>
                <a:off x="5018040" y="4451400"/>
                <a:ext cx="1076400" cy="385560"/>
                <a:chOff x="5018040" y="4451400"/>
                <a:chExt cx="1076400" cy="385560"/>
              </a:xfrm>
            </p:grpSpPr>
            <p:sp>
              <p:nvSpPr>
                <p:cNvPr id="212" name="Freeform 186"/>
                <p:cNvSpPr/>
                <p:nvPr/>
              </p:nvSpPr>
              <p:spPr>
                <a:xfrm>
                  <a:off x="5018040" y="4451400"/>
                  <a:ext cx="1076400" cy="38556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678" h="243">
                      <a:moveTo>
                        <a:pt x="396" y="194"/>
                      </a:moveTo>
                      <a:lnTo>
                        <a:pt x="521" y="182"/>
                      </a:lnTo>
                      <a:lnTo>
                        <a:pt x="530" y="153"/>
                      </a:lnTo>
                      <a:lnTo>
                        <a:pt x="544" y="126"/>
                      </a:lnTo>
                      <a:lnTo>
                        <a:pt x="669" y="24"/>
                      </a:lnTo>
                      <a:lnTo>
                        <a:pt x="678" y="0"/>
                      </a:lnTo>
                      <a:lnTo>
                        <a:pt x="77" y="93"/>
                      </a:lnTo>
                      <a:lnTo>
                        <a:pt x="45" y="150"/>
                      </a:lnTo>
                      <a:lnTo>
                        <a:pt x="0" y="243"/>
                      </a:lnTo>
                      <a:lnTo>
                        <a:pt x="180" y="222"/>
                      </a:lnTo>
                      <a:lnTo>
                        <a:pt x="396" y="19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87"/>
                <p:cNvSpPr/>
                <p:nvPr/>
              </p:nvSpPr>
              <p:spPr>
                <a:xfrm>
                  <a:off x="5018040" y="4451400"/>
                  <a:ext cx="1076400" cy="38556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678" h="243">
                      <a:moveTo>
                        <a:pt x="396" y="194"/>
                      </a:moveTo>
                      <a:lnTo>
                        <a:pt x="521" y="182"/>
                      </a:lnTo>
                      <a:lnTo>
                        <a:pt x="530" y="153"/>
                      </a:lnTo>
                      <a:lnTo>
                        <a:pt x="544" y="126"/>
                      </a:lnTo>
                      <a:lnTo>
                        <a:pt x="669" y="24"/>
                      </a:lnTo>
                      <a:lnTo>
                        <a:pt x="678" y="0"/>
                      </a:lnTo>
                      <a:lnTo>
                        <a:pt x="77" y="93"/>
                      </a:lnTo>
                      <a:lnTo>
                        <a:pt x="45" y="150"/>
                      </a:lnTo>
                      <a:lnTo>
                        <a:pt x="0" y="243"/>
                      </a:lnTo>
                      <a:lnTo>
                        <a:pt x="180" y="222"/>
                      </a:lnTo>
                      <a:lnTo>
                        <a:pt x="396" y="19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191"/>
              <p:cNvGrpSpPr/>
              <p:nvPr/>
            </p:nvGrpSpPr>
            <p:grpSpPr>
              <a:xfrm>
                <a:off x="5268960" y="4803840"/>
                <a:ext cx="527040" cy="709560"/>
                <a:chOff x="5268960" y="4803840"/>
                <a:chExt cx="527040" cy="709560"/>
              </a:xfrm>
            </p:grpSpPr>
            <p:sp>
              <p:nvSpPr>
                <p:cNvPr id="215" name="Freeform 189"/>
                <p:cNvSpPr/>
                <p:nvPr/>
              </p:nvSpPr>
              <p:spPr>
                <a:xfrm>
                  <a:off x="5268960" y="4803840"/>
                  <a:ext cx="527040" cy="70956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332" h="447">
                      <a:moveTo>
                        <a:pt x="215" y="0"/>
                      </a:moveTo>
                      <a:lnTo>
                        <a:pt x="327" y="230"/>
                      </a:lnTo>
                      <a:lnTo>
                        <a:pt x="309" y="275"/>
                      </a:lnTo>
                      <a:lnTo>
                        <a:pt x="332" y="354"/>
                      </a:lnTo>
                      <a:lnTo>
                        <a:pt x="103" y="383"/>
                      </a:lnTo>
                      <a:lnTo>
                        <a:pt x="121" y="428"/>
                      </a:lnTo>
                      <a:lnTo>
                        <a:pt x="130" y="444"/>
                      </a:lnTo>
                      <a:lnTo>
                        <a:pt x="94" y="447"/>
                      </a:lnTo>
                      <a:lnTo>
                        <a:pt x="58" y="440"/>
                      </a:lnTo>
                      <a:lnTo>
                        <a:pt x="0" y="29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90"/>
                <p:cNvSpPr/>
                <p:nvPr/>
              </p:nvSpPr>
              <p:spPr>
                <a:xfrm>
                  <a:off x="5268960" y="4803840"/>
                  <a:ext cx="527040" cy="709560"/>
                </a:xfrm>
                <a:custGeom>
                  <a:avLst/>
                  <a:gdLst>
                    <a:gd name="textAreaLeft" fmla="*/ 0 w 527040"/>
                    <a:gd name="textAreaRight" fmla="*/ 527400 w 52704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332" h="447">
                      <a:moveTo>
                        <a:pt x="215" y="0"/>
                      </a:moveTo>
                      <a:lnTo>
                        <a:pt x="327" y="230"/>
                      </a:lnTo>
                      <a:lnTo>
                        <a:pt x="309" y="275"/>
                      </a:lnTo>
                      <a:lnTo>
                        <a:pt x="332" y="354"/>
                      </a:lnTo>
                      <a:lnTo>
                        <a:pt x="103" y="383"/>
                      </a:lnTo>
                      <a:lnTo>
                        <a:pt x="121" y="428"/>
                      </a:lnTo>
                      <a:lnTo>
                        <a:pt x="130" y="444"/>
                      </a:lnTo>
                      <a:lnTo>
                        <a:pt x="94" y="447"/>
                      </a:lnTo>
                      <a:lnTo>
                        <a:pt x="58" y="440"/>
                      </a:lnTo>
                      <a:lnTo>
                        <a:pt x="0" y="29"/>
                      </a:lnTo>
                      <a:lnTo>
                        <a:pt x="215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194"/>
              <p:cNvGrpSpPr/>
              <p:nvPr/>
            </p:nvGrpSpPr>
            <p:grpSpPr>
              <a:xfrm>
                <a:off x="4854600" y="4849920"/>
                <a:ext cx="469800" cy="709560"/>
                <a:chOff x="4854600" y="4849920"/>
                <a:chExt cx="469800" cy="709560"/>
              </a:xfrm>
            </p:grpSpPr>
            <p:sp>
              <p:nvSpPr>
                <p:cNvPr id="218" name="Freeform 192"/>
                <p:cNvSpPr/>
                <p:nvPr/>
              </p:nvSpPr>
              <p:spPr>
                <a:xfrm>
                  <a:off x="4854600" y="4849920"/>
                  <a:ext cx="469800" cy="7095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96" h="447">
                      <a:moveTo>
                        <a:pt x="234" y="0"/>
                      </a:moveTo>
                      <a:lnTo>
                        <a:pt x="296" y="411"/>
                      </a:lnTo>
                      <a:lnTo>
                        <a:pt x="202" y="415"/>
                      </a:lnTo>
                      <a:lnTo>
                        <a:pt x="193" y="447"/>
                      </a:lnTo>
                      <a:lnTo>
                        <a:pt x="153" y="394"/>
                      </a:lnTo>
                      <a:lnTo>
                        <a:pt x="153" y="366"/>
                      </a:lnTo>
                      <a:lnTo>
                        <a:pt x="0" y="378"/>
                      </a:lnTo>
                      <a:lnTo>
                        <a:pt x="36" y="274"/>
                      </a:lnTo>
                      <a:lnTo>
                        <a:pt x="14" y="165"/>
                      </a:lnTo>
                      <a:lnTo>
                        <a:pt x="90" y="12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93"/>
                <p:cNvSpPr/>
                <p:nvPr/>
              </p:nvSpPr>
              <p:spPr>
                <a:xfrm>
                  <a:off x="4854600" y="4849920"/>
                  <a:ext cx="469800" cy="7095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709560"/>
                    <a:gd name="textAreaBottom" fmla="*/ 709920 h 709560"/>
                  </a:gdLst>
                  <a:ahLst/>
                  <a:rect l="textAreaLeft" t="textAreaTop" r="textAreaRight" b="textAreaBottom"/>
                  <a:pathLst>
                    <a:path w="296" h="447">
                      <a:moveTo>
                        <a:pt x="234" y="0"/>
                      </a:moveTo>
                      <a:lnTo>
                        <a:pt x="296" y="411"/>
                      </a:lnTo>
                      <a:lnTo>
                        <a:pt x="202" y="415"/>
                      </a:lnTo>
                      <a:lnTo>
                        <a:pt x="193" y="447"/>
                      </a:lnTo>
                      <a:lnTo>
                        <a:pt x="153" y="394"/>
                      </a:lnTo>
                      <a:lnTo>
                        <a:pt x="153" y="366"/>
                      </a:lnTo>
                      <a:lnTo>
                        <a:pt x="0" y="378"/>
                      </a:lnTo>
                      <a:lnTo>
                        <a:pt x="36" y="274"/>
                      </a:lnTo>
                      <a:lnTo>
                        <a:pt x="14" y="165"/>
                      </a:lnTo>
                      <a:lnTo>
                        <a:pt x="90" y="12"/>
                      </a:lnTo>
                      <a:lnTo>
                        <a:pt x="234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Group 197"/>
              <p:cNvGrpSpPr/>
              <p:nvPr/>
            </p:nvGrpSpPr>
            <p:grpSpPr>
              <a:xfrm>
                <a:off x="4848120" y="2879640"/>
                <a:ext cx="712800" cy="365040"/>
                <a:chOff x="4848120" y="2879640"/>
                <a:chExt cx="712800" cy="365040"/>
              </a:xfrm>
            </p:grpSpPr>
            <p:sp>
              <p:nvSpPr>
                <p:cNvPr id="221" name="Freeform 195"/>
                <p:cNvSpPr/>
                <p:nvPr/>
              </p:nvSpPr>
              <p:spPr>
                <a:xfrm>
                  <a:off x="4848120" y="2879640"/>
                  <a:ext cx="712800" cy="3650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449" h="230">
                      <a:moveTo>
                        <a:pt x="184" y="230"/>
                      </a:moveTo>
                      <a:lnTo>
                        <a:pt x="157" y="144"/>
                      </a:lnTo>
                      <a:lnTo>
                        <a:pt x="112" y="144"/>
                      </a:lnTo>
                      <a:lnTo>
                        <a:pt x="0" y="125"/>
                      </a:lnTo>
                      <a:lnTo>
                        <a:pt x="0" y="108"/>
                      </a:lnTo>
                      <a:lnTo>
                        <a:pt x="4" y="101"/>
                      </a:lnTo>
                      <a:lnTo>
                        <a:pt x="143" y="0"/>
                      </a:lnTo>
                      <a:lnTo>
                        <a:pt x="166" y="8"/>
                      </a:lnTo>
                      <a:lnTo>
                        <a:pt x="143" y="48"/>
                      </a:lnTo>
                      <a:lnTo>
                        <a:pt x="139" y="60"/>
                      </a:lnTo>
                      <a:lnTo>
                        <a:pt x="143" y="57"/>
                      </a:lnTo>
                      <a:lnTo>
                        <a:pt x="157" y="57"/>
                      </a:lnTo>
                      <a:lnTo>
                        <a:pt x="197" y="89"/>
                      </a:lnTo>
                      <a:lnTo>
                        <a:pt x="202" y="77"/>
                      </a:lnTo>
                      <a:lnTo>
                        <a:pt x="242" y="77"/>
                      </a:lnTo>
                      <a:lnTo>
                        <a:pt x="247" y="69"/>
                      </a:lnTo>
                      <a:lnTo>
                        <a:pt x="265" y="65"/>
                      </a:lnTo>
                      <a:lnTo>
                        <a:pt x="332" y="41"/>
                      </a:lnTo>
                      <a:lnTo>
                        <a:pt x="359" y="60"/>
                      </a:lnTo>
                      <a:lnTo>
                        <a:pt x="417" y="57"/>
                      </a:lnTo>
                      <a:lnTo>
                        <a:pt x="431" y="69"/>
                      </a:lnTo>
                      <a:lnTo>
                        <a:pt x="449" y="96"/>
                      </a:lnTo>
                      <a:lnTo>
                        <a:pt x="224" y="137"/>
                      </a:lnTo>
                      <a:lnTo>
                        <a:pt x="184" y="23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96"/>
                <p:cNvSpPr/>
                <p:nvPr/>
              </p:nvSpPr>
              <p:spPr>
                <a:xfrm>
                  <a:off x="4848120" y="2879640"/>
                  <a:ext cx="712800" cy="3650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449" h="230">
                      <a:moveTo>
                        <a:pt x="184" y="230"/>
                      </a:moveTo>
                      <a:lnTo>
                        <a:pt x="157" y="144"/>
                      </a:lnTo>
                      <a:lnTo>
                        <a:pt x="112" y="144"/>
                      </a:lnTo>
                      <a:lnTo>
                        <a:pt x="0" y="125"/>
                      </a:lnTo>
                      <a:lnTo>
                        <a:pt x="0" y="108"/>
                      </a:lnTo>
                      <a:lnTo>
                        <a:pt x="4" y="101"/>
                      </a:lnTo>
                      <a:lnTo>
                        <a:pt x="143" y="0"/>
                      </a:lnTo>
                      <a:lnTo>
                        <a:pt x="166" y="8"/>
                      </a:lnTo>
                      <a:lnTo>
                        <a:pt x="143" y="48"/>
                      </a:lnTo>
                      <a:lnTo>
                        <a:pt x="139" y="60"/>
                      </a:lnTo>
                      <a:lnTo>
                        <a:pt x="143" y="57"/>
                      </a:lnTo>
                      <a:lnTo>
                        <a:pt x="157" y="57"/>
                      </a:lnTo>
                      <a:lnTo>
                        <a:pt x="197" y="89"/>
                      </a:lnTo>
                      <a:lnTo>
                        <a:pt x="202" y="77"/>
                      </a:lnTo>
                      <a:lnTo>
                        <a:pt x="242" y="77"/>
                      </a:lnTo>
                      <a:lnTo>
                        <a:pt x="247" y="69"/>
                      </a:lnTo>
                      <a:lnTo>
                        <a:pt x="265" y="65"/>
                      </a:lnTo>
                      <a:lnTo>
                        <a:pt x="332" y="41"/>
                      </a:lnTo>
                      <a:lnTo>
                        <a:pt x="359" y="60"/>
                      </a:lnTo>
                      <a:lnTo>
                        <a:pt x="417" y="57"/>
                      </a:lnTo>
                      <a:lnTo>
                        <a:pt x="431" y="69"/>
                      </a:lnTo>
                      <a:lnTo>
                        <a:pt x="449" y="96"/>
                      </a:lnTo>
                      <a:lnTo>
                        <a:pt x="224" y="137"/>
                      </a:lnTo>
                      <a:lnTo>
                        <a:pt x="184" y="23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200"/>
              <p:cNvGrpSpPr/>
              <p:nvPr/>
            </p:nvGrpSpPr>
            <p:grpSpPr>
              <a:xfrm>
                <a:off x="4527720" y="3032280"/>
                <a:ext cx="669600" cy="647640"/>
                <a:chOff x="4527720" y="3032280"/>
                <a:chExt cx="669600" cy="647640"/>
              </a:xfrm>
            </p:grpSpPr>
            <p:sp>
              <p:nvSpPr>
                <p:cNvPr id="224" name="Freeform 198"/>
                <p:cNvSpPr/>
                <p:nvPr/>
              </p:nvSpPr>
              <p:spPr>
                <a:xfrm>
                  <a:off x="4527720" y="3032280"/>
                  <a:ext cx="669600" cy="647640"/>
                </a:xfrm>
                <a:custGeom>
                  <a:avLst/>
                  <a:gdLst>
                    <a:gd name="textAreaLeft" fmla="*/ 0 w 669600"/>
                    <a:gd name="textAreaRight" fmla="*/ 669600 w 669600"/>
                    <a:gd name="textAreaTop" fmla="*/ 0 h 647640"/>
                    <a:gd name="textAreaBottom" fmla="*/ 648000 h 647640"/>
                  </a:gdLst>
                  <a:ahLst/>
                  <a:rect l="textAreaLeft" t="textAreaTop" r="textAreaRight" b="textAreaBottom"/>
                  <a:pathLst>
                    <a:path w="422" h="408">
                      <a:moveTo>
                        <a:pt x="40" y="24"/>
                      </a:moveTo>
                      <a:lnTo>
                        <a:pt x="40" y="81"/>
                      </a:lnTo>
                      <a:lnTo>
                        <a:pt x="0" y="129"/>
                      </a:lnTo>
                      <a:lnTo>
                        <a:pt x="9" y="213"/>
                      </a:lnTo>
                      <a:lnTo>
                        <a:pt x="125" y="279"/>
                      </a:lnTo>
                      <a:lnTo>
                        <a:pt x="130" y="299"/>
                      </a:lnTo>
                      <a:lnTo>
                        <a:pt x="152" y="380"/>
                      </a:lnTo>
                      <a:lnTo>
                        <a:pt x="179" y="408"/>
                      </a:lnTo>
                      <a:lnTo>
                        <a:pt x="399" y="380"/>
                      </a:lnTo>
                      <a:lnTo>
                        <a:pt x="377" y="315"/>
                      </a:lnTo>
                      <a:lnTo>
                        <a:pt x="422" y="122"/>
                      </a:lnTo>
                      <a:lnTo>
                        <a:pt x="372" y="194"/>
                      </a:lnTo>
                      <a:lnTo>
                        <a:pt x="363" y="177"/>
                      </a:lnTo>
                      <a:lnTo>
                        <a:pt x="368" y="158"/>
                      </a:lnTo>
                      <a:lnTo>
                        <a:pt x="336" y="72"/>
                      </a:lnTo>
                      <a:lnTo>
                        <a:pt x="309" y="72"/>
                      </a:lnTo>
                      <a:lnTo>
                        <a:pt x="184" y="48"/>
                      </a:lnTo>
                      <a:lnTo>
                        <a:pt x="179" y="41"/>
                      </a:lnTo>
                      <a:lnTo>
                        <a:pt x="179" y="33"/>
                      </a:lnTo>
                      <a:lnTo>
                        <a:pt x="130" y="24"/>
                      </a:lnTo>
                      <a:lnTo>
                        <a:pt x="125" y="0"/>
                      </a:lnTo>
                      <a:lnTo>
                        <a:pt x="54" y="21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99"/>
                <p:cNvSpPr/>
                <p:nvPr/>
              </p:nvSpPr>
              <p:spPr>
                <a:xfrm>
                  <a:off x="4527720" y="3032280"/>
                  <a:ext cx="669600" cy="647640"/>
                </a:xfrm>
                <a:custGeom>
                  <a:avLst/>
                  <a:gdLst>
                    <a:gd name="textAreaLeft" fmla="*/ 0 w 669600"/>
                    <a:gd name="textAreaRight" fmla="*/ 669600 w 669600"/>
                    <a:gd name="textAreaTop" fmla="*/ 0 h 647640"/>
                    <a:gd name="textAreaBottom" fmla="*/ 648000 h 647640"/>
                  </a:gdLst>
                  <a:ahLst/>
                  <a:rect l="textAreaLeft" t="textAreaTop" r="textAreaRight" b="textAreaBottom"/>
                  <a:pathLst>
                    <a:path w="422" h="408">
                      <a:moveTo>
                        <a:pt x="40" y="24"/>
                      </a:moveTo>
                      <a:lnTo>
                        <a:pt x="40" y="81"/>
                      </a:lnTo>
                      <a:lnTo>
                        <a:pt x="0" y="129"/>
                      </a:lnTo>
                      <a:lnTo>
                        <a:pt x="9" y="213"/>
                      </a:lnTo>
                      <a:lnTo>
                        <a:pt x="125" y="279"/>
                      </a:lnTo>
                      <a:lnTo>
                        <a:pt x="130" y="299"/>
                      </a:lnTo>
                      <a:lnTo>
                        <a:pt x="152" y="380"/>
                      </a:lnTo>
                      <a:lnTo>
                        <a:pt x="179" y="408"/>
                      </a:lnTo>
                      <a:lnTo>
                        <a:pt x="399" y="380"/>
                      </a:lnTo>
                      <a:lnTo>
                        <a:pt x="377" y="315"/>
                      </a:lnTo>
                      <a:lnTo>
                        <a:pt x="422" y="122"/>
                      </a:lnTo>
                      <a:lnTo>
                        <a:pt x="372" y="194"/>
                      </a:lnTo>
                      <a:lnTo>
                        <a:pt x="363" y="177"/>
                      </a:lnTo>
                      <a:lnTo>
                        <a:pt x="368" y="158"/>
                      </a:lnTo>
                      <a:lnTo>
                        <a:pt x="336" y="72"/>
                      </a:lnTo>
                      <a:lnTo>
                        <a:pt x="309" y="72"/>
                      </a:lnTo>
                      <a:lnTo>
                        <a:pt x="184" y="48"/>
                      </a:lnTo>
                      <a:lnTo>
                        <a:pt x="179" y="41"/>
                      </a:lnTo>
                      <a:lnTo>
                        <a:pt x="179" y="33"/>
                      </a:lnTo>
                      <a:lnTo>
                        <a:pt x="130" y="24"/>
                      </a:lnTo>
                      <a:lnTo>
                        <a:pt x="125" y="0"/>
                      </a:lnTo>
                      <a:lnTo>
                        <a:pt x="54" y="21"/>
                      </a:lnTo>
                      <a:lnTo>
                        <a:pt x="40" y="2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203"/>
              <p:cNvGrpSpPr/>
              <p:nvPr/>
            </p:nvGrpSpPr>
            <p:grpSpPr>
              <a:xfrm>
                <a:off x="4762440" y="3665520"/>
                <a:ext cx="541440" cy="819000"/>
                <a:chOff x="4762440" y="3665520"/>
                <a:chExt cx="541440" cy="819000"/>
              </a:xfrm>
            </p:grpSpPr>
            <p:sp>
              <p:nvSpPr>
                <p:cNvPr id="227" name="Freeform 201"/>
                <p:cNvSpPr/>
                <p:nvPr/>
              </p:nvSpPr>
              <p:spPr>
                <a:xfrm>
                  <a:off x="4762440" y="3665520"/>
                  <a:ext cx="541440" cy="819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819000"/>
                    <a:gd name="textAreaBottom" fmla="*/ 819360 h 819000"/>
                  </a:gdLst>
                  <a:ahLst/>
                  <a:rect l="textAreaLeft" t="textAreaTop" r="textAreaRight" b="textAreaBottom"/>
                  <a:pathLst>
                    <a:path w="341" h="516">
                      <a:moveTo>
                        <a:pt x="211" y="516"/>
                      </a:moveTo>
                      <a:lnTo>
                        <a:pt x="211" y="495"/>
                      </a:lnTo>
                      <a:lnTo>
                        <a:pt x="197" y="468"/>
                      </a:lnTo>
                      <a:lnTo>
                        <a:pt x="188" y="452"/>
                      </a:lnTo>
                      <a:lnTo>
                        <a:pt x="126" y="399"/>
                      </a:lnTo>
                      <a:lnTo>
                        <a:pt x="135" y="366"/>
                      </a:lnTo>
                      <a:lnTo>
                        <a:pt x="121" y="323"/>
                      </a:lnTo>
                      <a:lnTo>
                        <a:pt x="90" y="330"/>
                      </a:lnTo>
                      <a:lnTo>
                        <a:pt x="22" y="270"/>
                      </a:lnTo>
                      <a:lnTo>
                        <a:pt x="0" y="234"/>
                      </a:lnTo>
                      <a:lnTo>
                        <a:pt x="4" y="218"/>
                      </a:lnTo>
                      <a:lnTo>
                        <a:pt x="40" y="150"/>
                      </a:lnTo>
                      <a:lnTo>
                        <a:pt x="31" y="126"/>
                      </a:lnTo>
                      <a:lnTo>
                        <a:pt x="76" y="96"/>
                      </a:lnTo>
                      <a:lnTo>
                        <a:pt x="85" y="53"/>
                      </a:lnTo>
                      <a:lnTo>
                        <a:pt x="67" y="45"/>
                      </a:lnTo>
                      <a:lnTo>
                        <a:pt x="49" y="29"/>
                      </a:lnTo>
                      <a:lnTo>
                        <a:pt x="256" y="0"/>
                      </a:lnTo>
                      <a:lnTo>
                        <a:pt x="256" y="5"/>
                      </a:lnTo>
                      <a:lnTo>
                        <a:pt x="274" y="53"/>
                      </a:lnTo>
                      <a:lnTo>
                        <a:pt x="287" y="57"/>
                      </a:lnTo>
                      <a:lnTo>
                        <a:pt x="328" y="282"/>
                      </a:lnTo>
                      <a:lnTo>
                        <a:pt x="314" y="306"/>
                      </a:lnTo>
                      <a:lnTo>
                        <a:pt x="341" y="330"/>
                      </a:lnTo>
                      <a:lnTo>
                        <a:pt x="319" y="483"/>
                      </a:lnTo>
                      <a:lnTo>
                        <a:pt x="283" y="468"/>
                      </a:lnTo>
                      <a:lnTo>
                        <a:pt x="251" y="516"/>
                      </a:lnTo>
                      <a:lnTo>
                        <a:pt x="211" y="516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202"/>
                <p:cNvSpPr/>
                <p:nvPr/>
              </p:nvSpPr>
              <p:spPr>
                <a:xfrm>
                  <a:off x="4762440" y="3665520"/>
                  <a:ext cx="541440" cy="819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819000"/>
                    <a:gd name="textAreaBottom" fmla="*/ 819360 h 819000"/>
                  </a:gdLst>
                  <a:ahLst/>
                  <a:rect l="textAreaLeft" t="textAreaTop" r="textAreaRight" b="textAreaBottom"/>
                  <a:pathLst>
                    <a:path w="341" h="516">
                      <a:moveTo>
                        <a:pt x="211" y="516"/>
                      </a:moveTo>
                      <a:lnTo>
                        <a:pt x="211" y="495"/>
                      </a:lnTo>
                      <a:lnTo>
                        <a:pt x="197" y="468"/>
                      </a:lnTo>
                      <a:lnTo>
                        <a:pt x="188" y="452"/>
                      </a:lnTo>
                      <a:lnTo>
                        <a:pt x="126" y="399"/>
                      </a:lnTo>
                      <a:lnTo>
                        <a:pt x="135" y="366"/>
                      </a:lnTo>
                      <a:lnTo>
                        <a:pt x="121" y="323"/>
                      </a:lnTo>
                      <a:lnTo>
                        <a:pt x="90" y="330"/>
                      </a:lnTo>
                      <a:lnTo>
                        <a:pt x="22" y="270"/>
                      </a:lnTo>
                      <a:lnTo>
                        <a:pt x="0" y="234"/>
                      </a:lnTo>
                      <a:lnTo>
                        <a:pt x="4" y="218"/>
                      </a:lnTo>
                      <a:lnTo>
                        <a:pt x="40" y="150"/>
                      </a:lnTo>
                      <a:lnTo>
                        <a:pt x="31" y="126"/>
                      </a:lnTo>
                      <a:lnTo>
                        <a:pt x="76" y="96"/>
                      </a:lnTo>
                      <a:lnTo>
                        <a:pt x="85" y="53"/>
                      </a:lnTo>
                      <a:lnTo>
                        <a:pt x="67" y="45"/>
                      </a:lnTo>
                      <a:lnTo>
                        <a:pt x="49" y="29"/>
                      </a:lnTo>
                      <a:lnTo>
                        <a:pt x="256" y="0"/>
                      </a:lnTo>
                      <a:lnTo>
                        <a:pt x="256" y="5"/>
                      </a:lnTo>
                      <a:lnTo>
                        <a:pt x="274" y="53"/>
                      </a:lnTo>
                      <a:lnTo>
                        <a:pt x="287" y="57"/>
                      </a:lnTo>
                      <a:lnTo>
                        <a:pt x="328" y="282"/>
                      </a:lnTo>
                      <a:lnTo>
                        <a:pt x="314" y="306"/>
                      </a:lnTo>
                      <a:lnTo>
                        <a:pt x="341" y="330"/>
                      </a:lnTo>
                      <a:lnTo>
                        <a:pt x="319" y="483"/>
                      </a:lnTo>
                      <a:lnTo>
                        <a:pt x="283" y="468"/>
                      </a:lnTo>
                      <a:lnTo>
                        <a:pt x="251" y="516"/>
                      </a:lnTo>
                      <a:lnTo>
                        <a:pt x="211" y="516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206"/>
              <p:cNvGrpSpPr/>
              <p:nvPr/>
            </p:nvGrpSpPr>
            <p:grpSpPr>
              <a:xfrm>
                <a:off x="4476600" y="5207040"/>
                <a:ext cx="727200" cy="549360"/>
                <a:chOff x="4476600" y="5207040"/>
                <a:chExt cx="727200" cy="549360"/>
              </a:xfrm>
            </p:grpSpPr>
            <p:sp>
              <p:nvSpPr>
                <p:cNvPr id="230" name="Freeform 204"/>
                <p:cNvSpPr/>
                <p:nvPr/>
              </p:nvSpPr>
              <p:spPr>
                <a:xfrm>
                  <a:off x="4476600" y="5207040"/>
                  <a:ext cx="727200" cy="549360"/>
                </a:xfrm>
                <a:custGeom>
                  <a:avLst/>
                  <a:gdLst>
                    <a:gd name="textAreaLeft" fmla="*/ 0 w 727200"/>
                    <a:gd name="textAreaRight" fmla="*/ 727560 w 727200"/>
                    <a:gd name="textAreaTop" fmla="*/ 0 h 549360"/>
                    <a:gd name="textAreaBottom" fmla="*/ 549720 h 549360"/>
                  </a:gdLst>
                  <a:ahLst/>
                  <a:rect l="textAreaLeft" t="textAreaTop" r="textAreaRight" b="textAreaBottom"/>
                  <a:pathLst>
                    <a:path w="458" h="346">
                      <a:moveTo>
                        <a:pt x="0" y="12"/>
                      </a:moveTo>
                      <a:lnTo>
                        <a:pt x="238" y="0"/>
                      </a:lnTo>
                      <a:lnTo>
                        <a:pt x="252" y="49"/>
                      </a:lnTo>
                      <a:lnTo>
                        <a:pt x="207" y="181"/>
                      </a:lnTo>
                      <a:lnTo>
                        <a:pt x="368" y="166"/>
                      </a:lnTo>
                      <a:lnTo>
                        <a:pt x="368" y="178"/>
                      </a:lnTo>
                      <a:lnTo>
                        <a:pt x="422" y="250"/>
                      </a:lnTo>
                      <a:lnTo>
                        <a:pt x="445" y="241"/>
                      </a:lnTo>
                      <a:lnTo>
                        <a:pt x="409" y="286"/>
                      </a:lnTo>
                      <a:lnTo>
                        <a:pt x="458" y="327"/>
                      </a:lnTo>
                      <a:lnTo>
                        <a:pt x="440" y="346"/>
                      </a:lnTo>
                      <a:lnTo>
                        <a:pt x="373" y="301"/>
                      </a:lnTo>
                      <a:lnTo>
                        <a:pt x="368" y="334"/>
                      </a:lnTo>
                      <a:lnTo>
                        <a:pt x="328" y="331"/>
                      </a:lnTo>
                      <a:lnTo>
                        <a:pt x="323" y="346"/>
                      </a:lnTo>
                      <a:lnTo>
                        <a:pt x="193" y="294"/>
                      </a:lnTo>
                      <a:lnTo>
                        <a:pt x="198" y="301"/>
                      </a:lnTo>
                      <a:lnTo>
                        <a:pt x="144" y="319"/>
                      </a:lnTo>
                      <a:lnTo>
                        <a:pt x="144" y="307"/>
                      </a:lnTo>
                      <a:lnTo>
                        <a:pt x="36" y="301"/>
                      </a:lnTo>
                      <a:lnTo>
                        <a:pt x="27" y="241"/>
                      </a:lnTo>
                      <a:lnTo>
                        <a:pt x="50" y="226"/>
                      </a:lnTo>
                      <a:lnTo>
                        <a:pt x="41" y="121"/>
                      </a:lnTo>
                      <a:lnTo>
                        <a:pt x="14" y="10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205"/>
                <p:cNvSpPr/>
                <p:nvPr/>
              </p:nvSpPr>
              <p:spPr>
                <a:xfrm>
                  <a:off x="4476600" y="5207040"/>
                  <a:ext cx="727200" cy="549360"/>
                </a:xfrm>
                <a:custGeom>
                  <a:avLst/>
                  <a:gdLst>
                    <a:gd name="textAreaLeft" fmla="*/ 0 w 727200"/>
                    <a:gd name="textAreaRight" fmla="*/ 727560 w 727200"/>
                    <a:gd name="textAreaTop" fmla="*/ 0 h 549360"/>
                    <a:gd name="textAreaBottom" fmla="*/ 549720 h 549360"/>
                  </a:gdLst>
                  <a:ahLst/>
                  <a:rect l="textAreaLeft" t="textAreaTop" r="textAreaRight" b="textAreaBottom"/>
                  <a:pathLst>
                    <a:path w="458" h="346">
                      <a:moveTo>
                        <a:pt x="0" y="12"/>
                      </a:moveTo>
                      <a:lnTo>
                        <a:pt x="238" y="0"/>
                      </a:lnTo>
                      <a:lnTo>
                        <a:pt x="252" y="49"/>
                      </a:lnTo>
                      <a:lnTo>
                        <a:pt x="207" y="181"/>
                      </a:lnTo>
                      <a:lnTo>
                        <a:pt x="368" y="166"/>
                      </a:lnTo>
                      <a:lnTo>
                        <a:pt x="368" y="178"/>
                      </a:lnTo>
                      <a:lnTo>
                        <a:pt x="422" y="250"/>
                      </a:lnTo>
                      <a:lnTo>
                        <a:pt x="445" y="241"/>
                      </a:lnTo>
                      <a:lnTo>
                        <a:pt x="409" y="286"/>
                      </a:lnTo>
                      <a:lnTo>
                        <a:pt x="458" y="327"/>
                      </a:lnTo>
                      <a:lnTo>
                        <a:pt x="440" y="346"/>
                      </a:lnTo>
                      <a:lnTo>
                        <a:pt x="373" y="301"/>
                      </a:lnTo>
                      <a:lnTo>
                        <a:pt x="368" y="334"/>
                      </a:lnTo>
                      <a:lnTo>
                        <a:pt x="328" y="331"/>
                      </a:lnTo>
                      <a:lnTo>
                        <a:pt x="323" y="346"/>
                      </a:lnTo>
                      <a:lnTo>
                        <a:pt x="193" y="294"/>
                      </a:lnTo>
                      <a:lnTo>
                        <a:pt x="198" y="301"/>
                      </a:lnTo>
                      <a:lnTo>
                        <a:pt x="144" y="319"/>
                      </a:lnTo>
                      <a:lnTo>
                        <a:pt x="144" y="307"/>
                      </a:lnTo>
                      <a:lnTo>
                        <a:pt x="36" y="301"/>
                      </a:lnTo>
                      <a:lnTo>
                        <a:pt x="27" y="241"/>
                      </a:lnTo>
                      <a:lnTo>
                        <a:pt x="50" y="226"/>
                      </a:lnTo>
                      <a:lnTo>
                        <a:pt x="41" y="121"/>
                      </a:lnTo>
                      <a:lnTo>
                        <a:pt x="14" y="10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Group 209"/>
              <p:cNvGrpSpPr/>
              <p:nvPr/>
            </p:nvGrpSpPr>
            <p:grpSpPr>
              <a:xfrm>
                <a:off x="4235400" y="4011480"/>
                <a:ext cx="905040" cy="696960"/>
                <a:chOff x="4235400" y="4011480"/>
                <a:chExt cx="905040" cy="696960"/>
              </a:xfrm>
            </p:grpSpPr>
            <p:sp>
              <p:nvSpPr>
                <p:cNvPr id="233" name="Freeform 207"/>
                <p:cNvSpPr/>
                <p:nvPr/>
              </p:nvSpPr>
              <p:spPr>
                <a:xfrm>
                  <a:off x="4235400" y="4011480"/>
                  <a:ext cx="905040" cy="69696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570" h="439">
                      <a:moveTo>
                        <a:pt x="336" y="64"/>
                      </a:moveTo>
                      <a:lnTo>
                        <a:pt x="305" y="16"/>
                      </a:lnTo>
                      <a:lnTo>
                        <a:pt x="309" y="4"/>
                      </a:lnTo>
                      <a:lnTo>
                        <a:pt x="287" y="0"/>
                      </a:lnTo>
                      <a:lnTo>
                        <a:pt x="0" y="24"/>
                      </a:lnTo>
                      <a:lnTo>
                        <a:pt x="31" y="97"/>
                      </a:lnTo>
                      <a:lnTo>
                        <a:pt x="89" y="198"/>
                      </a:lnTo>
                      <a:lnTo>
                        <a:pt x="94" y="406"/>
                      </a:lnTo>
                      <a:lnTo>
                        <a:pt x="475" y="379"/>
                      </a:lnTo>
                      <a:lnTo>
                        <a:pt x="471" y="439"/>
                      </a:lnTo>
                      <a:lnTo>
                        <a:pt x="507" y="439"/>
                      </a:lnTo>
                      <a:lnTo>
                        <a:pt x="570" y="318"/>
                      </a:lnTo>
                      <a:lnTo>
                        <a:pt x="520" y="318"/>
                      </a:lnTo>
                      <a:lnTo>
                        <a:pt x="520" y="289"/>
                      </a:lnTo>
                      <a:lnTo>
                        <a:pt x="516" y="265"/>
                      </a:lnTo>
                      <a:lnTo>
                        <a:pt x="498" y="246"/>
                      </a:lnTo>
                      <a:lnTo>
                        <a:pt x="431" y="184"/>
                      </a:lnTo>
                      <a:lnTo>
                        <a:pt x="440" y="148"/>
                      </a:lnTo>
                      <a:lnTo>
                        <a:pt x="435" y="133"/>
                      </a:lnTo>
                      <a:lnTo>
                        <a:pt x="417" y="136"/>
                      </a:lnTo>
                      <a:lnTo>
                        <a:pt x="336" y="64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208"/>
                <p:cNvSpPr/>
                <p:nvPr/>
              </p:nvSpPr>
              <p:spPr>
                <a:xfrm>
                  <a:off x="4235400" y="4011480"/>
                  <a:ext cx="905040" cy="69696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696960"/>
                    <a:gd name="textAreaBottom" fmla="*/ 697320 h 696960"/>
                  </a:gdLst>
                  <a:ahLst/>
                  <a:rect l="textAreaLeft" t="textAreaTop" r="textAreaRight" b="textAreaBottom"/>
                  <a:pathLst>
                    <a:path w="570" h="439">
                      <a:moveTo>
                        <a:pt x="336" y="64"/>
                      </a:moveTo>
                      <a:lnTo>
                        <a:pt x="305" y="16"/>
                      </a:lnTo>
                      <a:lnTo>
                        <a:pt x="309" y="4"/>
                      </a:lnTo>
                      <a:lnTo>
                        <a:pt x="287" y="0"/>
                      </a:lnTo>
                      <a:lnTo>
                        <a:pt x="0" y="24"/>
                      </a:lnTo>
                      <a:lnTo>
                        <a:pt x="31" y="97"/>
                      </a:lnTo>
                      <a:lnTo>
                        <a:pt x="89" y="198"/>
                      </a:lnTo>
                      <a:lnTo>
                        <a:pt x="94" y="406"/>
                      </a:lnTo>
                      <a:lnTo>
                        <a:pt x="475" y="379"/>
                      </a:lnTo>
                      <a:lnTo>
                        <a:pt x="471" y="439"/>
                      </a:lnTo>
                      <a:lnTo>
                        <a:pt x="507" y="439"/>
                      </a:lnTo>
                      <a:lnTo>
                        <a:pt x="570" y="318"/>
                      </a:lnTo>
                      <a:lnTo>
                        <a:pt x="520" y="318"/>
                      </a:lnTo>
                      <a:lnTo>
                        <a:pt x="520" y="289"/>
                      </a:lnTo>
                      <a:lnTo>
                        <a:pt x="516" y="265"/>
                      </a:lnTo>
                      <a:lnTo>
                        <a:pt x="498" y="246"/>
                      </a:lnTo>
                      <a:lnTo>
                        <a:pt x="431" y="184"/>
                      </a:lnTo>
                      <a:lnTo>
                        <a:pt x="440" y="148"/>
                      </a:lnTo>
                      <a:lnTo>
                        <a:pt x="435" y="133"/>
                      </a:lnTo>
                      <a:lnTo>
                        <a:pt x="417" y="136"/>
                      </a:lnTo>
                      <a:lnTo>
                        <a:pt x="336" y="6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212"/>
              <p:cNvGrpSpPr/>
              <p:nvPr/>
            </p:nvGrpSpPr>
            <p:grpSpPr>
              <a:xfrm>
                <a:off x="4384800" y="4656240"/>
                <a:ext cx="641160" cy="538200"/>
                <a:chOff x="4384800" y="4656240"/>
                <a:chExt cx="641160" cy="538200"/>
              </a:xfrm>
            </p:grpSpPr>
            <p:sp>
              <p:nvSpPr>
                <p:cNvPr id="236" name="Freeform 210"/>
                <p:cNvSpPr/>
                <p:nvPr/>
              </p:nvSpPr>
              <p:spPr>
                <a:xfrm>
                  <a:off x="4384800" y="4656240"/>
                  <a:ext cx="641160" cy="538200"/>
                </a:xfrm>
                <a:custGeom>
                  <a:avLst/>
                  <a:gdLst>
                    <a:gd name="textAreaLeft" fmla="*/ 0 w 641160"/>
                    <a:gd name="textAreaRight" fmla="*/ 641520 w 64116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404" h="339">
                      <a:moveTo>
                        <a:pt x="292" y="330"/>
                      </a:moveTo>
                      <a:lnTo>
                        <a:pt x="283" y="287"/>
                      </a:lnTo>
                      <a:lnTo>
                        <a:pt x="359" y="141"/>
                      </a:lnTo>
                      <a:lnTo>
                        <a:pt x="404" y="53"/>
                      </a:lnTo>
                      <a:lnTo>
                        <a:pt x="346" y="48"/>
                      </a:lnTo>
                      <a:lnTo>
                        <a:pt x="355" y="0"/>
                      </a:lnTo>
                      <a:lnTo>
                        <a:pt x="0" y="24"/>
                      </a:lnTo>
                      <a:lnTo>
                        <a:pt x="13" y="287"/>
                      </a:lnTo>
                      <a:lnTo>
                        <a:pt x="49" y="299"/>
                      </a:lnTo>
                      <a:lnTo>
                        <a:pt x="54" y="339"/>
                      </a:lnTo>
                      <a:lnTo>
                        <a:pt x="292" y="330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211"/>
                <p:cNvSpPr/>
                <p:nvPr/>
              </p:nvSpPr>
              <p:spPr>
                <a:xfrm>
                  <a:off x="4384800" y="4656240"/>
                  <a:ext cx="641160" cy="538200"/>
                </a:xfrm>
                <a:custGeom>
                  <a:avLst/>
                  <a:gdLst>
                    <a:gd name="textAreaLeft" fmla="*/ 0 w 641160"/>
                    <a:gd name="textAreaRight" fmla="*/ 641520 w 64116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404" h="339">
                      <a:moveTo>
                        <a:pt x="292" y="330"/>
                      </a:moveTo>
                      <a:lnTo>
                        <a:pt x="283" y="287"/>
                      </a:lnTo>
                      <a:lnTo>
                        <a:pt x="359" y="141"/>
                      </a:lnTo>
                      <a:lnTo>
                        <a:pt x="404" y="53"/>
                      </a:lnTo>
                      <a:lnTo>
                        <a:pt x="346" y="48"/>
                      </a:lnTo>
                      <a:lnTo>
                        <a:pt x="355" y="0"/>
                      </a:lnTo>
                      <a:lnTo>
                        <a:pt x="0" y="24"/>
                      </a:lnTo>
                      <a:lnTo>
                        <a:pt x="13" y="287"/>
                      </a:lnTo>
                      <a:lnTo>
                        <a:pt x="49" y="299"/>
                      </a:lnTo>
                      <a:lnTo>
                        <a:pt x="54" y="339"/>
                      </a:lnTo>
                      <a:lnTo>
                        <a:pt x="292" y="33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215"/>
              <p:cNvGrpSpPr/>
              <p:nvPr/>
            </p:nvGrpSpPr>
            <p:grpSpPr>
              <a:xfrm>
                <a:off x="3156120" y="2741760"/>
                <a:ext cx="861840" cy="461880"/>
                <a:chOff x="3156120" y="2741760"/>
                <a:chExt cx="861840" cy="461880"/>
              </a:xfrm>
            </p:grpSpPr>
            <p:sp>
              <p:nvSpPr>
                <p:cNvPr id="239" name="Freeform 213"/>
                <p:cNvSpPr/>
                <p:nvPr/>
              </p:nvSpPr>
              <p:spPr>
                <a:xfrm>
                  <a:off x="3156120" y="2741760"/>
                  <a:ext cx="861840" cy="461880"/>
                </a:xfrm>
                <a:custGeom>
                  <a:avLst/>
                  <a:gdLst>
                    <a:gd name="textAreaLeft" fmla="*/ 0 w 861840"/>
                    <a:gd name="textAreaRight" fmla="*/ 862200 w 86184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543" h="291">
                      <a:moveTo>
                        <a:pt x="543" y="291"/>
                      </a:moveTo>
                      <a:lnTo>
                        <a:pt x="0" y="282"/>
                      </a:lnTo>
                      <a:lnTo>
                        <a:pt x="9" y="0"/>
                      </a:lnTo>
                      <a:lnTo>
                        <a:pt x="476" y="17"/>
                      </a:lnTo>
                      <a:lnTo>
                        <a:pt x="476" y="24"/>
                      </a:lnTo>
                      <a:lnTo>
                        <a:pt x="489" y="122"/>
                      </a:lnTo>
                      <a:lnTo>
                        <a:pt x="507" y="150"/>
                      </a:lnTo>
                      <a:lnTo>
                        <a:pt x="543" y="291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14"/>
                <p:cNvSpPr/>
                <p:nvPr/>
              </p:nvSpPr>
              <p:spPr>
                <a:xfrm>
                  <a:off x="3156120" y="2741760"/>
                  <a:ext cx="861840" cy="461880"/>
                </a:xfrm>
                <a:custGeom>
                  <a:avLst/>
                  <a:gdLst>
                    <a:gd name="textAreaLeft" fmla="*/ 0 w 861840"/>
                    <a:gd name="textAreaRight" fmla="*/ 862200 w 861840"/>
                    <a:gd name="textAreaTop" fmla="*/ 0 h 461880"/>
                    <a:gd name="textAreaBottom" fmla="*/ 462240 h 461880"/>
                  </a:gdLst>
                  <a:ahLst/>
                  <a:rect l="textAreaLeft" t="textAreaTop" r="textAreaRight" b="textAreaBottom"/>
                  <a:pathLst>
                    <a:path w="543" h="291">
                      <a:moveTo>
                        <a:pt x="543" y="291"/>
                      </a:moveTo>
                      <a:lnTo>
                        <a:pt x="0" y="282"/>
                      </a:lnTo>
                      <a:lnTo>
                        <a:pt x="9" y="0"/>
                      </a:lnTo>
                      <a:lnTo>
                        <a:pt x="476" y="17"/>
                      </a:lnTo>
                      <a:lnTo>
                        <a:pt x="476" y="24"/>
                      </a:lnTo>
                      <a:lnTo>
                        <a:pt x="489" y="122"/>
                      </a:lnTo>
                      <a:lnTo>
                        <a:pt x="507" y="150"/>
                      </a:lnTo>
                      <a:lnTo>
                        <a:pt x="543" y="29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218"/>
              <p:cNvGrpSpPr/>
              <p:nvPr/>
            </p:nvGrpSpPr>
            <p:grpSpPr>
              <a:xfrm>
                <a:off x="3141720" y="3227400"/>
                <a:ext cx="911160" cy="474480"/>
                <a:chOff x="3141720" y="3227400"/>
                <a:chExt cx="911160" cy="474480"/>
              </a:xfrm>
            </p:grpSpPr>
            <p:sp>
              <p:nvSpPr>
                <p:cNvPr id="242" name="Freeform 216"/>
                <p:cNvSpPr/>
                <p:nvPr/>
              </p:nvSpPr>
              <p:spPr>
                <a:xfrm>
                  <a:off x="3141720" y="3227400"/>
                  <a:ext cx="911160" cy="47448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474480"/>
                    <a:gd name="textAreaBottom" fmla="*/ 474840 h 474480"/>
                  </a:gdLst>
                  <a:ahLst/>
                  <a:rect l="textAreaLeft" t="textAreaTop" r="textAreaRight" b="textAreaBottom"/>
                  <a:pathLst>
                    <a:path w="574" h="299">
                      <a:moveTo>
                        <a:pt x="543" y="5"/>
                      </a:moveTo>
                      <a:lnTo>
                        <a:pt x="9" y="0"/>
                      </a:lnTo>
                      <a:lnTo>
                        <a:pt x="4" y="69"/>
                      </a:lnTo>
                      <a:lnTo>
                        <a:pt x="0" y="251"/>
                      </a:lnTo>
                      <a:lnTo>
                        <a:pt x="408" y="258"/>
                      </a:lnTo>
                      <a:lnTo>
                        <a:pt x="467" y="275"/>
                      </a:lnTo>
                      <a:lnTo>
                        <a:pt x="498" y="267"/>
                      </a:lnTo>
                      <a:lnTo>
                        <a:pt x="520" y="275"/>
                      </a:lnTo>
                      <a:lnTo>
                        <a:pt x="520" y="279"/>
                      </a:lnTo>
                      <a:lnTo>
                        <a:pt x="570" y="299"/>
                      </a:lnTo>
                      <a:lnTo>
                        <a:pt x="565" y="230"/>
                      </a:lnTo>
                      <a:lnTo>
                        <a:pt x="574" y="213"/>
                      </a:lnTo>
                      <a:lnTo>
                        <a:pt x="565" y="57"/>
                      </a:lnTo>
                      <a:lnTo>
                        <a:pt x="529" y="24"/>
                      </a:lnTo>
                      <a:lnTo>
                        <a:pt x="543" y="5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17"/>
                <p:cNvSpPr/>
                <p:nvPr/>
              </p:nvSpPr>
              <p:spPr>
                <a:xfrm>
                  <a:off x="3141720" y="3227400"/>
                  <a:ext cx="911160" cy="474480"/>
                </a:xfrm>
                <a:custGeom>
                  <a:avLst/>
                  <a:gdLst>
                    <a:gd name="textAreaLeft" fmla="*/ 0 w 911160"/>
                    <a:gd name="textAreaRight" fmla="*/ 911520 w 911160"/>
                    <a:gd name="textAreaTop" fmla="*/ 0 h 474480"/>
                    <a:gd name="textAreaBottom" fmla="*/ 474840 h 474480"/>
                  </a:gdLst>
                  <a:ahLst/>
                  <a:rect l="textAreaLeft" t="textAreaTop" r="textAreaRight" b="textAreaBottom"/>
                  <a:pathLst>
                    <a:path w="574" h="299">
                      <a:moveTo>
                        <a:pt x="543" y="5"/>
                      </a:moveTo>
                      <a:lnTo>
                        <a:pt x="9" y="0"/>
                      </a:lnTo>
                      <a:lnTo>
                        <a:pt x="4" y="69"/>
                      </a:lnTo>
                      <a:lnTo>
                        <a:pt x="0" y="251"/>
                      </a:lnTo>
                      <a:lnTo>
                        <a:pt x="408" y="258"/>
                      </a:lnTo>
                      <a:lnTo>
                        <a:pt x="467" y="275"/>
                      </a:lnTo>
                      <a:lnTo>
                        <a:pt x="498" y="267"/>
                      </a:lnTo>
                      <a:lnTo>
                        <a:pt x="520" y="275"/>
                      </a:lnTo>
                      <a:lnTo>
                        <a:pt x="520" y="279"/>
                      </a:lnTo>
                      <a:lnTo>
                        <a:pt x="570" y="299"/>
                      </a:lnTo>
                      <a:lnTo>
                        <a:pt x="565" y="230"/>
                      </a:lnTo>
                      <a:lnTo>
                        <a:pt x="574" y="213"/>
                      </a:lnTo>
                      <a:lnTo>
                        <a:pt x="565" y="57"/>
                      </a:lnTo>
                      <a:lnTo>
                        <a:pt x="529" y="24"/>
                      </a:lnTo>
                      <a:lnTo>
                        <a:pt x="543" y="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Group 221"/>
              <p:cNvGrpSpPr/>
              <p:nvPr/>
            </p:nvGrpSpPr>
            <p:grpSpPr>
              <a:xfrm>
                <a:off x="3141720" y="3664080"/>
                <a:ext cx="1062000" cy="447480"/>
                <a:chOff x="3141720" y="3664080"/>
                <a:chExt cx="1062000" cy="447480"/>
              </a:xfrm>
            </p:grpSpPr>
            <p:sp>
              <p:nvSpPr>
                <p:cNvPr id="245" name="Freeform 219"/>
                <p:cNvSpPr/>
                <p:nvPr/>
              </p:nvSpPr>
              <p:spPr>
                <a:xfrm>
                  <a:off x="3141720" y="3664080"/>
                  <a:ext cx="1062000" cy="447480"/>
                </a:xfrm>
                <a:custGeom>
                  <a:avLst/>
                  <a:gdLst>
                    <a:gd name="textAreaLeft" fmla="*/ 0 w 1062000"/>
                    <a:gd name="textAreaRight" fmla="*/ 1062360 w 106200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69" h="282">
                      <a:moveTo>
                        <a:pt x="525" y="31"/>
                      </a:moveTo>
                      <a:lnTo>
                        <a:pt x="498" y="16"/>
                      </a:lnTo>
                      <a:lnTo>
                        <a:pt x="467" y="24"/>
                      </a:lnTo>
                      <a:lnTo>
                        <a:pt x="404" y="4"/>
                      </a:lnTo>
                      <a:lnTo>
                        <a:pt x="0" y="0"/>
                      </a:lnTo>
                      <a:lnTo>
                        <a:pt x="4" y="172"/>
                      </a:lnTo>
                      <a:lnTo>
                        <a:pt x="139" y="177"/>
                      </a:lnTo>
                      <a:lnTo>
                        <a:pt x="134" y="265"/>
                      </a:lnTo>
                      <a:lnTo>
                        <a:pt x="534" y="277"/>
                      </a:lnTo>
                      <a:lnTo>
                        <a:pt x="669" y="282"/>
                      </a:lnTo>
                      <a:lnTo>
                        <a:pt x="651" y="229"/>
                      </a:lnTo>
                      <a:lnTo>
                        <a:pt x="637" y="205"/>
                      </a:lnTo>
                      <a:lnTo>
                        <a:pt x="633" y="177"/>
                      </a:lnTo>
                      <a:lnTo>
                        <a:pt x="579" y="64"/>
                      </a:lnTo>
                      <a:lnTo>
                        <a:pt x="574" y="43"/>
                      </a:lnTo>
                      <a:lnTo>
                        <a:pt x="525" y="31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220"/>
                <p:cNvSpPr/>
                <p:nvPr/>
              </p:nvSpPr>
              <p:spPr>
                <a:xfrm>
                  <a:off x="3141720" y="3664080"/>
                  <a:ext cx="1062000" cy="447480"/>
                </a:xfrm>
                <a:custGeom>
                  <a:avLst/>
                  <a:gdLst>
                    <a:gd name="textAreaLeft" fmla="*/ 0 w 1062000"/>
                    <a:gd name="textAreaRight" fmla="*/ 1062360 w 106200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69" h="282">
                      <a:moveTo>
                        <a:pt x="525" y="31"/>
                      </a:moveTo>
                      <a:lnTo>
                        <a:pt x="498" y="16"/>
                      </a:lnTo>
                      <a:lnTo>
                        <a:pt x="467" y="24"/>
                      </a:lnTo>
                      <a:lnTo>
                        <a:pt x="404" y="4"/>
                      </a:lnTo>
                      <a:lnTo>
                        <a:pt x="0" y="0"/>
                      </a:lnTo>
                      <a:lnTo>
                        <a:pt x="4" y="172"/>
                      </a:lnTo>
                      <a:lnTo>
                        <a:pt x="139" y="177"/>
                      </a:lnTo>
                      <a:lnTo>
                        <a:pt x="134" y="265"/>
                      </a:lnTo>
                      <a:lnTo>
                        <a:pt x="534" y="277"/>
                      </a:lnTo>
                      <a:lnTo>
                        <a:pt x="669" y="282"/>
                      </a:lnTo>
                      <a:lnTo>
                        <a:pt x="651" y="229"/>
                      </a:lnTo>
                      <a:lnTo>
                        <a:pt x="637" y="205"/>
                      </a:lnTo>
                      <a:lnTo>
                        <a:pt x="633" y="177"/>
                      </a:lnTo>
                      <a:lnTo>
                        <a:pt x="579" y="64"/>
                      </a:lnTo>
                      <a:lnTo>
                        <a:pt x="574" y="43"/>
                      </a:lnTo>
                      <a:lnTo>
                        <a:pt x="525" y="3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Group 224"/>
              <p:cNvGrpSpPr/>
              <p:nvPr/>
            </p:nvGrpSpPr>
            <p:grpSpPr>
              <a:xfrm>
                <a:off x="3354480" y="4118040"/>
                <a:ext cx="969840" cy="447480"/>
                <a:chOff x="3354480" y="4118040"/>
                <a:chExt cx="969840" cy="447480"/>
              </a:xfrm>
            </p:grpSpPr>
            <p:sp>
              <p:nvSpPr>
                <p:cNvPr id="248" name="Freeform 222"/>
                <p:cNvSpPr/>
                <p:nvPr/>
              </p:nvSpPr>
              <p:spPr>
                <a:xfrm>
                  <a:off x="3354480" y="4118040"/>
                  <a:ext cx="969840" cy="44748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11" h="282">
                      <a:moveTo>
                        <a:pt x="0" y="257"/>
                      </a:moveTo>
                      <a:lnTo>
                        <a:pt x="611" y="282"/>
                      </a:lnTo>
                      <a:lnTo>
                        <a:pt x="611" y="132"/>
                      </a:lnTo>
                      <a:lnTo>
                        <a:pt x="553" y="44"/>
                      </a:lnTo>
                      <a:lnTo>
                        <a:pt x="544" y="15"/>
                      </a:lnTo>
                      <a:lnTo>
                        <a:pt x="395" y="12"/>
                      </a:lnTo>
                      <a:lnTo>
                        <a:pt x="0" y="0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223"/>
                <p:cNvSpPr/>
                <p:nvPr/>
              </p:nvSpPr>
              <p:spPr>
                <a:xfrm>
                  <a:off x="3354480" y="4118040"/>
                  <a:ext cx="969840" cy="447480"/>
                </a:xfrm>
                <a:custGeom>
                  <a:avLst/>
                  <a:gdLst>
                    <a:gd name="textAreaLeft" fmla="*/ 0 w 969840"/>
                    <a:gd name="textAreaRight" fmla="*/ 970200 w 969840"/>
                    <a:gd name="textAreaTop" fmla="*/ 0 h 447480"/>
                    <a:gd name="textAreaBottom" fmla="*/ 447840 h 447480"/>
                  </a:gdLst>
                  <a:ahLst/>
                  <a:rect l="textAreaLeft" t="textAreaTop" r="textAreaRight" b="textAreaBottom"/>
                  <a:pathLst>
                    <a:path w="611" h="282">
                      <a:moveTo>
                        <a:pt x="0" y="257"/>
                      </a:moveTo>
                      <a:lnTo>
                        <a:pt x="611" y="282"/>
                      </a:lnTo>
                      <a:lnTo>
                        <a:pt x="611" y="132"/>
                      </a:lnTo>
                      <a:lnTo>
                        <a:pt x="553" y="44"/>
                      </a:lnTo>
                      <a:lnTo>
                        <a:pt x="544" y="15"/>
                      </a:lnTo>
                      <a:lnTo>
                        <a:pt x="395" y="12"/>
                      </a:lnTo>
                      <a:lnTo>
                        <a:pt x="0" y="0"/>
                      </a:lnTo>
                      <a:lnTo>
                        <a:pt x="0" y="25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Group 227"/>
              <p:cNvGrpSpPr/>
              <p:nvPr/>
            </p:nvGrpSpPr>
            <p:grpSpPr>
              <a:xfrm>
                <a:off x="3176640" y="4551480"/>
                <a:ext cx="1168200" cy="531720"/>
                <a:chOff x="3176640" y="4551480"/>
                <a:chExt cx="1168200" cy="531720"/>
              </a:xfrm>
            </p:grpSpPr>
            <p:sp>
              <p:nvSpPr>
                <p:cNvPr id="251" name="Freeform 225"/>
                <p:cNvSpPr/>
                <p:nvPr/>
              </p:nvSpPr>
              <p:spPr>
                <a:xfrm>
                  <a:off x="3176640" y="4551480"/>
                  <a:ext cx="1168200" cy="531720"/>
                </a:xfrm>
                <a:custGeom>
                  <a:avLst/>
                  <a:gdLst>
                    <a:gd name="textAreaLeft" fmla="*/ 0 w 1168200"/>
                    <a:gd name="textAreaRight" fmla="*/ 1168560 w 11682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736" h="335">
                      <a:moveTo>
                        <a:pt x="723" y="33"/>
                      </a:moveTo>
                      <a:lnTo>
                        <a:pt x="723" y="81"/>
                      </a:lnTo>
                      <a:lnTo>
                        <a:pt x="736" y="335"/>
                      </a:lnTo>
                      <a:lnTo>
                        <a:pt x="683" y="318"/>
                      </a:lnTo>
                      <a:lnTo>
                        <a:pt x="512" y="323"/>
                      </a:lnTo>
                      <a:lnTo>
                        <a:pt x="247" y="258"/>
                      </a:lnTo>
                      <a:lnTo>
                        <a:pt x="238" y="60"/>
                      </a:lnTo>
                      <a:lnTo>
                        <a:pt x="0" y="45"/>
                      </a:lnTo>
                      <a:lnTo>
                        <a:pt x="0" y="0"/>
                      </a:lnTo>
                      <a:lnTo>
                        <a:pt x="112" y="5"/>
                      </a:lnTo>
                      <a:lnTo>
                        <a:pt x="723" y="33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226"/>
                <p:cNvSpPr/>
                <p:nvPr/>
              </p:nvSpPr>
              <p:spPr>
                <a:xfrm>
                  <a:off x="3176640" y="4551480"/>
                  <a:ext cx="1168200" cy="531720"/>
                </a:xfrm>
                <a:custGeom>
                  <a:avLst/>
                  <a:gdLst>
                    <a:gd name="textAreaLeft" fmla="*/ 0 w 1168200"/>
                    <a:gd name="textAreaRight" fmla="*/ 1168560 w 11682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736" h="335">
                      <a:moveTo>
                        <a:pt x="723" y="33"/>
                      </a:moveTo>
                      <a:lnTo>
                        <a:pt x="723" y="81"/>
                      </a:lnTo>
                      <a:lnTo>
                        <a:pt x="736" y="335"/>
                      </a:lnTo>
                      <a:lnTo>
                        <a:pt x="683" y="318"/>
                      </a:lnTo>
                      <a:lnTo>
                        <a:pt x="512" y="323"/>
                      </a:lnTo>
                      <a:lnTo>
                        <a:pt x="247" y="258"/>
                      </a:lnTo>
                      <a:lnTo>
                        <a:pt x="238" y="60"/>
                      </a:lnTo>
                      <a:lnTo>
                        <a:pt x="0" y="45"/>
                      </a:lnTo>
                      <a:lnTo>
                        <a:pt x="0" y="0"/>
                      </a:lnTo>
                      <a:lnTo>
                        <a:pt x="112" y="5"/>
                      </a:lnTo>
                      <a:lnTo>
                        <a:pt x="723" y="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230"/>
              <p:cNvGrpSpPr/>
              <p:nvPr/>
            </p:nvGrpSpPr>
            <p:grpSpPr>
              <a:xfrm>
                <a:off x="2620800" y="4660920"/>
                <a:ext cx="1874880" cy="1565280"/>
                <a:chOff x="2620800" y="4660920"/>
                <a:chExt cx="1874880" cy="1565280"/>
              </a:xfrm>
            </p:grpSpPr>
            <p:sp>
              <p:nvSpPr>
                <p:cNvPr id="254" name="Freeform 228"/>
                <p:cNvSpPr/>
                <p:nvPr/>
              </p:nvSpPr>
              <p:spPr>
                <a:xfrm>
                  <a:off x="2620800" y="4660920"/>
                  <a:ext cx="1874880" cy="1565280"/>
                </a:xfrm>
                <a:custGeom>
                  <a:avLst/>
                  <a:gdLst>
                    <a:gd name="textAreaLeft" fmla="*/ 0 w 1874880"/>
                    <a:gd name="textAreaRight" fmla="*/ 1875240 w 1874880"/>
                    <a:gd name="textAreaTop" fmla="*/ 0 h 1565280"/>
                    <a:gd name="textAreaBottom" fmla="*/ 1565640 h 1565280"/>
                  </a:gdLst>
                  <a:ahLst/>
                  <a:rect l="textAreaLeft" t="textAreaTop" r="textAreaRight" b="textAreaBottom"/>
                  <a:pathLst>
                    <a:path w="1181" h="986">
                      <a:moveTo>
                        <a:pt x="13" y="438"/>
                      </a:moveTo>
                      <a:lnTo>
                        <a:pt x="22" y="419"/>
                      </a:lnTo>
                      <a:lnTo>
                        <a:pt x="319" y="435"/>
                      </a:lnTo>
                      <a:lnTo>
                        <a:pt x="346" y="0"/>
                      </a:lnTo>
                      <a:lnTo>
                        <a:pt x="566" y="12"/>
                      </a:lnTo>
                      <a:lnTo>
                        <a:pt x="575" y="204"/>
                      </a:lnTo>
                      <a:lnTo>
                        <a:pt x="857" y="278"/>
                      </a:lnTo>
                      <a:lnTo>
                        <a:pt x="1028" y="273"/>
                      </a:lnTo>
                      <a:lnTo>
                        <a:pt x="1127" y="306"/>
                      </a:lnTo>
                      <a:lnTo>
                        <a:pt x="1149" y="459"/>
                      </a:lnTo>
                      <a:lnTo>
                        <a:pt x="1176" y="471"/>
                      </a:lnTo>
                      <a:lnTo>
                        <a:pt x="1181" y="555"/>
                      </a:lnTo>
                      <a:lnTo>
                        <a:pt x="1163" y="572"/>
                      </a:lnTo>
                      <a:lnTo>
                        <a:pt x="1167" y="636"/>
                      </a:lnTo>
                      <a:lnTo>
                        <a:pt x="1158" y="636"/>
                      </a:lnTo>
                      <a:lnTo>
                        <a:pt x="983" y="740"/>
                      </a:lnTo>
                      <a:lnTo>
                        <a:pt x="970" y="744"/>
                      </a:lnTo>
                      <a:lnTo>
                        <a:pt x="943" y="740"/>
                      </a:lnTo>
                      <a:lnTo>
                        <a:pt x="848" y="869"/>
                      </a:lnTo>
                      <a:lnTo>
                        <a:pt x="889" y="978"/>
                      </a:lnTo>
                      <a:lnTo>
                        <a:pt x="848" y="986"/>
                      </a:lnTo>
                      <a:lnTo>
                        <a:pt x="655" y="947"/>
                      </a:lnTo>
                      <a:lnTo>
                        <a:pt x="597" y="821"/>
                      </a:lnTo>
                      <a:lnTo>
                        <a:pt x="534" y="773"/>
                      </a:lnTo>
                      <a:lnTo>
                        <a:pt x="494" y="684"/>
                      </a:lnTo>
                      <a:lnTo>
                        <a:pt x="431" y="639"/>
                      </a:lnTo>
                      <a:lnTo>
                        <a:pt x="350" y="632"/>
                      </a:lnTo>
                      <a:lnTo>
                        <a:pt x="301" y="728"/>
                      </a:lnTo>
                      <a:lnTo>
                        <a:pt x="166" y="639"/>
                      </a:lnTo>
                      <a:lnTo>
                        <a:pt x="135" y="555"/>
                      </a:lnTo>
                      <a:lnTo>
                        <a:pt x="0" y="438"/>
                      </a:lnTo>
                      <a:lnTo>
                        <a:pt x="13" y="438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229"/>
                <p:cNvSpPr/>
                <p:nvPr/>
              </p:nvSpPr>
              <p:spPr>
                <a:xfrm>
                  <a:off x="2620800" y="4660920"/>
                  <a:ext cx="1874880" cy="1565280"/>
                </a:xfrm>
                <a:custGeom>
                  <a:avLst/>
                  <a:gdLst>
                    <a:gd name="textAreaLeft" fmla="*/ 0 w 1874880"/>
                    <a:gd name="textAreaRight" fmla="*/ 1875240 w 1874880"/>
                    <a:gd name="textAreaTop" fmla="*/ 0 h 1565280"/>
                    <a:gd name="textAreaBottom" fmla="*/ 1565640 h 1565280"/>
                  </a:gdLst>
                  <a:ahLst/>
                  <a:rect l="textAreaLeft" t="textAreaTop" r="textAreaRight" b="textAreaBottom"/>
                  <a:pathLst>
                    <a:path w="1181" h="986">
                      <a:moveTo>
                        <a:pt x="13" y="438"/>
                      </a:moveTo>
                      <a:lnTo>
                        <a:pt x="22" y="419"/>
                      </a:lnTo>
                      <a:lnTo>
                        <a:pt x="319" y="435"/>
                      </a:lnTo>
                      <a:lnTo>
                        <a:pt x="346" y="0"/>
                      </a:lnTo>
                      <a:lnTo>
                        <a:pt x="566" y="12"/>
                      </a:lnTo>
                      <a:lnTo>
                        <a:pt x="575" y="204"/>
                      </a:lnTo>
                      <a:lnTo>
                        <a:pt x="857" y="278"/>
                      </a:lnTo>
                      <a:lnTo>
                        <a:pt x="1028" y="273"/>
                      </a:lnTo>
                      <a:lnTo>
                        <a:pt x="1127" y="306"/>
                      </a:lnTo>
                      <a:lnTo>
                        <a:pt x="1149" y="459"/>
                      </a:lnTo>
                      <a:lnTo>
                        <a:pt x="1176" y="471"/>
                      </a:lnTo>
                      <a:lnTo>
                        <a:pt x="1181" y="555"/>
                      </a:lnTo>
                      <a:lnTo>
                        <a:pt x="1163" y="572"/>
                      </a:lnTo>
                      <a:lnTo>
                        <a:pt x="1167" y="636"/>
                      </a:lnTo>
                      <a:lnTo>
                        <a:pt x="1158" y="636"/>
                      </a:lnTo>
                      <a:lnTo>
                        <a:pt x="983" y="740"/>
                      </a:lnTo>
                      <a:lnTo>
                        <a:pt x="970" y="744"/>
                      </a:lnTo>
                      <a:lnTo>
                        <a:pt x="943" y="740"/>
                      </a:lnTo>
                      <a:lnTo>
                        <a:pt x="848" y="869"/>
                      </a:lnTo>
                      <a:lnTo>
                        <a:pt x="889" y="978"/>
                      </a:lnTo>
                      <a:lnTo>
                        <a:pt x="848" y="986"/>
                      </a:lnTo>
                      <a:lnTo>
                        <a:pt x="655" y="947"/>
                      </a:lnTo>
                      <a:lnTo>
                        <a:pt x="597" y="821"/>
                      </a:lnTo>
                      <a:lnTo>
                        <a:pt x="534" y="773"/>
                      </a:lnTo>
                      <a:lnTo>
                        <a:pt x="494" y="684"/>
                      </a:lnTo>
                      <a:lnTo>
                        <a:pt x="431" y="639"/>
                      </a:lnTo>
                      <a:lnTo>
                        <a:pt x="350" y="632"/>
                      </a:lnTo>
                      <a:lnTo>
                        <a:pt x="301" y="728"/>
                      </a:lnTo>
                      <a:lnTo>
                        <a:pt x="166" y="639"/>
                      </a:lnTo>
                      <a:lnTo>
                        <a:pt x="135" y="555"/>
                      </a:lnTo>
                      <a:lnTo>
                        <a:pt x="0" y="438"/>
                      </a:lnTo>
                      <a:lnTo>
                        <a:pt x="13" y="438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233"/>
              <p:cNvGrpSpPr/>
              <p:nvPr/>
            </p:nvGrpSpPr>
            <p:grpSpPr>
              <a:xfrm>
                <a:off x="2257560" y="3336840"/>
                <a:ext cx="855360" cy="600120"/>
                <a:chOff x="2257560" y="3336840"/>
                <a:chExt cx="855360" cy="600120"/>
              </a:xfrm>
            </p:grpSpPr>
            <p:sp>
              <p:nvSpPr>
                <p:cNvPr id="257" name="Freeform 231"/>
                <p:cNvSpPr/>
                <p:nvPr/>
              </p:nvSpPr>
              <p:spPr>
                <a:xfrm>
                  <a:off x="2257560" y="3336840"/>
                  <a:ext cx="855360" cy="60012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539" h="378">
                      <a:moveTo>
                        <a:pt x="534" y="182"/>
                      </a:moveTo>
                      <a:lnTo>
                        <a:pt x="539" y="378"/>
                      </a:lnTo>
                      <a:lnTo>
                        <a:pt x="126" y="363"/>
                      </a:lnTo>
                      <a:lnTo>
                        <a:pt x="0" y="354"/>
                      </a:lnTo>
                      <a:lnTo>
                        <a:pt x="9" y="261"/>
                      </a:lnTo>
                      <a:lnTo>
                        <a:pt x="40" y="24"/>
                      </a:lnTo>
                      <a:lnTo>
                        <a:pt x="45" y="0"/>
                      </a:lnTo>
                      <a:lnTo>
                        <a:pt x="534" y="27"/>
                      </a:lnTo>
                      <a:lnTo>
                        <a:pt x="534" y="182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232"/>
                <p:cNvSpPr/>
                <p:nvPr/>
              </p:nvSpPr>
              <p:spPr>
                <a:xfrm>
                  <a:off x="2257560" y="3336840"/>
                  <a:ext cx="855360" cy="60012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539" h="378">
                      <a:moveTo>
                        <a:pt x="534" y="182"/>
                      </a:moveTo>
                      <a:lnTo>
                        <a:pt x="539" y="378"/>
                      </a:lnTo>
                      <a:lnTo>
                        <a:pt x="126" y="363"/>
                      </a:lnTo>
                      <a:lnTo>
                        <a:pt x="0" y="354"/>
                      </a:lnTo>
                      <a:lnTo>
                        <a:pt x="9" y="261"/>
                      </a:lnTo>
                      <a:lnTo>
                        <a:pt x="40" y="24"/>
                      </a:lnTo>
                      <a:lnTo>
                        <a:pt x="45" y="0"/>
                      </a:lnTo>
                      <a:lnTo>
                        <a:pt x="534" y="27"/>
                      </a:lnTo>
                      <a:lnTo>
                        <a:pt x="534" y="18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36"/>
              <p:cNvGrpSpPr/>
              <p:nvPr/>
            </p:nvGrpSpPr>
            <p:grpSpPr>
              <a:xfrm>
                <a:off x="2406600" y="3951360"/>
                <a:ext cx="912960" cy="566640"/>
                <a:chOff x="2406600" y="3951360"/>
                <a:chExt cx="912960" cy="566640"/>
              </a:xfrm>
            </p:grpSpPr>
            <p:sp>
              <p:nvSpPr>
                <p:cNvPr id="260" name="Freeform 234"/>
                <p:cNvSpPr/>
                <p:nvPr/>
              </p:nvSpPr>
              <p:spPr>
                <a:xfrm>
                  <a:off x="2406600" y="3951360"/>
                  <a:ext cx="912960" cy="56664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566640"/>
                    <a:gd name="textAreaBottom" fmla="*/ 567000 h 566640"/>
                  </a:gdLst>
                  <a:ahLst/>
                  <a:rect l="textAreaLeft" t="textAreaTop" r="textAreaRight" b="textAreaBottom"/>
                  <a:pathLst>
                    <a:path w="575" h="357">
                      <a:moveTo>
                        <a:pt x="485" y="357"/>
                      </a:moveTo>
                      <a:lnTo>
                        <a:pt x="0" y="338"/>
                      </a:lnTo>
                      <a:lnTo>
                        <a:pt x="32" y="0"/>
                      </a:lnTo>
                      <a:lnTo>
                        <a:pt x="440" y="15"/>
                      </a:lnTo>
                      <a:lnTo>
                        <a:pt x="575" y="15"/>
                      </a:lnTo>
                      <a:lnTo>
                        <a:pt x="575" y="357"/>
                      </a:lnTo>
                      <a:lnTo>
                        <a:pt x="485" y="357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235"/>
                <p:cNvSpPr/>
                <p:nvPr/>
              </p:nvSpPr>
              <p:spPr>
                <a:xfrm>
                  <a:off x="2406600" y="3951360"/>
                  <a:ext cx="912960" cy="566640"/>
                </a:xfrm>
                <a:custGeom>
                  <a:avLst/>
                  <a:gdLst>
                    <a:gd name="textAreaLeft" fmla="*/ 0 w 912960"/>
                    <a:gd name="textAreaRight" fmla="*/ 913320 w 912960"/>
                    <a:gd name="textAreaTop" fmla="*/ 0 h 566640"/>
                    <a:gd name="textAreaBottom" fmla="*/ 567000 h 566640"/>
                  </a:gdLst>
                  <a:ahLst/>
                  <a:rect l="textAreaLeft" t="textAreaTop" r="textAreaRight" b="textAreaBottom"/>
                  <a:pathLst>
                    <a:path w="575" h="357">
                      <a:moveTo>
                        <a:pt x="485" y="357"/>
                      </a:moveTo>
                      <a:lnTo>
                        <a:pt x="0" y="338"/>
                      </a:lnTo>
                      <a:lnTo>
                        <a:pt x="32" y="0"/>
                      </a:lnTo>
                      <a:lnTo>
                        <a:pt x="440" y="15"/>
                      </a:lnTo>
                      <a:lnTo>
                        <a:pt x="575" y="15"/>
                      </a:lnTo>
                      <a:lnTo>
                        <a:pt x="575" y="357"/>
                      </a:lnTo>
                      <a:lnTo>
                        <a:pt x="485" y="35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239"/>
              <p:cNvGrpSpPr/>
              <p:nvPr/>
            </p:nvGrpSpPr>
            <p:grpSpPr>
              <a:xfrm>
                <a:off x="2306520" y="4518000"/>
                <a:ext cx="820800" cy="852480"/>
                <a:chOff x="2306520" y="4518000"/>
                <a:chExt cx="820800" cy="852480"/>
              </a:xfrm>
            </p:grpSpPr>
            <p:sp>
              <p:nvSpPr>
                <p:cNvPr id="263" name="Freeform 237"/>
                <p:cNvSpPr/>
                <p:nvPr/>
              </p:nvSpPr>
              <p:spPr>
                <a:xfrm>
                  <a:off x="2306520" y="4518000"/>
                  <a:ext cx="820800" cy="852480"/>
                </a:xfrm>
                <a:custGeom>
                  <a:avLst/>
                  <a:gdLst>
                    <a:gd name="textAreaLeft" fmla="*/ 0 w 820800"/>
                    <a:gd name="textAreaRight" fmla="*/ 821160 w 82080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517" h="537">
                      <a:moveTo>
                        <a:pt x="517" y="21"/>
                      </a:moveTo>
                      <a:lnTo>
                        <a:pt x="59" y="0"/>
                      </a:lnTo>
                      <a:lnTo>
                        <a:pt x="0" y="528"/>
                      </a:lnTo>
                      <a:lnTo>
                        <a:pt x="72" y="537"/>
                      </a:lnTo>
                      <a:lnTo>
                        <a:pt x="77" y="497"/>
                      </a:lnTo>
                      <a:lnTo>
                        <a:pt x="175" y="509"/>
                      </a:lnTo>
                      <a:lnTo>
                        <a:pt x="193" y="509"/>
                      </a:lnTo>
                      <a:lnTo>
                        <a:pt x="202" y="489"/>
                      </a:lnTo>
                      <a:lnTo>
                        <a:pt x="494" y="501"/>
                      </a:lnTo>
                      <a:lnTo>
                        <a:pt x="517" y="86"/>
                      </a:lnTo>
                      <a:lnTo>
                        <a:pt x="517" y="21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38"/>
                <p:cNvSpPr/>
                <p:nvPr/>
              </p:nvSpPr>
              <p:spPr>
                <a:xfrm>
                  <a:off x="2306520" y="4518000"/>
                  <a:ext cx="820800" cy="852480"/>
                </a:xfrm>
                <a:custGeom>
                  <a:avLst/>
                  <a:gdLst>
                    <a:gd name="textAreaLeft" fmla="*/ 0 w 820800"/>
                    <a:gd name="textAreaRight" fmla="*/ 821160 w 82080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517" h="537">
                      <a:moveTo>
                        <a:pt x="517" y="21"/>
                      </a:moveTo>
                      <a:lnTo>
                        <a:pt x="59" y="0"/>
                      </a:lnTo>
                      <a:lnTo>
                        <a:pt x="0" y="528"/>
                      </a:lnTo>
                      <a:lnTo>
                        <a:pt x="72" y="537"/>
                      </a:lnTo>
                      <a:lnTo>
                        <a:pt x="77" y="497"/>
                      </a:lnTo>
                      <a:lnTo>
                        <a:pt x="175" y="509"/>
                      </a:lnTo>
                      <a:lnTo>
                        <a:pt x="193" y="509"/>
                      </a:lnTo>
                      <a:lnTo>
                        <a:pt x="202" y="489"/>
                      </a:lnTo>
                      <a:lnTo>
                        <a:pt x="494" y="501"/>
                      </a:lnTo>
                      <a:lnTo>
                        <a:pt x="517" y="86"/>
                      </a:lnTo>
                      <a:lnTo>
                        <a:pt x="517" y="2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242"/>
              <p:cNvGrpSpPr/>
              <p:nvPr/>
            </p:nvGrpSpPr>
            <p:grpSpPr>
              <a:xfrm>
                <a:off x="2583000" y="4179960"/>
                <a:ext cx="228600" cy="152280"/>
                <a:chOff x="2583000" y="4179960"/>
                <a:chExt cx="228600" cy="152280"/>
              </a:xfrm>
            </p:grpSpPr>
            <p:sp>
              <p:nvSpPr>
                <p:cNvPr id="266" name="Freeform 240"/>
                <p:cNvSpPr/>
                <p:nvPr/>
              </p:nvSpPr>
              <p:spPr>
                <a:xfrm>
                  <a:off x="2583000" y="41799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41"/>
                <p:cNvSpPr/>
                <p:nvPr/>
              </p:nvSpPr>
              <p:spPr>
                <a:xfrm>
                  <a:off x="2583000" y="41799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Freeform 243"/>
              <p:cNvSpPr/>
              <p:nvPr/>
            </p:nvSpPr>
            <p:spPr>
              <a:xfrm>
                <a:off x="2354400" y="4332240"/>
                <a:ext cx="320400" cy="1084320"/>
              </a:xfrm>
              <a:custGeom>
                <a:avLst/>
                <a:gdLst>
                  <a:gd name="textAreaLeft" fmla="*/ 0 w 320400"/>
                  <a:gd name="textAreaRight" fmla="*/ 320760 w 320400"/>
                  <a:gd name="textAreaTop" fmla="*/ 0 h 1084320"/>
                  <a:gd name="textAreaBottom" fmla="*/ 1084680 h 1084320"/>
                </a:gdLst>
                <a:ahLst/>
                <a:rect l="textAreaLeft" t="textAreaTop" r="textAreaRight" b="textAreaBottom"/>
                <a:pathLst>
                  <a:path w="1682" h="5687">
                    <a:moveTo>
                      <a:pt x="5" y="5642"/>
                    </a:moveTo>
                    <a:lnTo>
                      <a:pt x="1475" y="313"/>
                    </a:lnTo>
                    <a:cubicBezTo>
                      <a:pt x="1480" y="295"/>
                      <a:pt x="1498" y="285"/>
                      <a:pt x="1516" y="290"/>
                    </a:cubicBezTo>
                    <a:cubicBezTo>
                      <a:pt x="1534" y="295"/>
                      <a:pt x="1544" y="313"/>
                      <a:pt x="1539" y="331"/>
                    </a:cubicBezTo>
                    <a:lnTo>
                      <a:pt x="70" y="5659"/>
                    </a:lnTo>
                    <a:cubicBezTo>
                      <a:pt x="65" y="5677"/>
                      <a:pt x="46" y="5687"/>
                      <a:pt x="29" y="5683"/>
                    </a:cubicBezTo>
                    <a:cubicBezTo>
                      <a:pt x="11" y="5678"/>
                      <a:pt x="0" y="5659"/>
                      <a:pt x="5" y="5642"/>
                    </a:cubicBezTo>
                    <a:close/>
                    <a:moveTo>
                      <a:pt x="1297" y="333"/>
                    </a:moveTo>
                    <a:lnTo>
                      <a:pt x="1596" y="0"/>
                    </a:lnTo>
                    <a:lnTo>
                      <a:pt x="1682" y="439"/>
                    </a:lnTo>
                    <a:lnTo>
                      <a:pt x="1297" y="333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69" name="Group 246"/>
              <p:cNvGrpSpPr/>
              <p:nvPr/>
            </p:nvGrpSpPr>
            <p:grpSpPr>
              <a:xfrm>
                <a:off x="3971880" y="2741760"/>
                <a:ext cx="812880" cy="799920"/>
                <a:chOff x="3971880" y="2741760"/>
                <a:chExt cx="812880" cy="799920"/>
              </a:xfrm>
            </p:grpSpPr>
            <p:sp>
              <p:nvSpPr>
                <p:cNvPr id="270" name="Freeform 244"/>
                <p:cNvSpPr/>
                <p:nvPr/>
              </p:nvSpPr>
              <p:spPr>
                <a:xfrm>
                  <a:off x="3971880" y="2741760"/>
                  <a:ext cx="812880" cy="7999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799920"/>
                    <a:gd name="textAreaBottom" fmla="*/ 800280 h 799920"/>
                  </a:gdLst>
                  <a:ahLst/>
                  <a:rect l="textAreaLeft" t="textAreaTop" r="textAreaRight" b="textAreaBottom"/>
                  <a:pathLst>
                    <a:path w="512" h="504">
                      <a:moveTo>
                        <a:pt x="382" y="174"/>
                      </a:moveTo>
                      <a:lnTo>
                        <a:pt x="512" y="60"/>
                      </a:lnTo>
                      <a:lnTo>
                        <a:pt x="512" y="57"/>
                      </a:lnTo>
                      <a:lnTo>
                        <a:pt x="436" y="48"/>
                      </a:lnTo>
                      <a:lnTo>
                        <a:pt x="400" y="60"/>
                      </a:lnTo>
                      <a:lnTo>
                        <a:pt x="283" y="17"/>
                      </a:lnTo>
                      <a:lnTo>
                        <a:pt x="234" y="29"/>
                      </a:lnTo>
                      <a:lnTo>
                        <a:pt x="176" y="17"/>
                      </a:lnTo>
                      <a:lnTo>
                        <a:pt x="162" y="0"/>
                      </a:lnTo>
                      <a:lnTo>
                        <a:pt x="41" y="5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10"/>
                      </a:lnTo>
                      <a:lnTo>
                        <a:pt x="32" y="141"/>
                      </a:lnTo>
                      <a:lnTo>
                        <a:pt x="68" y="291"/>
                      </a:lnTo>
                      <a:lnTo>
                        <a:pt x="50" y="318"/>
                      </a:lnTo>
                      <a:lnTo>
                        <a:pt x="77" y="347"/>
                      </a:lnTo>
                      <a:lnTo>
                        <a:pt x="86" y="495"/>
                      </a:lnTo>
                      <a:lnTo>
                        <a:pt x="99" y="504"/>
                      </a:lnTo>
                      <a:lnTo>
                        <a:pt x="458" y="471"/>
                      </a:lnTo>
                      <a:lnTo>
                        <a:pt x="454" y="459"/>
                      </a:lnTo>
                      <a:lnTo>
                        <a:pt x="337" y="395"/>
                      </a:lnTo>
                      <a:lnTo>
                        <a:pt x="324" y="294"/>
                      </a:lnTo>
                      <a:lnTo>
                        <a:pt x="369" y="246"/>
                      </a:lnTo>
                      <a:lnTo>
                        <a:pt x="364" y="222"/>
                      </a:lnTo>
                      <a:lnTo>
                        <a:pt x="364" y="182"/>
                      </a:lnTo>
                      <a:lnTo>
                        <a:pt x="382" y="174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45"/>
                <p:cNvSpPr/>
                <p:nvPr/>
              </p:nvSpPr>
              <p:spPr>
                <a:xfrm>
                  <a:off x="3971880" y="2741760"/>
                  <a:ext cx="812880" cy="7999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799920"/>
                    <a:gd name="textAreaBottom" fmla="*/ 800280 h 799920"/>
                  </a:gdLst>
                  <a:ahLst/>
                  <a:rect l="textAreaLeft" t="textAreaTop" r="textAreaRight" b="textAreaBottom"/>
                  <a:pathLst>
                    <a:path w="512" h="504">
                      <a:moveTo>
                        <a:pt x="382" y="174"/>
                      </a:moveTo>
                      <a:lnTo>
                        <a:pt x="512" y="60"/>
                      </a:lnTo>
                      <a:lnTo>
                        <a:pt x="512" y="57"/>
                      </a:lnTo>
                      <a:lnTo>
                        <a:pt x="436" y="48"/>
                      </a:lnTo>
                      <a:lnTo>
                        <a:pt x="400" y="60"/>
                      </a:lnTo>
                      <a:lnTo>
                        <a:pt x="283" y="17"/>
                      </a:lnTo>
                      <a:lnTo>
                        <a:pt x="234" y="29"/>
                      </a:lnTo>
                      <a:lnTo>
                        <a:pt x="176" y="17"/>
                      </a:lnTo>
                      <a:lnTo>
                        <a:pt x="162" y="0"/>
                      </a:lnTo>
                      <a:lnTo>
                        <a:pt x="41" y="5"/>
                      </a:lnTo>
                      <a:lnTo>
                        <a:pt x="0" y="9"/>
                      </a:lnTo>
                      <a:lnTo>
                        <a:pt x="0" y="17"/>
                      </a:lnTo>
                      <a:lnTo>
                        <a:pt x="9" y="110"/>
                      </a:lnTo>
                      <a:lnTo>
                        <a:pt x="32" y="141"/>
                      </a:lnTo>
                      <a:lnTo>
                        <a:pt x="68" y="291"/>
                      </a:lnTo>
                      <a:lnTo>
                        <a:pt x="50" y="318"/>
                      </a:lnTo>
                      <a:lnTo>
                        <a:pt x="77" y="347"/>
                      </a:lnTo>
                      <a:lnTo>
                        <a:pt x="86" y="495"/>
                      </a:lnTo>
                      <a:lnTo>
                        <a:pt x="99" y="504"/>
                      </a:lnTo>
                      <a:lnTo>
                        <a:pt x="458" y="471"/>
                      </a:lnTo>
                      <a:lnTo>
                        <a:pt x="454" y="459"/>
                      </a:lnTo>
                      <a:lnTo>
                        <a:pt x="337" y="395"/>
                      </a:lnTo>
                      <a:lnTo>
                        <a:pt x="324" y="294"/>
                      </a:lnTo>
                      <a:lnTo>
                        <a:pt x="369" y="246"/>
                      </a:lnTo>
                      <a:lnTo>
                        <a:pt x="364" y="222"/>
                      </a:lnTo>
                      <a:lnTo>
                        <a:pt x="364" y="182"/>
                      </a:lnTo>
                      <a:lnTo>
                        <a:pt x="382" y="17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249"/>
              <p:cNvGrpSpPr/>
              <p:nvPr/>
            </p:nvGrpSpPr>
            <p:grpSpPr>
              <a:xfrm>
                <a:off x="4092480" y="3551400"/>
                <a:ext cx="755640" cy="471240"/>
                <a:chOff x="4092480" y="3551400"/>
                <a:chExt cx="755640" cy="471240"/>
              </a:xfrm>
            </p:grpSpPr>
            <p:sp>
              <p:nvSpPr>
                <p:cNvPr id="273" name="Freeform 247"/>
                <p:cNvSpPr/>
                <p:nvPr/>
              </p:nvSpPr>
              <p:spPr>
                <a:xfrm>
                  <a:off x="4092480" y="3551400"/>
                  <a:ext cx="755640" cy="471240"/>
                </a:xfrm>
                <a:custGeom>
                  <a:avLst/>
                  <a:gdLst>
                    <a:gd name="textAreaLeft" fmla="*/ 0 w 755640"/>
                    <a:gd name="textAreaRight" fmla="*/ 756000 w 75564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476" h="297">
                      <a:moveTo>
                        <a:pt x="9" y="27"/>
                      </a:moveTo>
                      <a:lnTo>
                        <a:pt x="0" y="39"/>
                      </a:lnTo>
                      <a:lnTo>
                        <a:pt x="9" y="108"/>
                      </a:lnTo>
                      <a:lnTo>
                        <a:pt x="18" y="141"/>
                      </a:lnTo>
                      <a:lnTo>
                        <a:pt x="67" y="258"/>
                      </a:lnTo>
                      <a:lnTo>
                        <a:pt x="76" y="282"/>
                      </a:lnTo>
                      <a:lnTo>
                        <a:pt x="85" y="297"/>
                      </a:lnTo>
                      <a:lnTo>
                        <a:pt x="390" y="266"/>
                      </a:lnTo>
                      <a:lnTo>
                        <a:pt x="408" y="273"/>
                      </a:lnTo>
                      <a:lnTo>
                        <a:pt x="435" y="222"/>
                      </a:lnTo>
                      <a:lnTo>
                        <a:pt x="426" y="189"/>
                      </a:lnTo>
                      <a:lnTo>
                        <a:pt x="476" y="156"/>
                      </a:lnTo>
                      <a:lnTo>
                        <a:pt x="476" y="137"/>
                      </a:lnTo>
                      <a:lnTo>
                        <a:pt x="467" y="129"/>
                      </a:lnTo>
                      <a:lnTo>
                        <a:pt x="435" y="93"/>
                      </a:lnTo>
                      <a:lnTo>
                        <a:pt x="404" y="69"/>
                      </a:lnTo>
                      <a:lnTo>
                        <a:pt x="386" y="0"/>
                      </a:lnTo>
                      <a:lnTo>
                        <a:pt x="22" y="32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solidFill>
                  <a:srgbClr val="ff00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248"/>
                <p:cNvSpPr/>
                <p:nvPr/>
              </p:nvSpPr>
              <p:spPr>
                <a:xfrm>
                  <a:off x="4092480" y="3551400"/>
                  <a:ext cx="755640" cy="471240"/>
                </a:xfrm>
                <a:custGeom>
                  <a:avLst/>
                  <a:gdLst>
                    <a:gd name="textAreaLeft" fmla="*/ 0 w 755640"/>
                    <a:gd name="textAreaRight" fmla="*/ 756000 w 755640"/>
                    <a:gd name="textAreaTop" fmla="*/ 0 h 471240"/>
                    <a:gd name="textAreaBottom" fmla="*/ 471600 h 471240"/>
                  </a:gdLst>
                  <a:ahLst/>
                  <a:rect l="textAreaLeft" t="textAreaTop" r="textAreaRight" b="textAreaBottom"/>
                  <a:pathLst>
                    <a:path w="476" h="297">
                      <a:moveTo>
                        <a:pt x="9" y="27"/>
                      </a:moveTo>
                      <a:lnTo>
                        <a:pt x="0" y="39"/>
                      </a:lnTo>
                      <a:lnTo>
                        <a:pt x="9" y="108"/>
                      </a:lnTo>
                      <a:lnTo>
                        <a:pt x="18" y="141"/>
                      </a:lnTo>
                      <a:lnTo>
                        <a:pt x="67" y="258"/>
                      </a:lnTo>
                      <a:lnTo>
                        <a:pt x="76" y="282"/>
                      </a:lnTo>
                      <a:lnTo>
                        <a:pt x="85" y="297"/>
                      </a:lnTo>
                      <a:lnTo>
                        <a:pt x="390" y="266"/>
                      </a:lnTo>
                      <a:lnTo>
                        <a:pt x="408" y="273"/>
                      </a:lnTo>
                      <a:lnTo>
                        <a:pt x="435" y="222"/>
                      </a:lnTo>
                      <a:lnTo>
                        <a:pt x="426" y="189"/>
                      </a:lnTo>
                      <a:lnTo>
                        <a:pt x="476" y="156"/>
                      </a:lnTo>
                      <a:lnTo>
                        <a:pt x="476" y="137"/>
                      </a:lnTo>
                      <a:lnTo>
                        <a:pt x="467" y="129"/>
                      </a:lnTo>
                      <a:lnTo>
                        <a:pt x="435" y="93"/>
                      </a:lnTo>
                      <a:lnTo>
                        <a:pt x="404" y="69"/>
                      </a:lnTo>
                      <a:lnTo>
                        <a:pt x="386" y="0"/>
                      </a:lnTo>
                      <a:lnTo>
                        <a:pt x="22" y="32"/>
                      </a:lnTo>
                      <a:lnTo>
                        <a:pt x="9" y="2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252"/>
              <p:cNvGrpSpPr/>
              <p:nvPr/>
            </p:nvGrpSpPr>
            <p:grpSpPr>
              <a:xfrm>
                <a:off x="7197840" y="2368440"/>
                <a:ext cx="469800" cy="671760"/>
                <a:chOff x="7197840" y="2368440"/>
                <a:chExt cx="469800" cy="671760"/>
              </a:xfrm>
            </p:grpSpPr>
            <p:sp>
              <p:nvSpPr>
                <p:cNvPr id="276" name="Freeform 250"/>
                <p:cNvSpPr/>
                <p:nvPr/>
              </p:nvSpPr>
              <p:spPr>
                <a:xfrm>
                  <a:off x="7197840" y="2368440"/>
                  <a:ext cx="469800" cy="6717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671760"/>
                    <a:gd name="textAreaBottom" fmla="*/ 672120 h 671760"/>
                  </a:gdLst>
                  <a:ahLst/>
                  <a:rect l="textAreaLeft" t="textAreaTop" r="textAreaRight" b="textAreaBottom"/>
                  <a:pathLst>
                    <a:path w="296" h="423">
                      <a:moveTo>
                        <a:pt x="0" y="241"/>
                      </a:moveTo>
                      <a:lnTo>
                        <a:pt x="81" y="411"/>
                      </a:lnTo>
                      <a:lnTo>
                        <a:pt x="99" y="423"/>
                      </a:lnTo>
                      <a:lnTo>
                        <a:pt x="125" y="359"/>
                      </a:lnTo>
                      <a:lnTo>
                        <a:pt x="296" y="193"/>
                      </a:lnTo>
                      <a:lnTo>
                        <a:pt x="278" y="157"/>
                      </a:lnTo>
                      <a:lnTo>
                        <a:pt x="256" y="165"/>
                      </a:lnTo>
                      <a:lnTo>
                        <a:pt x="220" y="129"/>
                      </a:lnTo>
                      <a:lnTo>
                        <a:pt x="179" y="28"/>
                      </a:lnTo>
                      <a:lnTo>
                        <a:pt x="175" y="19"/>
                      </a:lnTo>
                      <a:lnTo>
                        <a:pt x="107" y="0"/>
                      </a:lnTo>
                      <a:lnTo>
                        <a:pt x="99" y="7"/>
                      </a:lnTo>
                      <a:lnTo>
                        <a:pt x="90" y="19"/>
                      </a:lnTo>
                      <a:lnTo>
                        <a:pt x="54" y="16"/>
                      </a:lnTo>
                      <a:lnTo>
                        <a:pt x="22" y="85"/>
                      </a:lnTo>
                      <a:lnTo>
                        <a:pt x="22" y="89"/>
                      </a:lnTo>
                      <a:lnTo>
                        <a:pt x="36" y="105"/>
                      </a:lnTo>
                      <a:lnTo>
                        <a:pt x="22" y="145"/>
                      </a:lnTo>
                      <a:lnTo>
                        <a:pt x="36" y="161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251"/>
                <p:cNvSpPr/>
                <p:nvPr/>
              </p:nvSpPr>
              <p:spPr>
                <a:xfrm>
                  <a:off x="7197840" y="2368440"/>
                  <a:ext cx="469800" cy="67176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671760"/>
                    <a:gd name="textAreaBottom" fmla="*/ 672120 h 671760"/>
                  </a:gdLst>
                  <a:ahLst/>
                  <a:rect l="textAreaLeft" t="textAreaTop" r="textAreaRight" b="textAreaBottom"/>
                  <a:pathLst>
                    <a:path w="296" h="423">
                      <a:moveTo>
                        <a:pt x="0" y="241"/>
                      </a:moveTo>
                      <a:lnTo>
                        <a:pt x="81" y="411"/>
                      </a:lnTo>
                      <a:lnTo>
                        <a:pt x="99" y="423"/>
                      </a:lnTo>
                      <a:lnTo>
                        <a:pt x="125" y="359"/>
                      </a:lnTo>
                      <a:lnTo>
                        <a:pt x="296" y="193"/>
                      </a:lnTo>
                      <a:lnTo>
                        <a:pt x="278" y="157"/>
                      </a:lnTo>
                      <a:lnTo>
                        <a:pt x="256" y="165"/>
                      </a:lnTo>
                      <a:lnTo>
                        <a:pt x="220" y="129"/>
                      </a:lnTo>
                      <a:lnTo>
                        <a:pt x="179" y="28"/>
                      </a:lnTo>
                      <a:lnTo>
                        <a:pt x="175" y="19"/>
                      </a:lnTo>
                      <a:lnTo>
                        <a:pt x="107" y="0"/>
                      </a:lnTo>
                      <a:lnTo>
                        <a:pt x="99" y="7"/>
                      </a:lnTo>
                      <a:lnTo>
                        <a:pt x="90" y="19"/>
                      </a:lnTo>
                      <a:lnTo>
                        <a:pt x="54" y="16"/>
                      </a:lnTo>
                      <a:lnTo>
                        <a:pt x="22" y="85"/>
                      </a:lnTo>
                      <a:lnTo>
                        <a:pt x="22" y="89"/>
                      </a:lnTo>
                      <a:lnTo>
                        <a:pt x="36" y="105"/>
                      </a:lnTo>
                      <a:lnTo>
                        <a:pt x="22" y="145"/>
                      </a:lnTo>
                      <a:lnTo>
                        <a:pt x="36" y="161"/>
                      </a:lnTo>
                      <a:lnTo>
                        <a:pt x="0" y="24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255"/>
              <p:cNvGrpSpPr/>
              <p:nvPr/>
            </p:nvGrpSpPr>
            <p:grpSpPr>
              <a:xfrm>
                <a:off x="7118280" y="2770200"/>
                <a:ext cx="208080" cy="404640"/>
                <a:chOff x="7118280" y="2770200"/>
                <a:chExt cx="208080" cy="404640"/>
              </a:xfrm>
            </p:grpSpPr>
            <p:sp>
              <p:nvSpPr>
                <p:cNvPr id="279" name="Freeform 253"/>
                <p:cNvSpPr/>
                <p:nvPr/>
              </p:nvSpPr>
              <p:spPr>
                <a:xfrm>
                  <a:off x="7118280" y="2770200"/>
                  <a:ext cx="208080" cy="40464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131" h="255">
                      <a:moveTo>
                        <a:pt x="126" y="206"/>
                      </a:moveTo>
                      <a:lnTo>
                        <a:pt x="99" y="230"/>
                      </a:lnTo>
                      <a:lnTo>
                        <a:pt x="18" y="255"/>
                      </a:lnTo>
                      <a:lnTo>
                        <a:pt x="0" y="150"/>
                      </a:lnTo>
                      <a:lnTo>
                        <a:pt x="5" y="146"/>
                      </a:lnTo>
                      <a:lnTo>
                        <a:pt x="18" y="72"/>
                      </a:lnTo>
                      <a:lnTo>
                        <a:pt x="14" y="57"/>
                      </a:lnTo>
                      <a:lnTo>
                        <a:pt x="14" y="12"/>
                      </a:lnTo>
                      <a:lnTo>
                        <a:pt x="32" y="0"/>
                      </a:lnTo>
                      <a:lnTo>
                        <a:pt x="108" y="174"/>
                      </a:lnTo>
                      <a:lnTo>
                        <a:pt x="131" y="190"/>
                      </a:lnTo>
                      <a:lnTo>
                        <a:pt x="126" y="206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254"/>
                <p:cNvSpPr/>
                <p:nvPr/>
              </p:nvSpPr>
              <p:spPr>
                <a:xfrm>
                  <a:off x="7118280" y="2770200"/>
                  <a:ext cx="208080" cy="40464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404640"/>
                    <a:gd name="textAreaBottom" fmla="*/ 405000 h 404640"/>
                  </a:gdLst>
                  <a:ahLst/>
                  <a:rect l="textAreaLeft" t="textAreaTop" r="textAreaRight" b="textAreaBottom"/>
                  <a:pathLst>
                    <a:path w="131" h="255">
                      <a:moveTo>
                        <a:pt x="126" y="206"/>
                      </a:moveTo>
                      <a:lnTo>
                        <a:pt x="99" y="230"/>
                      </a:lnTo>
                      <a:lnTo>
                        <a:pt x="18" y="255"/>
                      </a:lnTo>
                      <a:lnTo>
                        <a:pt x="0" y="150"/>
                      </a:lnTo>
                      <a:lnTo>
                        <a:pt x="5" y="146"/>
                      </a:lnTo>
                      <a:lnTo>
                        <a:pt x="18" y="72"/>
                      </a:lnTo>
                      <a:lnTo>
                        <a:pt x="14" y="57"/>
                      </a:lnTo>
                      <a:lnTo>
                        <a:pt x="14" y="12"/>
                      </a:lnTo>
                      <a:lnTo>
                        <a:pt x="32" y="0"/>
                      </a:lnTo>
                      <a:lnTo>
                        <a:pt x="108" y="174"/>
                      </a:lnTo>
                      <a:lnTo>
                        <a:pt x="131" y="190"/>
                      </a:lnTo>
                      <a:lnTo>
                        <a:pt x="126" y="206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Group 258"/>
              <p:cNvGrpSpPr/>
              <p:nvPr/>
            </p:nvGrpSpPr>
            <p:grpSpPr>
              <a:xfrm>
                <a:off x="6891480" y="2803680"/>
                <a:ext cx="220680" cy="403200"/>
                <a:chOff x="6891480" y="2803680"/>
                <a:chExt cx="220680" cy="403200"/>
              </a:xfrm>
            </p:grpSpPr>
            <p:sp>
              <p:nvSpPr>
                <p:cNvPr id="282" name="Freeform 256"/>
                <p:cNvSpPr/>
                <p:nvPr/>
              </p:nvSpPr>
              <p:spPr>
                <a:xfrm>
                  <a:off x="6891480" y="2803680"/>
                  <a:ext cx="220680" cy="4032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403200"/>
                    <a:gd name="textAreaBottom" fmla="*/ 403560 h 403200"/>
                  </a:gdLst>
                  <a:ahLst/>
                  <a:rect l="textAreaLeft" t="textAreaTop" r="textAreaRight" b="textAreaBottom"/>
                  <a:pathLst>
                    <a:path w="139" h="254">
                      <a:moveTo>
                        <a:pt x="116" y="24"/>
                      </a:moveTo>
                      <a:lnTo>
                        <a:pt x="0" y="60"/>
                      </a:lnTo>
                      <a:lnTo>
                        <a:pt x="89" y="254"/>
                      </a:lnTo>
                      <a:lnTo>
                        <a:pt x="134" y="237"/>
                      </a:lnTo>
                      <a:lnTo>
                        <a:pt x="116" y="133"/>
                      </a:lnTo>
                      <a:lnTo>
                        <a:pt x="116" y="129"/>
                      </a:lnTo>
                      <a:lnTo>
                        <a:pt x="139" y="56"/>
                      </a:lnTo>
                      <a:lnTo>
                        <a:pt x="134" y="44"/>
                      </a:lnTo>
                      <a:lnTo>
                        <a:pt x="134" y="0"/>
                      </a:lnTo>
                      <a:lnTo>
                        <a:pt x="116" y="2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57"/>
                <p:cNvSpPr/>
                <p:nvPr/>
              </p:nvSpPr>
              <p:spPr>
                <a:xfrm>
                  <a:off x="6891480" y="2803680"/>
                  <a:ext cx="220680" cy="403200"/>
                </a:xfrm>
                <a:custGeom>
                  <a:avLst/>
                  <a:gdLst>
                    <a:gd name="textAreaLeft" fmla="*/ 0 w 220680"/>
                    <a:gd name="textAreaRight" fmla="*/ 221040 w 220680"/>
                    <a:gd name="textAreaTop" fmla="*/ 0 h 403200"/>
                    <a:gd name="textAreaBottom" fmla="*/ 403560 h 403200"/>
                  </a:gdLst>
                  <a:ahLst/>
                  <a:rect l="textAreaLeft" t="textAreaTop" r="textAreaRight" b="textAreaBottom"/>
                  <a:pathLst>
                    <a:path w="139" h="254">
                      <a:moveTo>
                        <a:pt x="116" y="24"/>
                      </a:moveTo>
                      <a:lnTo>
                        <a:pt x="0" y="60"/>
                      </a:lnTo>
                      <a:lnTo>
                        <a:pt x="89" y="254"/>
                      </a:lnTo>
                      <a:lnTo>
                        <a:pt x="134" y="237"/>
                      </a:lnTo>
                      <a:lnTo>
                        <a:pt x="116" y="133"/>
                      </a:lnTo>
                      <a:lnTo>
                        <a:pt x="116" y="129"/>
                      </a:lnTo>
                      <a:lnTo>
                        <a:pt x="139" y="56"/>
                      </a:lnTo>
                      <a:lnTo>
                        <a:pt x="134" y="44"/>
                      </a:lnTo>
                      <a:lnTo>
                        <a:pt x="134" y="0"/>
                      </a:lnTo>
                      <a:lnTo>
                        <a:pt x="116" y="2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Group 261"/>
              <p:cNvGrpSpPr/>
              <p:nvPr/>
            </p:nvGrpSpPr>
            <p:grpSpPr>
              <a:xfrm>
                <a:off x="7040520" y="3135240"/>
                <a:ext cx="455760" cy="211320"/>
                <a:chOff x="7040520" y="3135240"/>
                <a:chExt cx="455760" cy="211320"/>
              </a:xfrm>
            </p:grpSpPr>
            <p:sp>
              <p:nvSpPr>
                <p:cNvPr id="285" name="Freeform 259"/>
                <p:cNvSpPr/>
                <p:nvPr/>
              </p:nvSpPr>
              <p:spPr>
                <a:xfrm>
                  <a:off x="7040520" y="3135240"/>
                  <a:ext cx="455760" cy="211320"/>
                </a:xfrm>
                <a:custGeom>
                  <a:avLst/>
                  <a:gdLst>
                    <a:gd name="textAreaLeft" fmla="*/ 0 w 455760"/>
                    <a:gd name="textAreaRight" fmla="*/ 456120 w 4557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87" h="133">
                      <a:moveTo>
                        <a:pt x="0" y="100"/>
                      </a:moveTo>
                      <a:lnTo>
                        <a:pt x="4" y="133"/>
                      </a:lnTo>
                      <a:lnTo>
                        <a:pt x="144" y="97"/>
                      </a:lnTo>
                      <a:lnTo>
                        <a:pt x="171" y="85"/>
                      </a:lnTo>
                      <a:lnTo>
                        <a:pt x="202" y="117"/>
                      </a:lnTo>
                      <a:lnTo>
                        <a:pt x="220" y="100"/>
                      </a:lnTo>
                      <a:lnTo>
                        <a:pt x="238" y="93"/>
                      </a:lnTo>
                      <a:lnTo>
                        <a:pt x="238" y="100"/>
                      </a:lnTo>
                      <a:lnTo>
                        <a:pt x="242" y="109"/>
                      </a:lnTo>
                      <a:lnTo>
                        <a:pt x="260" y="109"/>
                      </a:lnTo>
                      <a:lnTo>
                        <a:pt x="269" y="105"/>
                      </a:lnTo>
                      <a:lnTo>
                        <a:pt x="287" y="69"/>
                      </a:lnTo>
                      <a:lnTo>
                        <a:pt x="269" y="49"/>
                      </a:lnTo>
                      <a:lnTo>
                        <a:pt x="260" y="49"/>
                      </a:lnTo>
                      <a:lnTo>
                        <a:pt x="265" y="69"/>
                      </a:lnTo>
                      <a:lnTo>
                        <a:pt x="269" y="81"/>
                      </a:lnTo>
                      <a:lnTo>
                        <a:pt x="247" y="76"/>
                      </a:lnTo>
                      <a:lnTo>
                        <a:pt x="193" y="40"/>
                      </a:lnTo>
                      <a:lnTo>
                        <a:pt x="198" y="8"/>
                      </a:lnTo>
                      <a:lnTo>
                        <a:pt x="189" y="0"/>
                      </a:lnTo>
                      <a:lnTo>
                        <a:pt x="166" y="21"/>
                      </a:lnTo>
                      <a:lnTo>
                        <a:pt x="67" y="49"/>
                      </a:lnTo>
                      <a:lnTo>
                        <a:pt x="0" y="64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60"/>
                <p:cNvSpPr/>
                <p:nvPr/>
              </p:nvSpPr>
              <p:spPr>
                <a:xfrm>
                  <a:off x="7040520" y="3135240"/>
                  <a:ext cx="455760" cy="211320"/>
                </a:xfrm>
                <a:custGeom>
                  <a:avLst/>
                  <a:gdLst>
                    <a:gd name="textAreaLeft" fmla="*/ 0 w 455760"/>
                    <a:gd name="textAreaRight" fmla="*/ 456120 w 45576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87" h="133">
                      <a:moveTo>
                        <a:pt x="0" y="100"/>
                      </a:moveTo>
                      <a:lnTo>
                        <a:pt x="4" y="133"/>
                      </a:lnTo>
                      <a:lnTo>
                        <a:pt x="144" y="97"/>
                      </a:lnTo>
                      <a:lnTo>
                        <a:pt x="171" y="85"/>
                      </a:lnTo>
                      <a:lnTo>
                        <a:pt x="202" y="117"/>
                      </a:lnTo>
                      <a:lnTo>
                        <a:pt x="220" y="100"/>
                      </a:lnTo>
                      <a:lnTo>
                        <a:pt x="238" y="93"/>
                      </a:lnTo>
                      <a:lnTo>
                        <a:pt x="238" y="100"/>
                      </a:lnTo>
                      <a:lnTo>
                        <a:pt x="242" y="109"/>
                      </a:lnTo>
                      <a:lnTo>
                        <a:pt x="260" y="109"/>
                      </a:lnTo>
                      <a:lnTo>
                        <a:pt x="269" y="105"/>
                      </a:lnTo>
                      <a:lnTo>
                        <a:pt x="287" y="69"/>
                      </a:lnTo>
                      <a:lnTo>
                        <a:pt x="269" y="49"/>
                      </a:lnTo>
                      <a:lnTo>
                        <a:pt x="260" y="49"/>
                      </a:lnTo>
                      <a:lnTo>
                        <a:pt x="265" y="69"/>
                      </a:lnTo>
                      <a:lnTo>
                        <a:pt x="269" y="81"/>
                      </a:lnTo>
                      <a:lnTo>
                        <a:pt x="247" y="76"/>
                      </a:lnTo>
                      <a:lnTo>
                        <a:pt x="193" y="40"/>
                      </a:lnTo>
                      <a:lnTo>
                        <a:pt x="198" y="8"/>
                      </a:lnTo>
                      <a:lnTo>
                        <a:pt x="189" y="0"/>
                      </a:lnTo>
                      <a:lnTo>
                        <a:pt x="166" y="21"/>
                      </a:lnTo>
                      <a:lnTo>
                        <a:pt x="67" y="49"/>
                      </a:lnTo>
                      <a:lnTo>
                        <a:pt x="0" y="64"/>
                      </a:lnTo>
                      <a:lnTo>
                        <a:pt x="0" y="10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264"/>
              <p:cNvGrpSpPr/>
              <p:nvPr/>
            </p:nvGrpSpPr>
            <p:grpSpPr>
              <a:xfrm>
                <a:off x="7254720" y="3313080"/>
                <a:ext cx="92160" cy="104760"/>
                <a:chOff x="7254720" y="3313080"/>
                <a:chExt cx="92160" cy="104760"/>
              </a:xfrm>
            </p:grpSpPr>
            <p:sp>
              <p:nvSpPr>
                <p:cNvPr id="288" name="Freeform 262"/>
                <p:cNvSpPr/>
                <p:nvPr/>
              </p:nvSpPr>
              <p:spPr>
                <a:xfrm>
                  <a:off x="7254720" y="3313080"/>
                  <a:ext cx="92160" cy="1047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58" h="66">
                      <a:moveTo>
                        <a:pt x="13" y="54"/>
                      </a:moveTo>
                      <a:lnTo>
                        <a:pt x="18" y="66"/>
                      </a:lnTo>
                      <a:lnTo>
                        <a:pt x="58" y="33"/>
                      </a:ln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63"/>
                <p:cNvSpPr/>
                <p:nvPr/>
              </p:nvSpPr>
              <p:spPr>
                <a:xfrm>
                  <a:off x="7254720" y="3313080"/>
                  <a:ext cx="92160" cy="10476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04760"/>
                    <a:gd name="textAreaBottom" fmla="*/ 105120 h 104760"/>
                  </a:gdLst>
                  <a:ahLst/>
                  <a:rect l="textAreaLeft" t="textAreaTop" r="textAreaRight" b="textAreaBottom"/>
                  <a:pathLst>
                    <a:path w="58" h="66">
                      <a:moveTo>
                        <a:pt x="13" y="54"/>
                      </a:moveTo>
                      <a:lnTo>
                        <a:pt x="18" y="66"/>
                      </a:lnTo>
                      <a:lnTo>
                        <a:pt x="58" y="33"/>
                      </a:lnTo>
                      <a:lnTo>
                        <a:pt x="31" y="0"/>
                      </a:lnTo>
                      <a:lnTo>
                        <a:pt x="0" y="9"/>
                      </a:lnTo>
                      <a:lnTo>
                        <a:pt x="13" y="54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267"/>
              <p:cNvGrpSpPr/>
              <p:nvPr/>
            </p:nvGrpSpPr>
            <p:grpSpPr>
              <a:xfrm>
                <a:off x="7054920" y="3332160"/>
                <a:ext cx="191880" cy="142920"/>
                <a:chOff x="7054920" y="3332160"/>
                <a:chExt cx="191880" cy="142920"/>
              </a:xfrm>
            </p:grpSpPr>
            <p:sp>
              <p:nvSpPr>
                <p:cNvPr id="291" name="Freeform 265"/>
                <p:cNvSpPr/>
                <p:nvPr/>
              </p:nvSpPr>
              <p:spPr>
                <a:xfrm>
                  <a:off x="7054920" y="3332160"/>
                  <a:ext cx="191880" cy="14292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21" h="90">
                      <a:moveTo>
                        <a:pt x="103" y="0"/>
                      </a:moveTo>
                      <a:lnTo>
                        <a:pt x="117" y="50"/>
                      </a:lnTo>
                      <a:lnTo>
                        <a:pt x="121" y="62"/>
                      </a:lnTo>
                      <a:lnTo>
                        <a:pt x="117" y="66"/>
                      </a:lnTo>
                      <a:lnTo>
                        <a:pt x="54" y="82"/>
                      </a:lnTo>
                      <a:lnTo>
                        <a:pt x="31" y="90"/>
                      </a:lnTo>
                      <a:lnTo>
                        <a:pt x="18" y="86"/>
                      </a:lnTo>
                      <a:lnTo>
                        <a:pt x="4" y="66"/>
                      </a:lnTo>
                      <a:lnTo>
                        <a:pt x="0" y="29"/>
                      </a:lnTo>
                      <a:lnTo>
                        <a:pt x="103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66"/>
                <p:cNvSpPr/>
                <p:nvPr/>
              </p:nvSpPr>
              <p:spPr>
                <a:xfrm>
                  <a:off x="7054920" y="3332160"/>
                  <a:ext cx="191880" cy="142920"/>
                </a:xfrm>
                <a:custGeom>
                  <a:avLst/>
                  <a:gdLst>
                    <a:gd name="textAreaLeft" fmla="*/ 0 w 191880"/>
                    <a:gd name="textAreaRight" fmla="*/ 192240 w 19188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21" h="90">
                      <a:moveTo>
                        <a:pt x="103" y="0"/>
                      </a:moveTo>
                      <a:lnTo>
                        <a:pt x="117" y="50"/>
                      </a:lnTo>
                      <a:lnTo>
                        <a:pt x="121" y="62"/>
                      </a:lnTo>
                      <a:lnTo>
                        <a:pt x="117" y="66"/>
                      </a:lnTo>
                      <a:lnTo>
                        <a:pt x="54" y="82"/>
                      </a:lnTo>
                      <a:lnTo>
                        <a:pt x="31" y="90"/>
                      </a:lnTo>
                      <a:lnTo>
                        <a:pt x="18" y="86"/>
                      </a:lnTo>
                      <a:lnTo>
                        <a:pt x="4" y="66"/>
                      </a:lnTo>
                      <a:lnTo>
                        <a:pt x="0" y="29"/>
                      </a:lnTo>
                      <a:lnTo>
                        <a:pt x="103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270"/>
              <p:cNvGrpSpPr/>
              <p:nvPr/>
            </p:nvGrpSpPr>
            <p:grpSpPr>
              <a:xfrm>
                <a:off x="6264360" y="2911320"/>
                <a:ext cx="768240" cy="582840"/>
                <a:chOff x="6264360" y="2911320"/>
                <a:chExt cx="768240" cy="582840"/>
              </a:xfrm>
            </p:grpSpPr>
            <p:sp>
              <p:nvSpPr>
                <p:cNvPr id="294" name="Freeform 268"/>
                <p:cNvSpPr/>
                <p:nvPr/>
              </p:nvSpPr>
              <p:spPr>
                <a:xfrm>
                  <a:off x="6264360" y="2911320"/>
                  <a:ext cx="768240" cy="582840"/>
                </a:xfrm>
                <a:custGeom>
                  <a:avLst/>
                  <a:gdLst>
                    <a:gd name="textAreaLeft" fmla="*/ 0 w 768240"/>
                    <a:gd name="textAreaRight" fmla="*/ 768600 w 76824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484" h="367">
                      <a:moveTo>
                        <a:pt x="484" y="347"/>
                      </a:moveTo>
                      <a:lnTo>
                        <a:pt x="480" y="335"/>
                      </a:lnTo>
                      <a:lnTo>
                        <a:pt x="475" y="315"/>
                      </a:lnTo>
                      <a:lnTo>
                        <a:pt x="467" y="262"/>
                      </a:lnTo>
                      <a:lnTo>
                        <a:pt x="462" y="241"/>
                      </a:lnTo>
                      <a:lnTo>
                        <a:pt x="462" y="193"/>
                      </a:lnTo>
                      <a:lnTo>
                        <a:pt x="372" y="0"/>
                      </a:lnTo>
                      <a:lnTo>
                        <a:pt x="247" y="37"/>
                      </a:lnTo>
                      <a:lnTo>
                        <a:pt x="220" y="105"/>
                      </a:lnTo>
                      <a:lnTo>
                        <a:pt x="202" y="109"/>
                      </a:lnTo>
                      <a:lnTo>
                        <a:pt x="206" y="181"/>
                      </a:lnTo>
                      <a:lnTo>
                        <a:pt x="125" y="222"/>
                      </a:lnTo>
                      <a:lnTo>
                        <a:pt x="71" y="222"/>
                      </a:lnTo>
                      <a:lnTo>
                        <a:pt x="22" y="258"/>
                      </a:lnTo>
                      <a:lnTo>
                        <a:pt x="58" y="277"/>
                      </a:lnTo>
                      <a:lnTo>
                        <a:pt x="40" y="298"/>
                      </a:lnTo>
                      <a:lnTo>
                        <a:pt x="36" y="311"/>
                      </a:lnTo>
                      <a:lnTo>
                        <a:pt x="0" y="343"/>
                      </a:lnTo>
                      <a:lnTo>
                        <a:pt x="4" y="367"/>
                      </a:lnTo>
                      <a:lnTo>
                        <a:pt x="323" y="289"/>
                      </a:lnTo>
                      <a:lnTo>
                        <a:pt x="332" y="294"/>
                      </a:lnTo>
                      <a:lnTo>
                        <a:pt x="350" y="298"/>
                      </a:lnTo>
                      <a:lnTo>
                        <a:pt x="386" y="339"/>
                      </a:lnTo>
                      <a:lnTo>
                        <a:pt x="475" y="363"/>
                      </a:lnTo>
                      <a:lnTo>
                        <a:pt x="484" y="347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269"/>
                <p:cNvSpPr/>
                <p:nvPr/>
              </p:nvSpPr>
              <p:spPr>
                <a:xfrm>
                  <a:off x="6264360" y="2911320"/>
                  <a:ext cx="768240" cy="582840"/>
                </a:xfrm>
                <a:custGeom>
                  <a:avLst/>
                  <a:gdLst>
                    <a:gd name="textAreaLeft" fmla="*/ 0 w 768240"/>
                    <a:gd name="textAreaRight" fmla="*/ 768600 w 768240"/>
                    <a:gd name="textAreaTop" fmla="*/ 0 h 582840"/>
                    <a:gd name="textAreaBottom" fmla="*/ 583200 h 582840"/>
                  </a:gdLst>
                  <a:ahLst/>
                  <a:rect l="textAreaLeft" t="textAreaTop" r="textAreaRight" b="textAreaBottom"/>
                  <a:pathLst>
                    <a:path w="484" h="367">
                      <a:moveTo>
                        <a:pt x="484" y="347"/>
                      </a:moveTo>
                      <a:lnTo>
                        <a:pt x="480" y="335"/>
                      </a:lnTo>
                      <a:lnTo>
                        <a:pt x="475" y="315"/>
                      </a:lnTo>
                      <a:lnTo>
                        <a:pt x="467" y="262"/>
                      </a:lnTo>
                      <a:lnTo>
                        <a:pt x="462" y="241"/>
                      </a:lnTo>
                      <a:lnTo>
                        <a:pt x="462" y="193"/>
                      </a:lnTo>
                      <a:lnTo>
                        <a:pt x="372" y="0"/>
                      </a:lnTo>
                      <a:lnTo>
                        <a:pt x="247" y="37"/>
                      </a:lnTo>
                      <a:lnTo>
                        <a:pt x="220" y="105"/>
                      </a:lnTo>
                      <a:lnTo>
                        <a:pt x="202" y="109"/>
                      </a:lnTo>
                      <a:lnTo>
                        <a:pt x="206" y="181"/>
                      </a:lnTo>
                      <a:lnTo>
                        <a:pt x="125" y="222"/>
                      </a:lnTo>
                      <a:lnTo>
                        <a:pt x="71" y="222"/>
                      </a:lnTo>
                      <a:lnTo>
                        <a:pt x="22" y="258"/>
                      </a:lnTo>
                      <a:lnTo>
                        <a:pt x="58" y="277"/>
                      </a:lnTo>
                      <a:lnTo>
                        <a:pt x="40" y="298"/>
                      </a:lnTo>
                      <a:lnTo>
                        <a:pt x="36" y="311"/>
                      </a:lnTo>
                      <a:lnTo>
                        <a:pt x="0" y="343"/>
                      </a:lnTo>
                      <a:lnTo>
                        <a:pt x="4" y="367"/>
                      </a:lnTo>
                      <a:lnTo>
                        <a:pt x="323" y="289"/>
                      </a:lnTo>
                      <a:lnTo>
                        <a:pt x="332" y="294"/>
                      </a:lnTo>
                      <a:lnTo>
                        <a:pt x="350" y="298"/>
                      </a:lnTo>
                      <a:lnTo>
                        <a:pt x="386" y="339"/>
                      </a:lnTo>
                      <a:lnTo>
                        <a:pt x="475" y="363"/>
                      </a:lnTo>
                      <a:lnTo>
                        <a:pt x="484" y="347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Group 273"/>
              <p:cNvGrpSpPr/>
              <p:nvPr/>
            </p:nvGrpSpPr>
            <p:grpSpPr>
              <a:xfrm>
                <a:off x="7054920" y="3475080"/>
                <a:ext cx="199800" cy="114120"/>
                <a:chOff x="7054920" y="3475080"/>
                <a:chExt cx="199800" cy="114120"/>
              </a:xfrm>
            </p:grpSpPr>
            <p:sp>
              <p:nvSpPr>
                <p:cNvPr id="297" name="Freeform 271"/>
                <p:cNvSpPr/>
                <p:nvPr/>
              </p:nvSpPr>
              <p:spPr>
                <a:xfrm>
                  <a:off x="7054920" y="3475080"/>
                  <a:ext cx="199800" cy="11412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126" h="72">
                      <a:moveTo>
                        <a:pt x="0" y="72"/>
                      </a:moveTo>
                      <a:lnTo>
                        <a:pt x="9" y="60"/>
                      </a:lnTo>
                      <a:lnTo>
                        <a:pt x="54" y="20"/>
                      </a:lnTo>
                      <a:lnTo>
                        <a:pt x="76" y="20"/>
                      </a:lnTo>
                      <a:lnTo>
                        <a:pt x="90" y="8"/>
                      </a:lnTo>
                      <a:lnTo>
                        <a:pt x="126" y="0"/>
                      </a:lnTo>
                      <a:lnTo>
                        <a:pt x="72" y="52"/>
                      </a:lnTo>
                      <a:lnTo>
                        <a:pt x="45" y="6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272"/>
                <p:cNvSpPr/>
                <p:nvPr/>
              </p:nvSpPr>
              <p:spPr>
                <a:xfrm>
                  <a:off x="7054920" y="3475080"/>
                  <a:ext cx="199800" cy="114120"/>
                </a:xfrm>
                <a:custGeom>
                  <a:avLst/>
                  <a:gdLst>
                    <a:gd name="textAreaLeft" fmla="*/ 0 w 199800"/>
                    <a:gd name="textAreaRight" fmla="*/ 200160 w 199800"/>
                    <a:gd name="textAreaTop" fmla="*/ 0 h 114120"/>
                    <a:gd name="textAreaBottom" fmla="*/ 114480 h 114120"/>
                  </a:gdLst>
                  <a:ahLst/>
                  <a:rect l="textAreaLeft" t="textAreaTop" r="textAreaRight" b="textAreaBottom"/>
                  <a:pathLst>
                    <a:path w="126" h="72">
                      <a:moveTo>
                        <a:pt x="0" y="72"/>
                      </a:moveTo>
                      <a:lnTo>
                        <a:pt x="9" y="60"/>
                      </a:lnTo>
                      <a:lnTo>
                        <a:pt x="54" y="20"/>
                      </a:lnTo>
                      <a:lnTo>
                        <a:pt x="76" y="20"/>
                      </a:lnTo>
                      <a:lnTo>
                        <a:pt x="90" y="8"/>
                      </a:lnTo>
                      <a:lnTo>
                        <a:pt x="126" y="0"/>
                      </a:lnTo>
                      <a:lnTo>
                        <a:pt x="72" y="52"/>
                      </a:lnTo>
                      <a:lnTo>
                        <a:pt x="45" y="60"/>
                      </a:lnTo>
                      <a:lnTo>
                        <a:pt x="0" y="7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276"/>
              <p:cNvGrpSpPr/>
              <p:nvPr/>
            </p:nvGrpSpPr>
            <p:grpSpPr>
              <a:xfrm>
                <a:off x="6869160" y="3487680"/>
                <a:ext cx="163440" cy="338040"/>
                <a:chOff x="6869160" y="3487680"/>
                <a:chExt cx="163440" cy="338040"/>
              </a:xfrm>
            </p:grpSpPr>
            <p:sp>
              <p:nvSpPr>
                <p:cNvPr id="300" name="Freeform 274"/>
                <p:cNvSpPr/>
                <p:nvPr/>
              </p:nvSpPr>
              <p:spPr>
                <a:xfrm>
                  <a:off x="6869160" y="3487680"/>
                  <a:ext cx="163440" cy="33804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338040"/>
                    <a:gd name="textAreaBottom" fmla="*/ 338400 h 338040"/>
                  </a:gdLst>
                  <a:ahLst/>
                  <a:rect l="textAreaLeft" t="textAreaTop" r="textAreaRight" b="textAreaBottom"/>
                  <a:pathLst>
                    <a:path w="103" h="213">
                      <a:moveTo>
                        <a:pt x="90" y="32"/>
                      </a:moveTo>
                      <a:lnTo>
                        <a:pt x="86" y="48"/>
                      </a:lnTo>
                      <a:lnTo>
                        <a:pt x="81" y="64"/>
                      </a:lnTo>
                      <a:lnTo>
                        <a:pt x="94" y="80"/>
                      </a:lnTo>
                      <a:lnTo>
                        <a:pt x="103" y="88"/>
                      </a:lnTo>
                      <a:lnTo>
                        <a:pt x="81" y="213"/>
                      </a:lnTo>
                      <a:lnTo>
                        <a:pt x="54" y="196"/>
                      </a:lnTo>
                      <a:lnTo>
                        <a:pt x="27" y="189"/>
                      </a:lnTo>
                      <a:lnTo>
                        <a:pt x="18" y="181"/>
                      </a:lnTo>
                      <a:lnTo>
                        <a:pt x="14" y="172"/>
                      </a:lnTo>
                      <a:lnTo>
                        <a:pt x="14" y="153"/>
                      </a:lnTo>
                      <a:lnTo>
                        <a:pt x="50" y="112"/>
                      </a:lnTo>
                      <a:lnTo>
                        <a:pt x="5" y="68"/>
                      </a:lnTo>
                      <a:lnTo>
                        <a:pt x="14" y="52"/>
                      </a:lnTo>
                      <a:lnTo>
                        <a:pt x="0" y="24"/>
                      </a:lnTo>
                      <a:lnTo>
                        <a:pt x="14" y="0"/>
                      </a:lnTo>
                      <a:lnTo>
                        <a:pt x="94" y="28"/>
                      </a:lnTo>
                      <a:lnTo>
                        <a:pt x="90" y="32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275"/>
                <p:cNvSpPr/>
                <p:nvPr/>
              </p:nvSpPr>
              <p:spPr>
                <a:xfrm>
                  <a:off x="6869160" y="3487680"/>
                  <a:ext cx="163440" cy="33804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338040"/>
                    <a:gd name="textAreaBottom" fmla="*/ 338400 h 338040"/>
                  </a:gdLst>
                  <a:ahLst/>
                  <a:rect l="textAreaLeft" t="textAreaTop" r="textAreaRight" b="textAreaBottom"/>
                  <a:pathLst>
                    <a:path w="103" h="213">
                      <a:moveTo>
                        <a:pt x="90" y="32"/>
                      </a:moveTo>
                      <a:lnTo>
                        <a:pt x="86" y="48"/>
                      </a:lnTo>
                      <a:lnTo>
                        <a:pt x="81" y="64"/>
                      </a:lnTo>
                      <a:lnTo>
                        <a:pt x="94" y="80"/>
                      </a:lnTo>
                      <a:lnTo>
                        <a:pt x="103" y="88"/>
                      </a:lnTo>
                      <a:lnTo>
                        <a:pt x="81" y="213"/>
                      </a:lnTo>
                      <a:lnTo>
                        <a:pt x="54" y="196"/>
                      </a:lnTo>
                      <a:lnTo>
                        <a:pt x="27" y="189"/>
                      </a:lnTo>
                      <a:lnTo>
                        <a:pt x="18" y="181"/>
                      </a:lnTo>
                      <a:lnTo>
                        <a:pt x="14" y="172"/>
                      </a:lnTo>
                      <a:lnTo>
                        <a:pt x="14" y="153"/>
                      </a:lnTo>
                      <a:lnTo>
                        <a:pt x="50" y="112"/>
                      </a:lnTo>
                      <a:lnTo>
                        <a:pt x="5" y="68"/>
                      </a:lnTo>
                      <a:lnTo>
                        <a:pt x="14" y="52"/>
                      </a:lnTo>
                      <a:lnTo>
                        <a:pt x="0" y="24"/>
                      </a:lnTo>
                      <a:lnTo>
                        <a:pt x="14" y="0"/>
                      </a:lnTo>
                      <a:lnTo>
                        <a:pt x="94" y="28"/>
                      </a:lnTo>
                      <a:lnTo>
                        <a:pt x="90" y="32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279"/>
              <p:cNvGrpSpPr/>
              <p:nvPr/>
            </p:nvGrpSpPr>
            <p:grpSpPr>
              <a:xfrm>
                <a:off x="6156360" y="3417840"/>
                <a:ext cx="741240" cy="460440"/>
                <a:chOff x="6156360" y="3417840"/>
                <a:chExt cx="741240" cy="460440"/>
              </a:xfrm>
            </p:grpSpPr>
            <p:sp>
              <p:nvSpPr>
                <p:cNvPr id="303" name="Freeform 277"/>
                <p:cNvSpPr/>
                <p:nvPr/>
              </p:nvSpPr>
              <p:spPr>
                <a:xfrm>
                  <a:off x="6156360" y="3417840"/>
                  <a:ext cx="741240" cy="460440"/>
                </a:xfrm>
                <a:custGeom>
                  <a:avLst/>
                  <a:gdLst>
                    <a:gd name="textAreaLeft" fmla="*/ 0 w 741240"/>
                    <a:gd name="textAreaRight" fmla="*/ 741600 w 74124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467" h="290">
                      <a:moveTo>
                        <a:pt x="413" y="209"/>
                      </a:moveTo>
                      <a:lnTo>
                        <a:pt x="413" y="189"/>
                      </a:lnTo>
                      <a:lnTo>
                        <a:pt x="440" y="189"/>
                      </a:lnTo>
                      <a:lnTo>
                        <a:pt x="467" y="156"/>
                      </a:lnTo>
                      <a:lnTo>
                        <a:pt x="422" y="112"/>
                      </a:lnTo>
                      <a:lnTo>
                        <a:pt x="440" y="96"/>
                      </a:lnTo>
                      <a:lnTo>
                        <a:pt x="422" y="68"/>
                      </a:lnTo>
                      <a:lnTo>
                        <a:pt x="440" y="36"/>
                      </a:lnTo>
                      <a:lnTo>
                        <a:pt x="409" y="0"/>
                      </a:lnTo>
                      <a:lnTo>
                        <a:pt x="382" y="0"/>
                      </a:lnTo>
                      <a:lnTo>
                        <a:pt x="50" y="76"/>
                      </a:lnTo>
                      <a:lnTo>
                        <a:pt x="45" y="52"/>
                      </a:lnTo>
                      <a:lnTo>
                        <a:pt x="0" y="96"/>
                      </a:lnTo>
                      <a:lnTo>
                        <a:pt x="23" y="197"/>
                      </a:lnTo>
                      <a:lnTo>
                        <a:pt x="36" y="213"/>
                      </a:lnTo>
                      <a:lnTo>
                        <a:pt x="59" y="261"/>
                      </a:lnTo>
                      <a:lnTo>
                        <a:pt x="59" y="278"/>
                      </a:lnTo>
                      <a:lnTo>
                        <a:pt x="68" y="290"/>
                      </a:lnTo>
                      <a:lnTo>
                        <a:pt x="148" y="273"/>
                      </a:lnTo>
                      <a:lnTo>
                        <a:pt x="413" y="209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278"/>
                <p:cNvSpPr/>
                <p:nvPr/>
              </p:nvSpPr>
              <p:spPr>
                <a:xfrm>
                  <a:off x="6156360" y="3417840"/>
                  <a:ext cx="741240" cy="460440"/>
                </a:xfrm>
                <a:custGeom>
                  <a:avLst/>
                  <a:gdLst>
                    <a:gd name="textAreaLeft" fmla="*/ 0 w 741240"/>
                    <a:gd name="textAreaRight" fmla="*/ 741600 w 741240"/>
                    <a:gd name="textAreaTop" fmla="*/ 0 h 460440"/>
                    <a:gd name="textAreaBottom" fmla="*/ 460800 h 460440"/>
                  </a:gdLst>
                  <a:ahLst/>
                  <a:rect l="textAreaLeft" t="textAreaTop" r="textAreaRight" b="textAreaBottom"/>
                  <a:pathLst>
                    <a:path w="467" h="290">
                      <a:moveTo>
                        <a:pt x="413" y="209"/>
                      </a:moveTo>
                      <a:lnTo>
                        <a:pt x="413" y="189"/>
                      </a:lnTo>
                      <a:lnTo>
                        <a:pt x="440" y="189"/>
                      </a:lnTo>
                      <a:lnTo>
                        <a:pt x="467" y="156"/>
                      </a:lnTo>
                      <a:lnTo>
                        <a:pt x="422" y="112"/>
                      </a:lnTo>
                      <a:lnTo>
                        <a:pt x="440" y="96"/>
                      </a:lnTo>
                      <a:lnTo>
                        <a:pt x="422" y="68"/>
                      </a:lnTo>
                      <a:lnTo>
                        <a:pt x="440" y="36"/>
                      </a:lnTo>
                      <a:lnTo>
                        <a:pt x="409" y="0"/>
                      </a:lnTo>
                      <a:lnTo>
                        <a:pt x="382" y="0"/>
                      </a:lnTo>
                      <a:lnTo>
                        <a:pt x="50" y="76"/>
                      </a:lnTo>
                      <a:lnTo>
                        <a:pt x="45" y="52"/>
                      </a:lnTo>
                      <a:lnTo>
                        <a:pt x="0" y="96"/>
                      </a:lnTo>
                      <a:lnTo>
                        <a:pt x="23" y="197"/>
                      </a:lnTo>
                      <a:lnTo>
                        <a:pt x="36" y="213"/>
                      </a:lnTo>
                      <a:lnTo>
                        <a:pt x="59" y="261"/>
                      </a:lnTo>
                      <a:lnTo>
                        <a:pt x="59" y="278"/>
                      </a:lnTo>
                      <a:lnTo>
                        <a:pt x="68" y="290"/>
                      </a:lnTo>
                      <a:lnTo>
                        <a:pt x="148" y="273"/>
                      </a:lnTo>
                      <a:lnTo>
                        <a:pt x="413" y="209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282"/>
              <p:cNvGrpSpPr/>
              <p:nvPr/>
            </p:nvGrpSpPr>
            <p:grpSpPr>
              <a:xfrm>
                <a:off x="6405480" y="3787920"/>
                <a:ext cx="563760" cy="261720"/>
                <a:chOff x="6405480" y="3787920"/>
                <a:chExt cx="563760" cy="261720"/>
              </a:xfrm>
            </p:grpSpPr>
            <p:sp>
              <p:nvSpPr>
                <p:cNvPr id="306" name="Freeform 280"/>
                <p:cNvSpPr/>
                <p:nvPr/>
              </p:nvSpPr>
              <p:spPr>
                <a:xfrm>
                  <a:off x="6405480" y="3787920"/>
                  <a:ext cx="563760" cy="26172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355" h="165">
                      <a:moveTo>
                        <a:pt x="355" y="125"/>
                      </a:moveTo>
                      <a:lnTo>
                        <a:pt x="328" y="153"/>
                      </a:lnTo>
                      <a:lnTo>
                        <a:pt x="292" y="165"/>
                      </a:lnTo>
                      <a:lnTo>
                        <a:pt x="279" y="145"/>
                      </a:lnTo>
                      <a:lnTo>
                        <a:pt x="265" y="145"/>
                      </a:lnTo>
                      <a:lnTo>
                        <a:pt x="252" y="125"/>
                      </a:lnTo>
                      <a:lnTo>
                        <a:pt x="252" y="121"/>
                      </a:lnTo>
                      <a:lnTo>
                        <a:pt x="229" y="40"/>
                      </a:lnTo>
                      <a:lnTo>
                        <a:pt x="234" y="24"/>
                      </a:lnTo>
                      <a:lnTo>
                        <a:pt x="220" y="36"/>
                      </a:lnTo>
                      <a:lnTo>
                        <a:pt x="229" y="65"/>
                      </a:lnTo>
                      <a:lnTo>
                        <a:pt x="220" y="93"/>
                      </a:lnTo>
                      <a:lnTo>
                        <a:pt x="243" y="121"/>
                      </a:lnTo>
                      <a:lnTo>
                        <a:pt x="243" y="133"/>
                      </a:lnTo>
                      <a:lnTo>
                        <a:pt x="252" y="141"/>
                      </a:lnTo>
                      <a:lnTo>
                        <a:pt x="252" y="157"/>
                      </a:lnTo>
                      <a:lnTo>
                        <a:pt x="193" y="145"/>
                      </a:lnTo>
                      <a:lnTo>
                        <a:pt x="193" y="89"/>
                      </a:lnTo>
                      <a:lnTo>
                        <a:pt x="131" y="77"/>
                      </a:lnTo>
                      <a:lnTo>
                        <a:pt x="126" y="45"/>
                      </a:lnTo>
                      <a:lnTo>
                        <a:pt x="104" y="36"/>
                      </a:lnTo>
                      <a:lnTo>
                        <a:pt x="72" y="45"/>
                      </a:lnTo>
                      <a:lnTo>
                        <a:pt x="0" y="85"/>
                      </a:lnTo>
                      <a:lnTo>
                        <a:pt x="0" y="61"/>
                      </a:lnTo>
                      <a:lnTo>
                        <a:pt x="261" y="0"/>
                      </a:lnTo>
                      <a:lnTo>
                        <a:pt x="306" y="121"/>
                      </a:lnTo>
                      <a:lnTo>
                        <a:pt x="351" y="105"/>
                      </a:lnTo>
                      <a:lnTo>
                        <a:pt x="355" y="12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81"/>
                <p:cNvSpPr/>
                <p:nvPr/>
              </p:nvSpPr>
              <p:spPr>
                <a:xfrm>
                  <a:off x="6405480" y="3787920"/>
                  <a:ext cx="563760" cy="26172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355" h="165">
                      <a:moveTo>
                        <a:pt x="355" y="125"/>
                      </a:moveTo>
                      <a:lnTo>
                        <a:pt x="328" y="153"/>
                      </a:lnTo>
                      <a:lnTo>
                        <a:pt x="292" y="165"/>
                      </a:lnTo>
                      <a:lnTo>
                        <a:pt x="279" y="145"/>
                      </a:lnTo>
                      <a:lnTo>
                        <a:pt x="265" y="145"/>
                      </a:lnTo>
                      <a:lnTo>
                        <a:pt x="252" y="125"/>
                      </a:lnTo>
                      <a:lnTo>
                        <a:pt x="252" y="121"/>
                      </a:lnTo>
                      <a:lnTo>
                        <a:pt x="229" y="40"/>
                      </a:lnTo>
                      <a:lnTo>
                        <a:pt x="234" y="24"/>
                      </a:lnTo>
                      <a:lnTo>
                        <a:pt x="220" y="36"/>
                      </a:lnTo>
                      <a:lnTo>
                        <a:pt x="229" y="65"/>
                      </a:lnTo>
                      <a:lnTo>
                        <a:pt x="220" y="93"/>
                      </a:lnTo>
                      <a:lnTo>
                        <a:pt x="243" y="121"/>
                      </a:lnTo>
                      <a:lnTo>
                        <a:pt x="243" y="133"/>
                      </a:lnTo>
                      <a:lnTo>
                        <a:pt x="252" y="141"/>
                      </a:lnTo>
                      <a:lnTo>
                        <a:pt x="252" y="157"/>
                      </a:lnTo>
                      <a:lnTo>
                        <a:pt x="193" y="145"/>
                      </a:lnTo>
                      <a:lnTo>
                        <a:pt x="193" y="89"/>
                      </a:lnTo>
                      <a:lnTo>
                        <a:pt x="131" y="77"/>
                      </a:lnTo>
                      <a:lnTo>
                        <a:pt x="126" y="45"/>
                      </a:lnTo>
                      <a:lnTo>
                        <a:pt x="104" y="36"/>
                      </a:lnTo>
                      <a:lnTo>
                        <a:pt x="72" y="45"/>
                      </a:lnTo>
                      <a:lnTo>
                        <a:pt x="0" y="85"/>
                      </a:lnTo>
                      <a:lnTo>
                        <a:pt x="0" y="61"/>
                      </a:lnTo>
                      <a:lnTo>
                        <a:pt x="261" y="0"/>
                      </a:lnTo>
                      <a:lnTo>
                        <a:pt x="306" y="121"/>
                      </a:lnTo>
                      <a:lnTo>
                        <a:pt x="351" y="105"/>
                      </a:lnTo>
                      <a:lnTo>
                        <a:pt x="355" y="12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285"/>
              <p:cNvGrpSpPr/>
              <p:nvPr/>
            </p:nvGrpSpPr>
            <p:grpSpPr>
              <a:xfrm>
                <a:off x="6840360" y="3749760"/>
                <a:ext cx="136800" cy="185760"/>
                <a:chOff x="6840360" y="3749760"/>
                <a:chExt cx="136800" cy="185760"/>
              </a:xfrm>
            </p:grpSpPr>
            <p:sp>
              <p:nvSpPr>
                <p:cNvPr id="309" name="Freeform 283"/>
                <p:cNvSpPr/>
                <p:nvPr/>
              </p:nvSpPr>
              <p:spPr>
                <a:xfrm>
                  <a:off x="6840360" y="3749760"/>
                  <a:ext cx="136800" cy="18576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6" h="117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5" y="117"/>
                      </a:lnTo>
                      <a:lnTo>
                        <a:pt x="86" y="105"/>
                      </a:lnTo>
                      <a:lnTo>
                        <a:pt x="36" y="48"/>
                      </a:lnTo>
                      <a:lnTo>
                        <a:pt x="32" y="40"/>
                      </a:lnTo>
                      <a:lnTo>
                        <a:pt x="18" y="2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84"/>
                <p:cNvSpPr/>
                <p:nvPr/>
              </p:nvSpPr>
              <p:spPr>
                <a:xfrm>
                  <a:off x="6840360" y="3749760"/>
                  <a:ext cx="136800" cy="185760"/>
                </a:xfrm>
                <a:custGeom>
                  <a:avLst/>
                  <a:gdLst>
                    <a:gd name="textAreaLeft" fmla="*/ 0 w 136800"/>
                    <a:gd name="textAreaRight" fmla="*/ 137160 w 1368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6" h="117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45" y="117"/>
                      </a:lnTo>
                      <a:lnTo>
                        <a:pt x="86" y="105"/>
                      </a:lnTo>
                      <a:lnTo>
                        <a:pt x="36" y="48"/>
                      </a:lnTo>
                      <a:lnTo>
                        <a:pt x="32" y="40"/>
                      </a:lnTo>
                      <a:lnTo>
                        <a:pt x="18" y="24"/>
                      </a:lnTo>
                      <a:lnTo>
                        <a:pt x="14" y="7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Group 288"/>
              <p:cNvGrpSpPr/>
              <p:nvPr/>
            </p:nvGrpSpPr>
            <p:grpSpPr>
              <a:xfrm>
                <a:off x="6883560" y="4062240"/>
                <a:ext cx="56880" cy="115920"/>
                <a:chOff x="6883560" y="4062240"/>
                <a:chExt cx="56880" cy="115920"/>
              </a:xfrm>
            </p:grpSpPr>
            <p:sp>
              <p:nvSpPr>
                <p:cNvPr id="312" name="Freeform 286"/>
                <p:cNvSpPr/>
                <p:nvPr/>
              </p:nvSpPr>
              <p:spPr>
                <a:xfrm>
                  <a:off x="6883560" y="4062240"/>
                  <a:ext cx="56880" cy="115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36" h="73">
                      <a:moveTo>
                        <a:pt x="27" y="65"/>
                      </a:moveTo>
                      <a:lnTo>
                        <a:pt x="18" y="73"/>
                      </a:ln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87"/>
                <p:cNvSpPr/>
                <p:nvPr/>
              </p:nvSpPr>
              <p:spPr>
                <a:xfrm>
                  <a:off x="6883560" y="4062240"/>
                  <a:ext cx="56880" cy="115920"/>
                </a:xfrm>
                <a:custGeom>
                  <a:avLst/>
                  <a:gdLst>
                    <a:gd name="textAreaLeft" fmla="*/ 0 w 56880"/>
                    <a:gd name="textAreaRight" fmla="*/ 57240 w 5688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36" h="73">
                      <a:moveTo>
                        <a:pt x="27" y="65"/>
                      </a:moveTo>
                      <a:lnTo>
                        <a:pt x="18" y="73"/>
                      </a:lnTo>
                      <a:lnTo>
                        <a:pt x="0" y="12"/>
                      </a:lnTo>
                      <a:lnTo>
                        <a:pt x="36" y="0"/>
                      </a:lnTo>
                      <a:lnTo>
                        <a:pt x="27" y="6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291"/>
              <p:cNvGrpSpPr/>
              <p:nvPr/>
            </p:nvGrpSpPr>
            <p:grpSpPr>
              <a:xfrm>
                <a:off x="5972040" y="3948120"/>
                <a:ext cx="905040" cy="485640"/>
                <a:chOff x="5972040" y="3948120"/>
                <a:chExt cx="905040" cy="485640"/>
              </a:xfrm>
            </p:grpSpPr>
            <p:sp>
              <p:nvSpPr>
                <p:cNvPr id="315" name="Freeform 289"/>
                <p:cNvSpPr/>
                <p:nvPr/>
              </p:nvSpPr>
              <p:spPr>
                <a:xfrm>
                  <a:off x="5972040" y="3948120"/>
                  <a:ext cx="905040" cy="48564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70" h="306">
                      <a:moveTo>
                        <a:pt x="543" y="133"/>
                      </a:moveTo>
                      <a:lnTo>
                        <a:pt x="543" y="164"/>
                      </a:lnTo>
                      <a:lnTo>
                        <a:pt x="561" y="169"/>
                      </a:lnTo>
                      <a:lnTo>
                        <a:pt x="570" y="197"/>
                      </a:lnTo>
                      <a:lnTo>
                        <a:pt x="359" y="254"/>
                      </a:lnTo>
                      <a:lnTo>
                        <a:pt x="0" y="306"/>
                      </a:lnTo>
                      <a:lnTo>
                        <a:pt x="76" y="246"/>
                      </a:lnTo>
                      <a:lnTo>
                        <a:pt x="89" y="217"/>
                      </a:lnTo>
                      <a:lnTo>
                        <a:pt x="130" y="246"/>
                      </a:lnTo>
                      <a:lnTo>
                        <a:pt x="224" y="181"/>
                      </a:lnTo>
                      <a:lnTo>
                        <a:pt x="242" y="133"/>
                      </a:lnTo>
                      <a:lnTo>
                        <a:pt x="255" y="92"/>
                      </a:lnTo>
                      <a:lnTo>
                        <a:pt x="300" y="104"/>
                      </a:lnTo>
                      <a:lnTo>
                        <a:pt x="309" y="64"/>
                      </a:lnTo>
                      <a:lnTo>
                        <a:pt x="332" y="68"/>
                      </a:lnTo>
                      <a:lnTo>
                        <a:pt x="354" y="8"/>
                      </a:lnTo>
                      <a:lnTo>
                        <a:pt x="381" y="20"/>
                      </a:lnTo>
                      <a:lnTo>
                        <a:pt x="395" y="8"/>
                      </a:lnTo>
                      <a:lnTo>
                        <a:pt x="399" y="0"/>
                      </a:lnTo>
                      <a:lnTo>
                        <a:pt x="444" y="4"/>
                      </a:lnTo>
                      <a:lnTo>
                        <a:pt x="444" y="56"/>
                      </a:lnTo>
                      <a:lnTo>
                        <a:pt x="529" y="76"/>
                      </a:lnTo>
                      <a:lnTo>
                        <a:pt x="543" y="133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290"/>
                <p:cNvSpPr/>
                <p:nvPr/>
              </p:nvSpPr>
              <p:spPr>
                <a:xfrm>
                  <a:off x="5972040" y="3948120"/>
                  <a:ext cx="905040" cy="485640"/>
                </a:xfrm>
                <a:custGeom>
                  <a:avLst/>
                  <a:gdLst>
                    <a:gd name="textAreaLeft" fmla="*/ 0 w 905040"/>
                    <a:gd name="textAreaRight" fmla="*/ 905400 w 905040"/>
                    <a:gd name="textAreaTop" fmla="*/ 0 h 485640"/>
                    <a:gd name="textAreaBottom" fmla="*/ 486000 h 485640"/>
                  </a:gdLst>
                  <a:ahLst/>
                  <a:rect l="textAreaLeft" t="textAreaTop" r="textAreaRight" b="textAreaBottom"/>
                  <a:pathLst>
                    <a:path w="570" h="306">
                      <a:moveTo>
                        <a:pt x="543" y="133"/>
                      </a:moveTo>
                      <a:lnTo>
                        <a:pt x="543" y="164"/>
                      </a:lnTo>
                      <a:lnTo>
                        <a:pt x="561" y="169"/>
                      </a:lnTo>
                      <a:lnTo>
                        <a:pt x="570" y="197"/>
                      </a:lnTo>
                      <a:lnTo>
                        <a:pt x="359" y="254"/>
                      </a:lnTo>
                      <a:lnTo>
                        <a:pt x="0" y="306"/>
                      </a:lnTo>
                      <a:lnTo>
                        <a:pt x="76" y="246"/>
                      </a:lnTo>
                      <a:lnTo>
                        <a:pt x="89" y="217"/>
                      </a:lnTo>
                      <a:lnTo>
                        <a:pt x="130" y="246"/>
                      </a:lnTo>
                      <a:lnTo>
                        <a:pt x="224" y="181"/>
                      </a:lnTo>
                      <a:lnTo>
                        <a:pt x="242" y="133"/>
                      </a:lnTo>
                      <a:lnTo>
                        <a:pt x="255" y="92"/>
                      </a:lnTo>
                      <a:lnTo>
                        <a:pt x="300" y="104"/>
                      </a:lnTo>
                      <a:lnTo>
                        <a:pt x="309" y="64"/>
                      </a:lnTo>
                      <a:lnTo>
                        <a:pt x="332" y="68"/>
                      </a:lnTo>
                      <a:lnTo>
                        <a:pt x="354" y="8"/>
                      </a:lnTo>
                      <a:lnTo>
                        <a:pt x="381" y="20"/>
                      </a:lnTo>
                      <a:lnTo>
                        <a:pt x="395" y="8"/>
                      </a:lnTo>
                      <a:lnTo>
                        <a:pt x="399" y="0"/>
                      </a:lnTo>
                      <a:lnTo>
                        <a:pt x="444" y="4"/>
                      </a:lnTo>
                      <a:lnTo>
                        <a:pt x="444" y="56"/>
                      </a:lnTo>
                      <a:lnTo>
                        <a:pt x="529" y="76"/>
                      </a:lnTo>
                      <a:lnTo>
                        <a:pt x="543" y="1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Group 294"/>
              <p:cNvGrpSpPr/>
              <p:nvPr/>
            </p:nvGrpSpPr>
            <p:grpSpPr>
              <a:xfrm>
                <a:off x="5886360" y="4299120"/>
                <a:ext cx="1040040" cy="460080"/>
                <a:chOff x="5886360" y="4299120"/>
                <a:chExt cx="1040040" cy="460080"/>
              </a:xfrm>
            </p:grpSpPr>
            <p:sp>
              <p:nvSpPr>
                <p:cNvPr id="318" name="Freeform 292"/>
                <p:cNvSpPr/>
                <p:nvPr/>
              </p:nvSpPr>
              <p:spPr>
                <a:xfrm>
                  <a:off x="5886360" y="4299120"/>
                  <a:ext cx="1040040" cy="460080"/>
                </a:xfrm>
                <a:custGeom>
                  <a:avLst/>
                  <a:gdLst>
                    <a:gd name="textAreaLeft" fmla="*/ 0 w 1040040"/>
                    <a:gd name="textAreaRight" fmla="*/ 1040400 w 1040040"/>
                    <a:gd name="textAreaTop" fmla="*/ 0 h 460080"/>
                    <a:gd name="textAreaBottom" fmla="*/ 460440 h 460080"/>
                  </a:gdLst>
                  <a:ahLst/>
                  <a:rect l="textAreaLeft" t="textAreaTop" r="textAreaRight" b="textAreaBottom"/>
                  <a:pathLst>
                    <a:path w="655" h="290">
                      <a:moveTo>
                        <a:pt x="350" y="225"/>
                      </a:moveTo>
                      <a:lnTo>
                        <a:pt x="265" y="237"/>
                      </a:lnTo>
                      <a:lnTo>
                        <a:pt x="251" y="206"/>
                      </a:lnTo>
                      <a:lnTo>
                        <a:pt x="116" y="225"/>
                      </a:lnTo>
                      <a:lnTo>
                        <a:pt x="89" y="261"/>
                      </a:lnTo>
                      <a:lnTo>
                        <a:pt x="0" y="270"/>
                      </a:lnTo>
                      <a:lnTo>
                        <a:pt x="4" y="246"/>
                      </a:lnTo>
                      <a:lnTo>
                        <a:pt x="13" y="230"/>
                      </a:lnTo>
                      <a:lnTo>
                        <a:pt x="148" y="125"/>
                      </a:lnTo>
                      <a:lnTo>
                        <a:pt x="161" y="93"/>
                      </a:lnTo>
                      <a:lnTo>
                        <a:pt x="417" y="53"/>
                      </a:lnTo>
                      <a:lnTo>
                        <a:pt x="619" y="0"/>
                      </a:lnTo>
                      <a:lnTo>
                        <a:pt x="615" y="57"/>
                      </a:lnTo>
                      <a:lnTo>
                        <a:pt x="655" y="73"/>
                      </a:lnTo>
                      <a:lnTo>
                        <a:pt x="619" y="117"/>
                      </a:lnTo>
                      <a:lnTo>
                        <a:pt x="570" y="125"/>
                      </a:lnTo>
                      <a:lnTo>
                        <a:pt x="601" y="137"/>
                      </a:lnTo>
                      <a:lnTo>
                        <a:pt x="615" y="141"/>
                      </a:lnTo>
                      <a:lnTo>
                        <a:pt x="511" y="230"/>
                      </a:lnTo>
                      <a:lnTo>
                        <a:pt x="489" y="278"/>
                      </a:lnTo>
                      <a:lnTo>
                        <a:pt x="453" y="290"/>
                      </a:lnTo>
                      <a:lnTo>
                        <a:pt x="350" y="22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293"/>
                <p:cNvSpPr/>
                <p:nvPr/>
              </p:nvSpPr>
              <p:spPr>
                <a:xfrm>
                  <a:off x="5886360" y="4299120"/>
                  <a:ext cx="1040040" cy="460080"/>
                </a:xfrm>
                <a:custGeom>
                  <a:avLst/>
                  <a:gdLst>
                    <a:gd name="textAreaLeft" fmla="*/ 0 w 1040040"/>
                    <a:gd name="textAreaRight" fmla="*/ 1040400 w 1040040"/>
                    <a:gd name="textAreaTop" fmla="*/ 0 h 460080"/>
                    <a:gd name="textAreaBottom" fmla="*/ 460440 h 460080"/>
                  </a:gdLst>
                  <a:ahLst/>
                  <a:rect l="textAreaLeft" t="textAreaTop" r="textAreaRight" b="textAreaBottom"/>
                  <a:pathLst>
                    <a:path w="655" h="290">
                      <a:moveTo>
                        <a:pt x="350" y="225"/>
                      </a:moveTo>
                      <a:lnTo>
                        <a:pt x="265" y="237"/>
                      </a:lnTo>
                      <a:lnTo>
                        <a:pt x="251" y="206"/>
                      </a:lnTo>
                      <a:lnTo>
                        <a:pt x="116" y="225"/>
                      </a:lnTo>
                      <a:lnTo>
                        <a:pt x="89" y="261"/>
                      </a:lnTo>
                      <a:lnTo>
                        <a:pt x="0" y="270"/>
                      </a:lnTo>
                      <a:lnTo>
                        <a:pt x="4" y="246"/>
                      </a:lnTo>
                      <a:lnTo>
                        <a:pt x="13" y="230"/>
                      </a:lnTo>
                      <a:lnTo>
                        <a:pt x="148" y="125"/>
                      </a:lnTo>
                      <a:lnTo>
                        <a:pt x="161" y="93"/>
                      </a:lnTo>
                      <a:lnTo>
                        <a:pt x="417" y="53"/>
                      </a:lnTo>
                      <a:lnTo>
                        <a:pt x="619" y="0"/>
                      </a:lnTo>
                      <a:lnTo>
                        <a:pt x="615" y="57"/>
                      </a:lnTo>
                      <a:lnTo>
                        <a:pt x="655" y="73"/>
                      </a:lnTo>
                      <a:lnTo>
                        <a:pt x="619" y="117"/>
                      </a:lnTo>
                      <a:lnTo>
                        <a:pt x="570" y="125"/>
                      </a:lnTo>
                      <a:lnTo>
                        <a:pt x="601" y="137"/>
                      </a:lnTo>
                      <a:lnTo>
                        <a:pt x="615" y="141"/>
                      </a:lnTo>
                      <a:lnTo>
                        <a:pt x="511" y="230"/>
                      </a:lnTo>
                      <a:lnTo>
                        <a:pt x="489" y="278"/>
                      </a:lnTo>
                      <a:lnTo>
                        <a:pt x="453" y="290"/>
                      </a:lnTo>
                      <a:lnTo>
                        <a:pt x="350" y="22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297"/>
              <p:cNvGrpSpPr/>
              <p:nvPr/>
            </p:nvGrpSpPr>
            <p:grpSpPr>
              <a:xfrm>
                <a:off x="6019920" y="4664160"/>
                <a:ext cx="591840" cy="458640"/>
                <a:chOff x="6019920" y="4664160"/>
                <a:chExt cx="591840" cy="458640"/>
              </a:xfrm>
            </p:grpSpPr>
            <p:sp>
              <p:nvSpPr>
                <p:cNvPr id="321" name="Freeform 295"/>
                <p:cNvSpPr/>
                <p:nvPr/>
              </p:nvSpPr>
              <p:spPr>
                <a:xfrm>
                  <a:off x="6019920" y="4664160"/>
                  <a:ext cx="591840" cy="458640"/>
                </a:xfrm>
                <a:custGeom>
                  <a:avLst/>
                  <a:gdLst>
                    <a:gd name="textAreaLeft" fmla="*/ 0 w 591840"/>
                    <a:gd name="textAreaRight" fmla="*/ 591840 w 5918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373" h="289">
                      <a:moveTo>
                        <a:pt x="373" y="85"/>
                      </a:moveTo>
                      <a:lnTo>
                        <a:pt x="270" y="19"/>
                      </a:lnTo>
                      <a:lnTo>
                        <a:pt x="180" y="36"/>
                      </a:lnTo>
                      <a:lnTo>
                        <a:pt x="162" y="0"/>
                      </a:lnTo>
                      <a:lnTo>
                        <a:pt x="59" y="16"/>
                      </a:lnTo>
                      <a:lnTo>
                        <a:pt x="32" y="52"/>
                      </a:lnTo>
                      <a:lnTo>
                        <a:pt x="0" y="89"/>
                      </a:lnTo>
                      <a:lnTo>
                        <a:pt x="144" y="197"/>
                      </a:lnTo>
                      <a:lnTo>
                        <a:pt x="225" y="289"/>
                      </a:lnTo>
                      <a:lnTo>
                        <a:pt x="319" y="181"/>
                      </a:lnTo>
                      <a:lnTo>
                        <a:pt x="360" y="89"/>
                      </a:lnTo>
                      <a:lnTo>
                        <a:pt x="373" y="93"/>
                      </a:lnTo>
                      <a:lnTo>
                        <a:pt x="373" y="85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296"/>
                <p:cNvSpPr/>
                <p:nvPr/>
              </p:nvSpPr>
              <p:spPr>
                <a:xfrm>
                  <a:off x="6019920" y="4664160"/>
                  <a:ext cx="591840" cy="458640"/>
                </a:xfrm>
                <a:custGeom>
                  <a:avLst/>
                  <a:gdLst>
                    <a:gd name="textAreaLeft" fmla="*/ 0 w 591840"/>
                    <a:gd name="textAreaRight" fmla="*/ 591840 w 59184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373" h="289">
                      <a:moveTo>
                        <a:pt x="373" y="85"/>
                      </a:moveTo>
                      <a:lnTo>
                        <a:pt x="270" y="19"/>
                      </a:lnTo>
                      <a:lnTo>
                        <a:pt x="180" y="36"/>
                      </a:lnTo>
                      <a:lnTo>
                        <a:pt x="162" y="0"/>
                      </a:lnTo>
                      <a:lnTo>
                        <a:pt x="59" y="16"/>
                      </a:lnTo>
                      <a:lnTo>
                        <a:pt x="32" y="52"/>
                      </a:lnTo>
                      <a:lnTo>
                        <a:pt x="0" y="89"/>
                      </a:lnTo>
                      <a:lnTo>
                        <a:pt x="144" y="197"/>
                      </a:lnTo>
                      <a:lnTo>
                        <a:pt x="225" y="289"/>
                      </a:lnTo>
                      <a:lnTo>
                        <a:pt x="319" y="181"/>
                      </a:lnTo>
                      <a:lnTo>
                        <a:pt x="360" y="89"/>
                      </a:lnTo>
                      <a:lnTo>
                        <a:pt x="373" y="93"/>
                      </a:lnTo>
                      <a:lnTo>
                        <a:pt x="373" y="85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Group 300"/>
              <p:cNvGrpSpPr/>
              <p:nvPr/>
            </p:nvGrpSpPr>
            <p:grpSpPr>
              <a:xfrm>
                <a:off x="5638680" y="3583080"/>
                <a:ext cx="541440" cy="576000"/>
                <a:chOff x="5638680" y="3583080"/>
                <a:chExt cx="541440" cy="576000"/>
              </a:xfrm>
            </p:grpSpPr>
            <p:sp>
              <p:nvSpPr>
                <p:cNvPr id="324" name="Freeform 298"/>
                <p:cNvSpPr/>
                <p:nvPr/>
              </p:nvSpPr>
              <p:spPr>
                <a:xfrm>
                  <a:off x="5638680" y="3583080"/>
                  <a:ext cx="541440" cy="576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341" h="363">
                      <a:moveTo>
                        <a:pt x="332" y="148"/>
                      </a:moveTo>
                      <a:lnTo>
                        <a:pt x="336" y="202"/>
                      </a:lnTo>
                      <a:lnTo>
                        <a:pt x="332" y="202"/>
                      </a:lnTo>
                      <a:lnTo>
                        <a:pt x="269" y="286"/>
                      </a:lnTo>
                      <a:lnTo>
                        <a:pt x="233" y="363"/>
                      </a:lnTo>
                      <a:lnTo>
                        <a:pt x="211" y="343"/>
                      </a:lnTo>
                      <a:lnTo>
                        <a:pt x="89" y="313"/>
                      </a:lnTo>
                      <a:lnTo>
                        <a:pt x="76" y="298"/>
                      </a:lnTo>
                      <a:lnTo>
                        <a:pt x="67" y="301"/>
                      </a:lnTo>
                      <a:lnTo>
                        <a:pt x="44" y="310"/>
                      </a:lnTo>
                      <a:lnTo>
                        <a:pt x="40" y="327"/>
                      </a:lnTo>
                      <a:lnTo>
                        <a:pt x="40" y="306"/>
                      </a:lnTo>
                      <a:lnTo>
                        <a:pt x="0" y="81"/>
                      </a:lnTo>
                      <a:lnTo>
                        <a:pt x="103" y="69"/>
                      </a:lnTo>
                      <a:lnTo>
                        <a:pt x="148" y="88"/>
                      </a:lnTo>
                      <a:lnTo>
                        <a:pt x="242" y="73"/>
                      </a:lnTo>
                      <a:lnTo>
                        <a:pt x="264" y="24"/>
                      </a:lnTo>
                      <a:lnTo>
                        <a:pt x="287" y="24"/>
                      </a:lnTo>
                      <a:lnTo>
                        <a:pt x="300" y="7"/>
                      </a:lnTo>
                      <a:lnTo>
                        <a:pt x="318" y="0"/>
                      </a:lnTo>
                      <a:lnTo>
                        <a:pt x="341" y="93"/>
                      </a:lnTo>
                      <a:lnTo>
                        <a:pt x="332" y="109"/>
                      </a:lnTo>
                      <a:lnTo>
                        <a:pt x="332" y="148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99"/>
                <p:cNvSpPr/>
                <p:nvPr/>
              </p:nvSpPr>
              <p:spPr>
                <a:xfrm>
                  <a:off x="5638680" y="3583080"/>
                  <a:ext cx="541440" cy="576000"/>
                </a:xfrm>
                <a:custGeom>
                  <a:avLst/>
                  <a:gdLst>
                    <a:gd name="textAreaLeft" fmla="*/ 0 w 541440"/>
                    <a:gd name="textAreaRight" fmla="*/ 541440 w 541440"/>
                    <a:gd name="textAreaTop" fmla="*/ 0 h 576000"/>
                    <a:gd name="textAreaBottom" fmla="*/ 576360 h 576000"/>
                  </a:gdLst>
                  <a:ahLst/>
                  <a:rect l="textAreaLeft" t="textAreaTop" r="textAreaRight" b="textAreaBottom"/>
                  <a:pathLst>
                    <a:path w="341" h="363">
                      <a:moveTo>
                        <a:pt x="332" y="148"/>
                      </a:moveTo>
                      <a:lnTo>
                        <a:pt x="336" y="202"/>
                      </a:lnTo>
                      <a:lnTo>
                        <a:pt x="332" y="202"/>
                      </a:lnTo>
                      <a:lnTo>
                        <a:pt x="269" y="286"/>
                      </a:lnTo>
                      <a:lnTo>
                        <a:pt x="233" y="363"/>
                      </a:lnTo>
                      <a:lnTo>
                        <a:pt x="211" y="343"/>
                      </a:lnTo>
                      <a:lnTo>
                        <a:pt x="89" y="313"/>
                      </a:lnTo>
                      <a:lnTo>
                        <a:pt x="76" y="298"/>
                      </a:lnTo>
                      <a:lnTo>
                        <a:pt x="67" y="301"/>
                      </a:lnTo>
                      <a:lnTo>
                        <a:pt x="44" y="310"/>
                      </a:lnTo>
                      <a:lnTo>
                        <a:pt x="40" y="327"/>
                      </a:lnTo>
                      <a:lnTo>
                        <a:pt x="40" y="306"/>
                      </a:lnTo>
                      <a:lnTo>
                        <a:pt x="0" y="81"/>
                      </a:lnTo>
                      <a:lnTo>
                        <a:pt x="103" y="69"/>
                      </a:lnTo>
                      <a:lnTo>
                        <a:pt x="148" y="88"/>
                      </a:lnTo>
                      <a:lnTo>
                        <a:pt x="242" y="73"/>
                      </a:lnTo>
                      <a:lnTo>
                        <a:pt x="264" y="24"/>
                      </a:lnTo>
                      <a:lnTo>
                        <a:pt x="287" y="24"/>
                      </a:lnTo>
                      <a:lnTo>
                        <a:pt x="300" y="7"/>
                      </a:lnTo>
                      <a:lnTo>
                        <a:pt x="318" y="0"/>
                      </a:lnTo>
                      <a:lnTo>
                        <a:pt x="341" y="93"/>
                      </a:lnTo>
                      <a:lnTo>
                        <a:pt x="332" y="109"/>
                      </a:lnTo>
                      <a:lnTo>
                        <a:pt x="332" y="148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303"/>
              <p:cNvGrpSpPr/>
              <p:nvPr/>
            </p:nvGrpSpPr>
            <p:grpSpPr>
              <a:xfrm>
                <a:off x="6019920" y="3774960"/>
                <a:ext cx="563400" cy="517680"/>
                <a:chOff x="6019920" y="3774960"/>
                <a:chExt cx="563400" cy="517680"/>
              </a:xfrm>
            </p:grpSpPr>
            <p:sp>
              <p:nvSpPr>
                <p:cNvPr id="327" name="Freeform 301"/>
                <p:cNvSpPr/>
                <p:nvPr/>
              </p:nvSpPr>
              <p:spPr>
                <a:xfrm>
                  <a:off x="6019920" y="3774960"/>
                  <a:ext cx="563400" cy="517680"/>
                </a:xfrm>
                <a:custGeom>
                  <a:avLst/>
                  <a:gdLst>
                    <a:gd name="textAreaLeft" fmla="*/ 0 w 563400"/>
                    <a:gd name="textAreaRight" fmla="*/ 563760 w 563400"/>
                    <a:gd name="textAreaTop" fmla="*/ 0 h 517680"/>
                    <a:gd name="textAreaBottom" fmla="*/ 517680 h 517680"/>
                  </a:gdLst>
                  <a:ahLst/>
                  <a:rect l="textAreaLeft" t="textAreaTop" r="textAreaRight" b="textAreaBottom"/>
                  <a:pathLst>
                    <a:path w="355" h="326">
                      <a:moveTo>
                        <a:pt x="0" y="261"/>
                      </a:moveTo>
                      <a:lnTo>
                        <a:pt x="41" y="181"/>
                      </a:lnTo>
                      <a:lnTo>
                        <a:pt x="104" y="93"/>
                      </a:lnTo>
                      <a:lnTo>
                        <a:pt x="108" y="93"/>
                      </a:lnTo>
                      <a:lnTo>
                        <a:pt x="104" y="44"/>
                      </a:lnTo>
                      <a:lnTo>
                        <a:pt x="104" y="0"/>
                      </a:lnTo>
                      <a:lnTo>
                        <a:pt x="113" y="12"/>
                      </a:lnTo>
                      <a:lnTo>
                        <a:pt x="126" y="44"/>
                      </a:lnTo>
                      <a:lnTo>
                        <a:pt x="126" y="61"/>
                      </a:lnTo>
                      <a:lnTo>
                        <a:pt x="140" y="93"/>
                      </a:lnTo>
                      <a:lnTo>
                        <a:pt x="220" y="73"/>
                      </a:lnTo>
                      <a:lnTo>
                        <a:pt x="229" y="129"/>
                      </a:lnTo>
                      <a:lnTo>
                        <a:pt x="337" y="65"/>
                      </a:lnTo>
                      <a:lnTo>
                        <a:pt x="351" y="69"/>
                      </a:lnTo>
                      <a:lnTo>
                        <a:pt x="355" y="89"/>
                      </a:lnTo>
                      <a:lnTo>
                        <a:pt x="351" y="97"/>
                      </a:lnTo>
                      <a:lnTo>
                        <a:pt x="342" y="101"/>
                      </a:lnTo>
                      <a:lnTo>
                        <a:pt x="315" y="93"/>
                      </a:lnTo>
                      <a:lnTo>
                        <a:pt x="292" y="149"/>
                      </a:lnTo>
                      <a:lnTo>
                        <a:pt x="270" y="141"/>
                      </a:lnTo>
                      <a:lnTo>
                        <a:pt x="252" y="181"/>
                      </a:lnTo>
                      <a:lnTo>
                        <a:pt x="216" y="173"/>
                      </a:lnTo>
                      <a:lnTo>
                        <a:pt x="198" y="222"/>
                      </a:lnTo>
                      <a:lnTo>
                        <a:pt x="176" y="273"/>
                      </a:lnTo>
                      <a:lnTo>
                        <a:pt x="104" y="326"/>
                      </a:lnTo>
                      <a:lnTo>
                        <a:pt x="50" y="294"/>
                      </a:lnTo>
                      <a:lnTo>
                        <a:pt x="45" y="314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302"/>
                <p:cNvSpPr/>
                <p:nvPr/>
              </p:nvSpPr>
              <p:spPr>
                <a:xfrm>
                  <a:off x="6019920" y="3774960"/>
                  <a:ext cx="563400" cy="517680"/>
                </a:xfrm>
                <a:custGeom>
                  <a:avLst/>
                  <a:gdLst>
                    <a:gd name="textAreaLeft" fmla="*/ 0 w 563400"/>
                    <a:gd name="textAreaRight" fmla="*/ 563760 w 563400"/>
                    <a:gd name="textAreaTop" fmla="*/ 0 h 517680"/>
                    <a:gd name="textAreaBottom" fmla="*/ 517680 h 517680"/>
                  </a:gdLst>
                  <a:ahLst/>
                  <a:rect l="textAreaLeft" t="textAreaTop" r="textAreaRight" b="textAreaBottom"/>
                  <a:pathLst>
                    <a:path w="355" h="326">
                      <a:moveTo>
                        <a:pt x="0" y="261"/>
                      </a:moveTo>
                      <a:lnTo>
                        <a:pt x="41" y="181"/>
                      </a:lnTo>
                      <a:lnTo>
                        <a:pt x="104" y="93"/>
                      </a:lnTo>
                      <a:lnTo>
                        <a:pt x="108" y="93"/>
                      </a:lnTo>
                      <a:lnTo>
                        <a:pt x="104" y="44"/>
                      </a:lnTo>
                      <a:lnTo>
                        <a:pt x="104" y="0"/>
                      </a:lnTo>
                      <a:lnTo>
                        <a:pt x="113" y="12"/>
                      </a:lnTo>
                      <a:lnTo>
                        <a:pt x="126" y="44"/>
                      </a:lnTo>
                      <a:lnTo>
                        <a:pt x="126" y="61"/>
                      </a:lnTo>
                      <a:lnTo>
                        <a:pt x="140" y="93"/>
                      </a:lnTo>
                      <a:lnTo>
                        <a:pt x="220" y="73"/>
                      </a:lnTo>
                      <a:lnTo>
                        <a:pt x="229" y="129"/>
                      </a:lnTo>
                      <a:lnTo>
                        <a:pt x="337" y="65"/>
                      </a:lnTo>
                      <a:lnTo>
                        <a:pt x="351" y="69"/>
                      </a:lnTo>
                      <a:lnTo>
                        <a:pt x="355" y="89"/>
                      </a:lnTo>
                      <a:lnTo>
                        <a:pt x="351" y="97"/>
                      </a:lnTo>
                      <a:lnTo>
                        <a:pt x="342" y="101"/>
                      </a:lnTo>
                      <a:lnTo>
                        <a:pt x="315" y="93"/>
                      </a:lnTo>
                      <a:lnTo>
                        <a:pt x="292" y="149"/>
                      </a:lnTo>
                      <a:lnTo>
                        <a:pt x="270" y="141"/>
                      </a:lnTo>
                      <a:lnTo>
                        <a:pt x="252" y="181"/>
                      </a:lnTo>
                      <a:lnTo>
                        <a:pt x="216" y="173"/>
                      </a:lnTo>
                      <a:lnTo>
                        <a:pt x="198" y="222"/>
                      </a:lnTo>
                      <a:lnTo>
                        <a:pt x="176" y="273"/>
                      </a:lnTo>
                      <a:lnTo>
                        <a:pt x="104" y="326"/>
                      </a:lnTo>
                      <a:lnTo>
                        <a:pt x="50" y="294"/>
                      </a:lnTo>
                      <a:lnTo>
                        <a:pt x="45" y="314"/>
                      </a:lnTo>
                      <a:lnTo>
                        <a:pt x="0" y="26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Freeform 304"/>
              <p:cNvSpPr/>
              <p:nvPr/>
            </p:nvSpPr>
            <p:spPr>
              <a:xfrm>
                <a:off x="5554800" y="2583000"/>
                <a:ext cx="1226880" cy="1377720"/>
              </a:xfrm>
              <a:custGeom>
                <a:avLst/>
                <a:gdLst>
                  <a:gd name="textAreaLeft" fmla="*/ 0 w 1226880"/>
                  <a:gd name="textAreaRight" fmla="*/ 1226880 w 1226880"/>
                  <a:gd name="textAreaTop" fmla="*/ 0 h 1377720"/>
                  <a:gd name="textAreaBottom" fmla="*/ 1378080 h 1377720"/>
                </a:gdLst>
                <a:ahLst/>
                <a:rect l="textAreaLeft" t="textAreaTop" r="textAreaRight" b="textAreaBottom"/>
                <a:pathLst>
                  <a:path w="3218" h="3618">
                    <a:moveTo>
                      <a:pt x="31" y="7"/>
                    </a:moveTo>
                    <a:lnTo>
                      <a:pt x="3120" y="3483"/>
                    </a:lnTo>
                    <a:cubicBezTo>
                      <a:pt x="3126" y="3490"/>
                      <a:pt x="3126" y="3500"/>
                      <a:pt x="3119" y="3506"/>
                    </a:cubicBezTo>
                    <a:cubicBezTo>
                      <a:pt x="3112" y="3512"/>
                      <a:pt x="3101" y="3512"/>
                      <a:pt x="3095" y="3505"/>
                    </a:cubicBezTo>
                    <a:lnTo>
                      <a:pt x="6" y="30"/>
                    </a:lnTo>
                    <a:cubicBezTo>
                      <a:pt x="0" y="23"/>
                      <a:pt x="1" y="12"/>
                      <a:pt x="7" y="6"/>
                    </a:cubicBezTo>
                    <a:cubicBezTo>
                      <a:pt x="14" y="0"/>
                      <a:pt x="25" y="1"/>
                      <a:pt x="31" y="7"/>
                    </a:cubicBezTo>
                    <a:close/>
                    <a:moveTo>
                      <a:pt x="3160" y="3403"/>
                    </a:moveTo>
                    <a:lnTo>
                      <a:pt x="3218" y="3618"/>
                    </a:lnTo>
                    <a:lnTo>
                      <a:pt x="3011" y="3535"/>
                    </a:lnTo>
                    <a:lnTo>
                      <a:pt x="3160" y="3403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30" name="Group 307"/>
              <p:cNvGrpSpPr/>
              <p:nvPr/>
            </p:nvGrpSpPr>
            <p:grpSpPr>
              <a:xfrm>
                <a:off x="6705720" y="4113360"/>
                <a:ext cx="228600" cy="152280"/>
                <a:chOff x="6705720" y="4113360"/>
                <a:chExt cx="228600" cy="152280"/>
              </a:xfrm>
            </p:grpSpPr>
            <p:sp>
              <p:nvSpPr>
                <p:cNvPr id="331" name="Freeform 305"/>
                <p:cNvSpPr/>
                <p:nvPr/>
              </p:nvSpPr>
              <p:spPr>
                <a:xfrm>
                  <a:off x="6705720" y="41133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06"/>
                <p:cNvSpPr/>
                <p:nvPr/>
              </p:nvSpPr>
              <p:spPr>
                <a:xfrm>
                  <a:off x="6705720" y="41133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Group 310"/>
              <p:cNvGrpSpPr/>
              <p:nvPr/>
            </p:nvGrpSpPr>
            <p:grpSpPr>
              <a:xfrm>
                <a:off x="7543800" y="4494240"/>
                <a:ext cx="1447920" cy="609480"/>
                <a:chOff x="7543800" y="4494240"/>
                <a:chExt cx="1447920" cy="609480"/>
              </a:xfrm>
            </p:grpSpPr>
            <p:sp>
              <p:nvSpPr>
                <p:cNvPr id="334" name="Rectangle 308"/>
                <p:cNvSpPr/>
                <p:nvPr/>
              </p:nvSpPr>
              <p:spPr>
                <a:xfrm>
                  <a:off x="7543800" y="4494240"/>
                  <a:ext cx="1447920" cy="6094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5" name="Rectangle 309"/>
                <p:cNvSpPr/>
                <p:nvPr/>
              </p:nvSpPr>
              <p:spPr>
                <a:xfrm>
                  <a:off x="7543800" y="4494240"/>
                  <a:ext cx="1447920" cy="60948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Rectangle 311"/>
              <p:cNvSpPr/>
              <p:nvPr/>
            </p:nvSpPr>
            <p:spPr>
              <a:xfrm>
                <a:off x="7694640" y="4518000"/>
                <a:ext cx="1033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astern Regional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Rectangle 312"/>
              <p:cNvSpPr/>
              <p:nvPr/>
            </p:nvSpPr>
            <p:spPr>
              <a:xfrm>
                <a:off x="7765200" y="4656240"/>
                <a:ext cx="89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Rectangle 313"/>
              <p:cNvSpPr/>
              <p:nvPr/>
            </p:nvSpPr>
            <p:spPr>
              <a:xfrm>
                <a:off x="7866360" y="4792680"/>
                <a:ext cx="689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orfolk, VA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Rectangle 314"/>
              <p:cNvSpPr/>
              <p:nvPr/>
            </p:nvSpPr>
            <p:spPr>
              <a:xfrm>
                <a:off x="7819200" y="49276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57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Rectangle 315"/>
              <p:cNvSpPr/>
              <p:nvPr/>
            </p:nvSpPr>
            <p:spPr>
              <a:xfrm>
                <a:off x="8029080" y="4927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1" name="Rectangle 316"/>
              <p:cNvSpPr/>
              <p:nvPr/>
            </p:nvSpPr>
            <p:spPr>
              <a:xfrm>
                <a:off x="8071920" y="492768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4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2" name="Rectangle 317"/>
              <p:cNvSpPr/>
              <p:nvPr/>
            </p:nvSpPr>
            <p:spPr>
              <a:xfrm>
                <a:off x="8283240" y="492768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3" name="Rectangle 318"/>
              <p:cNvSpPr/>
              <p:nvPr/>
            </p:nvSpPr>
            <p:spPr>
              <a:xfrm>
                <a:off x="8324280" y="492768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43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4" name="Freeform 319"/>
              <p:cNvSpPr/>
              <p:nvPr/>
            </p:nvSpPr>
            <p:spPr>
              <a:xfrm>
                <a:off x="6858000" y="4265640"/>
                <a:ext cx="692280" cy="388800"/>
              </a:xfrm>
              <a:custGeom>
                <a:avLst/>
                <a:gdLst>
                  <a:gd name="textAreaLeft" fmla="*/ 0 w 692280"/>
                  <a:gd name="textAreaRight" fmla="*/ 692640 w 692280"/>
                  <a:gd name="textAreaTop" fmla="*/ 0 h 388800"/>
                  <a:gd name="textAreaBottom" fmla="*/ 389160 h 388800"/>
                </a:gdLst>
                <a:ahLst/>
                <a:rect l="textAreaLeft" t="textAreaTop" r="textAreaRight" b="textAreaBottom"/>
                <a:pathLst>
                  <a:path w="1820" h="1020">
                    <a:moveTo>
                      <a:pt x="1792" y="1015"/>
                    </a:moveTo>
                    <a:lnTo>
                      <a:pt x="138" y="96"/>
                    </a:lnTo>
                    <a:cubicBezTo>
                      <a:pt x="130" y="92"/>
                      <a:pt x="127" y="81"/>
                      <a:pt x="132" y="73"/>
                    </a:cubicBezTo>
                    <a:cubicBezTo>
                      <a:pt x="136" y="65"/>
                      <a:pt x="146" y="62"/>
                      <a:pt x="154" y="67"/>
                    </a:cubicBezTo>
                    <a:lnTo>
                      <a:pt x="1809" y="986"/>
                    </a:lnTo>
                    <a:cubicBezTo>
                      <a:pt x="1817" y="990"/>
                      <a:pt x="1820" y="1001"/>
                      <a:pt x="1815" y="1009"/>
                    </a:cubicBezTo>
                    <a:cubicBezTo>
                      <a:pt x="1811" y="1017"/>
                      <a:pt x="1800" y="1020"/>
                      <a:pt x="1792" y="1015"/>
                    </a:cubicBezTo>
                    <a:close/>
                    <a:moveTo>
                      <a:pt x="127" y="185"/>
                    </a:moveTo>
                    <a:lnTo>
                      <a:pt x="0" y="0"/>
                    </a:lnTo>
                    <a:lnTo>
                      <a:pt x="224" y="10"/>
                    </a:lnTo>
                    <a:lnTo>
                      <a:pt x="127" y="185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345" name="Group 322"/>
              <p:cNvGrpSpPr/>
              <p:nvPr/>
            </p:nvGrpSpPr>
            <p:grpSpPr>
              <a:xfrm>
                <a:off x="6705720" y="3808440"/>
                <a:ext cx="228600" cy="152280"/>
                <a:chOff x="6705720" y="3808440"/>
                <a:chExt cx="228600" cy="152280"/>
              </a:xfrm>
            </p:grpSpPr>
            <p:sp>
              <p:nvSpPr>
                <p:cNvPr id="346" name="Freeform 320"/>
                <p:cNvSpPr/>
                <p:nvPr/>
              </p:nvSpPr>
              <p:spPr>
                <a:xfrm>
                  <a:off x="6705720" y="38084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21"/>
                <p:cNvSpPr/>
                <p:nvPr/>
              </p:nvSpPr>
              <p:spPr>
                <a:xfrm>
                  <a:off x="6705720" y="38084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375"/>
              <p:cNvGrpSpPr/>
              <p:nvPr/>
            </p:nvGrpSpPr>
            <p:grpSpPr>
              <a:xfrm>
                <a:off x="457200" y="1143000"/>
                <a:ext cx="1600200" cy="1198440"/>
                <a:chOff x="457200" y="1143000"/>
                <a:chExt cx="1600200" cy="1198440"/>
              </a:xfrm>
            </p:grpSpPr>
            <p:grpSp>
              <p:nvGrpSpPr>
                <p:cNvPr id="349" name="Group 373"/>
                <p:cNvGrpSpPr/>
                <p:nvPr/>
              </p:nvGrpSpPr>
              <p:grpSpPr>
                <a:xfrm>
                  <a:off x="457200" y="1143000"/>
                  <a:ext cx="1600200" cy="1198440"/>
                  <a:chOff x="457200" y="1143000"/>
                  <a:chExt cx="1600200" cy="1198440"/>
                </a:xfrm>
              </p:grpSpPr>
              <p:sp>
                <p:nvSpPr>
                  <p:cNvPr id="350" name="Freeform 323"/>
                  <p:cNvSpPr/>
                  <p:nvPr/>
                </p:nvSpPr>
                <p:spPr>
                  <a:xfrm>
                    <a:off x="1233360" y="1287360"/>
                    <a:ext cx="14400" cy="279360"/>
                  </a:xfrm>
                  <a:custGeom>
                    <a:avLst/>
                    <a:gdLst>
                      <a:gd name="textAreaLeft" fmla="*/ 0 w 14400"/>
                      <a:gd name="textAreaRight" fmla="*/ 14760 w 1440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9" h="176">
                        <a:moveTo>
                          <a:pt x="9" y="17"/>
                        </a:moveTo>
                        <a:lnTo>
                          <a:pt x="9" y="17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9" y="17"/>
                        </a:lnTo>
                        <a:close/>
                      </a:path>
                    </a:pathLst>
                  </a:custGeom>
                  <a:solidFill>
                    <a:srgbClr val="0c49b7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324"/>
                  <p:cNvSpPr/>
                  <p:nvPr/>
                </p:nvSpPr>
                <p:spPr>
                  <a:xfrm>
                    <a:off x="1247760" y="1314360"/>
                    <a:ext cx="7920" cy="262080"/>
                  </a:xfrm>
                  <a:custGeom>
                    <a:avLst/>
                    <a:gdLst>
                      <a:gd name="textAreaLeft" fmla="*/ 0 w 7920"/>
                      <a:gd name="textAreaRight" fmla="*/ 8280 w 7920"/>
                      <a:gd name="textAreaTop" fmla="*/ 0 h 262080"/>
                      <a:gd name="textAreaBottom" fmla="*/ 262440 h 262080"/>
                    </a:gdLst>
                    <a:ahLst/>
                    <a:rect l="textAreaLeft" t="textAreaTop" r="textAreaRight" b="textAreaBottom"/>
                    <a:pathLst>
                      <a:path w="5" h="165">
                        <a:moveTo>
                          <a:pt x="5" y="6"/>
                        </a:moveTo>
                        <a:lnTo>
                          <a:pt x="5" y="165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5" y="6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Freeform 325"/>
                  <p:cNvSpPr/>
                  <p:nvPr/>
                </p:nvSpPr>
                <p:spPr>
                  <a:xfrm>
                    <a:off x="1255680" y="1324080"/>
                    <a:ext cx="20520" cy="27936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3" h="176">
                        <a:moveTo>
                          <a:pt x="13" y="17"/>
                        </a:moveTo>
                        <a:lnTo>
                          <a:pt x="13" y="17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3" y="17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326"/>
                  <p:cNvSpPr/>
                  <p:nvPr/>
                </p:nvSpPr>
                <p:spPr>
                  <a:xfrm>
                    <a:off x="1144440" y="1465200"/>
                    <a:ext cx="88920" cy="25560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55600"/>
                      <a:gd name="textAreaBottom" fmla="*/ 255600 h 255600"/>
                    </a:gdLst>
                    <a:ahLst/>
                    <a:rect l="textAreaLeft" t="textAreaTop" r="textAreaRight" b="textAreaBottom"/>
                    <a:pathLst>
                      <a:path w="56" h="161">
                        <a:moveTo>
                          <a:pt x="56" y="0"/>
                        </a:moveTo>
                        <a:lnTo>
                          <a:pt x="56" y="159"/>
                        </a:lnTo>
                        <a:lnTo>
                          <a:pt x="0" y="161"/>
                        </a:lnTo>
                        <a:lnTo>
                          <a:pt x="0" y="2"/>
                        </a:lnTo>
                        <a:lnTo>
                          <a:pt x="56" y="0"/>
                        </a:lnTo>
                        <a:close/>
                      </a:path>
                    </a:pathLst>
                  </a:custGeom>
                  <a:solidFill>
                    <a:srgbClr val="000089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327"/>
                  <p:cNvSpPr/>
                  <p:nvPr/>
                </p:nvSpPr>
                <p:spPr>
                  <a:xfrm>
                    <a:off x="1122480" y="1450800"/>
                    <a:ext cx="21960" cy="27000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4" h="170">
                        <a:moveTo>
                          <a:pt x="14" y="11"/>
                        </a:moveTo>
                        <a:lnTo>
                          <a:pt x="14" y="17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0744b5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328"/>
                  <p:cNvSpPr/>
                  <p:nvPr/>
                </p:nvSpPr>
                <p:spPr>
                  <a:xfrm>
                    <a:off x="1230480" y="1498680"/>
                    <a:ext cx="9360" cy="266760"/>
                  </a:xfrm>
                  <a:custGeom>
                    <a:avLst/>
                    <a:gdLst>
                      <a:gd name="textAreaLeft" fmla="*/ 0 w 9360"/>
                      <a:gd name="textAreaRight" fmla="*/ 9720 w 9360"/>
                      <a:gd name="textAreaTop" fmla="*/ 0 h 266760"/>
                      <a:gd name="textAreaBottom" fmla="*/ 267120 h 266760"/>
                    </a:gdLst>
                    <a:ahLst/>
                    <a:rect l="textAreaLeft" t="textAreaTop" r="textAreaRight" b="textAreaBottom"/>
                    <a:pathLst>
                      <a:path w="6" h="168">
                        <a:moveTo>
                          <a:pt x="6" y="9"/>
                        </a:moveTo>
                        <a:lnTo>
                          <a:pt x="6" y="168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6" y="9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Freeform 329"/>
                  <p:cNvSpPr/>
                  <p:nvPr/>
                </p:nvSpPr>
                <p:spPr>
                  <a:xfrm>
                    <a:off x="1773360" y="1625760"/>
                    <a:ext cx="6120" cy="26964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4" h="170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70"/>
                        </a:lnTo>
                        <a:lnTo>
                          <a:pt x="0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169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Freeform 330"/>
                  <p:cNvSpPr/>
                  <p:nvPr/>
                </p:nvSpPr>
                <p:spPr>
                  <a:xfrm>
                    <a:off x="1717560" y="1170000"/>
                    <a:ext cx="49320" cy="72540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725400"/>
                      <a:gd name="textAreaBottom" fmla="*/ 725760 h 725400"/>
                    </a:gdLst>
                    <a:ahLst/>
                    <a:rect l="textAreaLeft" t="textAreaTop" r="textAreaRight" b="textAreaBottom"/>
                    <a:pathLst>
                      <a:path w="31" h="457">
                        <a:moveTo>
                          <a:pt x="31" y="0"/>
                        </a:moveTo>
                        <a:lnTo>
                          <a:pt x="31" y="159"/>
                        </a:lnTo>
                        <a:lnTo>
                          <a:pt x="0" y="457"/>
                        </a:lnTo>
                        <a:lnTo>
                          <a:pt x="0" y="297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2ba8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331"/>
                  <p:cNvSpPr/>
                  <p:nvPr/>
                </p:nvSpPr>
                <p:spPr>
                  <a:xfrm>
                    <a:off x="1535040" y="1649520"/>
                    <a:ext cx="49320" cy="263520"/>
                  </a:xfrm>
                  <a:custGeom>
                    <a:avLst/>
                    <a:gdLst>
                      <a:gd name="textAreaLeft" fmla="*/ 0 w 49320"/>
                      <a:gd name="textAreaRight" fmla="*/ 49680 w 4932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31" h="166">
                        <a:moveTo>
                          <a:pt x="31" y="7"/>
                        </a:moveTo>
                        <a:lnTo>
                          <a:pt x="31" y="16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31" y="7"/>
                        </a:lnTo>
                        <a:close/>
                      </a:path>
                    </a:pathLst>
                  </a:custGeom>
                  <a:solidFill>
                    <a:srgbClr val="00119b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Freeform 332"/>
                  <p:cNvSpPr/>
                  <p:nvPr/>
                </p:nvSpPr>
                <p:spPr>
                  <a:xfrm>
                    <a:off x="1405080" y="1643040"/>
                    <a:ext cx="58680" cy="27468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74680"/>
                      <a:gd name="textAreaBottom" fmla="*/ 275040 h 274680"/>
                    </a:gdLst>
                    <a:ahLst/>
                    <a:rect l="textAreaLeft" t="textAreaTop" r="textAreaRight" b="textAreaBottom"/>
                    <a:pathLst>
                      <a:path w="37" h="173">
                        <a:moveTo>
                          <a:pt x="37" y="0"/>
                        </a:moveTo>
                        <a:lnTo>
                          <a:pt x="37" y="159"/>
                        </a:lnTo>
                        <a:lnTo>
                          <a:pt x="0" y="173"/>
                        </a:lnTo>
                        <a:lnTo>
                          <a:pt x="0" y="14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Freeform 333"/>
                  <p:cNvSpPr/>
                  <p:nvPr/>
                </p:nvSpPr>
                <p:spPr>
                  <a:xfrm>
                    <a:off x="1584360" y="1660680"/>
                    <a:ext cx="36360" cy="26820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23" h="169">
                        <a:moveTo>
                          <a:pt x="23" y="10"/>
                        </a:moveTo>
                        <a:lnTo>
                          <a:pt x="23" y="169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23" y="10"/>
                        </a:lnTo>
                        <a:close/>
                      </a:path>
                    </a:pathLst>
                  </a:custGeom>
                  <a:solidFill>
                    <a:srgbClr val="0030a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334"/>
                  <p:cNvSpPr/>
                  <p:nvPr/>
                </p:nvSpPr>
                <p:spPr>
                  <a:xfrm>
                    <a:off x="1620720" y="1671480"/>
                    <a:ext cx="103320" cy="257400"/>
                  </a:xfrm>
                  <a:custGeom>
                    <a:avLst/>
                    <a:gdLst>
                      <a:gd name="textAreaLeft" fmla="*/ 0 w 103320"/>
                      <a:gd name="textAreaRight" fmla="*/ 103680 w 103320"/>
                      <a:gd name="textAreaTop" fmla="*/ 0 h 257400"/>
                      <a:gd name="textAreaBottom" fmla="*/ 257760 h 257400"/>
                    </a:gdLst>
                    <a:ahLst/>
                    <a:rect l="textAreaLeft" t="textAreaTop" r="textAreaRight" b="textAreaBottom"/>
                    <a:pathLst>
                      <a:path w="65" h="162">
                        <a:moveTo>
                          <a:pt x="65" y="0"/>
                        </a:moveTo>
                        <a:lnTo>
                          <a:pt x="65" y="159"/>
                        </a:lnTo>
                        <a:lnTo>
                          <a:pt x="0" y="162"/>
                        </a:lnTo>
                        <a:lnTo>
                          <a:pt x="0" y="3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000087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Freeform 335"/>
                  <p:cNvSpPr/>
                  <p:nvPr/>
                </p:nvSpPr>
                <p:spPr>
                  <a:xfrm>
                    <a:off x="1528920" y="1649520"/>
                    <a:ext cx="6120" cy="27936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4" h="176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76"/>
                        </a:lnTo>
                        <a:lnTo>
                          <a:pt x="0" y="17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21a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Freeform 336"/>
                  <p:cNvSpPr/>
                  <p:nvPr/>
                </p:nvSpPr>
                <p:spPr>
                  <a:xfrm>
                    <a:off x="1495440" y="1676520"/>
                    <a:ext cx="33480" cy="263520"/>
                  </a:xfrm>
                  <a:custGeom>
                    <a:avLst/>
                    <a:gdLst>
                      <a:gd name="textAreaLeft" fmla="*/ 0 w 33480"/>
                      <a:gd name="textAreaRight" fmla="*/ 33840 w 3348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21" h="166">
                        <a:moveTo>
                          <a:pt x="21" y="0"/>
                        </a:moveTo>
                        <a:lnTo>
                          <a:pt x="21" y="159"/>
                        </a:lnTo>
                        <a:lnTo>
                          <a:pt x="0" y="166"/>
                        </a:lnTo>
                        <a:lnTo>
                          <a:pt x="0" y="7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337"/>
                  <p:cNvSpPr/>
                  <p:nvPr/>
                </p:nvSpPr>
                <p:spPr>
                  <a:xfrm>
                    <a:off x="1724040" y="1671480"/>
                    <a:ext cx="65160" cy="273240"/>
                  </a:xfrm>
                  <a:custGeom>
                    <a:avLst/>
                    <a:gdLst>
                      <a:gd name="textAreaLeft" fmla="*/ 0 w 65160"/>
                      <a:gd name="textAreaRight" fmla="*/ 65520 w 65160"/>
                      <a:gd name="textAreaTop" fmla="*/ 0 h 273240"/>
                      <a:gd name="textAreaBottom" fmla="*/ 273600 h 273240"/>
                    </a:gdLst>
                    <a:ahLst/>
                    <a:rect l="textAreaLeft" t="textAreaTop" r="textAreaRight" b="textAreaBottom"/>
                    <a:pathLst>
                      <a:path w="41" h="172">
                        <a:moveTo>
                          <a:pt x="41" y="13"/>
                        </a:moveTo>
                        <a:lnTo>
                          <a:pt x="41" y="172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41" y="13"/>
                        </a:lnTo>
                        <a:close/>
                      </a:path>
                    </a:pathLst>
                  </a:custGeom>
                  <a:solidFill>
                    <a:srgbClr val="0021a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Freeform 338"/>
                  <p:cNvSpPr/>
                  <p:nvPr/>
                </p:nvSpPr>
                <p:spPr>
                  <a:xfrm>
                    <a:off x="1492200" y="1687680"/>
                    <a:ext cx="3240" cy="26172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2" h="165">
                        <a:moveTo>
                          <a:pt x="2" y="0"/>
                        </a:moveTo>
                        <a:lnTo>
                          <a:pt x="2" y="159"/>
                        </a:lnTo>
                        <a:lnTo>
                          <a:pt x="0" y="165"/>
                        </a:lnTo>
                        <a:lnTo>
                          <a:pt x="0" y="6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169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Freeform 339"/>
                  <p:cNvSpPr/>
                  <p:nvPr/>
                </p:nvSpPr>
                <p:spPr>
                  <a:xfrm>
                    <a:off x="1050840" y="1684440"/>
                    <a:ext cx="77760" cy="268200"/>
                  </a:xfrm>
                  <a:custGeom>
                    <a:avLst/>
                    <a:gdLst>
                      <a:gd name="textAreaLeft" fmla="*/ 0 w 77760"/>
                      <a:gd name="textAreaRight" fmla="*/ 78120 w 77760"/>
                      <a:gd name="textAreaTop" fmla="*/ 0 h 268200"/>
                      <a:gd name="textAreaBottom" fmla="*/ 268560 h 268200"/>
                    </a:gdLst>
                    <a:ahLst/>
                    <a:rect l="textAreaLeft" t="textAreaTop" r="textAreaRight" b="textAreaBottom"/>
                    <a:pathLst>
                      <a:path w="49" h="169">
                        <a:moveTo>
                          <a:pt x="49" y="10"/>
                        </a:moveTo>
                        <a:lnTo>
                          <a:pt x="49" y="169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49" y="10"/>
                        </a:lnTo>
                        <a:close/>
                      </a:path>
                    </a:pathLst>
                  </a:custGeom>
                  <a:solidFill>
                    <a:srgbClr val="00119b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340"/>
                  <p:cNvSpPr/>
                  <p:nvPr/>
                </p:nvSpPr>
                <p:spPr>
                  <a:xfrm>
                    <a:off x="1344600" y="1665360"/>
                    <a:ext cx="60480" cy="315720"/>
                  </a:xfrm>
                  <a:custGeom>
                    <a:avLst/>
                    <a:gdLst>
                      <a:gd name="textAreaLeft" fmla="*/ 0 w 60480"/>
                      <a:gd name="textAreaRight" fmla="*/ 60840 w 60480"/>
                      <a:gd name="textAreaTop" fmla="*/ 0 h 315720"/>
                      <a:gd name="textAreaBottom" fmla="*/ 316080 h 315720"/>
                    </a:gdLst>
                    <a:ahLst/>
                    <a:rect l="textAreaLeft" t="textAreaTop" r="textAreaRight" b="textAreaBottom"/>
                    <a:pathLst>
                      <a:path w="38" h="199">
                        <a:moveTo>
                          <a:pt x="38" y="0"/>
                        </a:moveTo>
                        <a:lnTo>
                          <a:pt x="38" y="159"/>
                        </a:lnTo>
                        <a:lnTo>
                          <a:pt x="0" y="199"/>
                        </a:lnTo>
                        <a:lnTo>
                          <a:pt x="0" y="40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8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Freeform 341"/>
                  <p:cNvSpPr/>
                  <p:nvPr/>
                </p:nvSpPr>
                <p:spPr>
                  <a:xfrm>
                    <a:off x="1398600" y="1697040"/>
                    <a:ext cx="93600" cy="284040"/>
                  </a:xfrm>
                  <a:custGeom>
                    <a:avLst/>
                    <a:gdLst>
                      <a:gd name="textAreaLeft" fmla="*/ 0 w 93600"/>
                      <a:gd name="textAreaRight" fmla="*/ 93960 w 93600"/>
                      <a:gd name="textAreaTop" fmla="*/ 0 h 284040"/>
                      <a:gd name="textAreaBottom" fmla="*/ 284400 h 284040"/>
                    </a:gdLst>
                    <a:ahLst/>
                    <a:rect l="textAreaLeft" t="textAreaTop" r="textAreaRight" b="textAreaBottom"/>
                    <a:pathLst>
                      <a:path w="59" h="179">
                        <a:moveTo>
                          <a:pt x="59" y="0"/>
                        </a:moveTo>
                        <a:lnTo>
                          <a:pt x="59" y="159"/>
                        </a:lnTo>
                        <a:lnTo>
                          <a:pt x="0" y="179"/>
                        </a:lnTo>
                        <a:lnTo>
                          <a:pt x="0" y="20"/>
                        </a:lnTo>
                        <a:lnTo>
                          <a:pt x="59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342"/>
                  <p:cNvSpPr/>
                  <p:nvPr/>
                </p:nvSpPr>
                <p:spPr>
                  <a:xfrm>
                    <a:off x="1332000" y="1728720"/>
                    <a:ext cx="12600" cy="27324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273240"/>
                      <a:gd name="textAreaBottom" fmla="*/ 273600 h 273240"/>
                    </a:gdLst>
                    <a:ahLst/>
                    <a:rect l="textAreaLeft" t="textAreaTop" r="textAreaRight" b="textAreaBottom"/>
                    <a:pathLst>
                      <a:path w="8" h="172">
                        <a:moveTo>
                          <a:pt x="8" y="0"/>
                        </a:moveTo>
                        <a:lnTo>
                          <a:pt x="8" y="159"/>
                        </a:lnTo>
                        <a:lnTo>
                          <a:pt x="0" y="172"/>
                        </a:lnTo>
                        <a:lnTo>
                          <a:pt x="0" y="13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796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343"/>
                  <p:cNvSpPr/>
                  <p:nvPr/>
                </p:nvSpPr>
                <p:spPr>
                  <a:xfrm>
                    <a:off x="1789200" y="1692360"/>
                    <a:ext cx="8568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97">
                        <a:moveTo>
                          <a:pt x="54" y="38"/>
                        </a:moveTo>
                        <a:lnTo>
                          <a:pt x="54" y="197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54" y="38"/>
                        </a:lnTo>
                        <a:close/>
                      </a:path>
                    </a:pathLst>
                  </a:custGeom>
                  <a:solidFill>
                    <a:srgbClr val="0744b5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Freeform 344"/>
                  <p:cNvSpPr/>
                  <p:nvPr/>
                </p:nvSpPr>
                <p:spPr>
                  <a:xfrm>
                    <a:off x="1120680" y="1757520"/>
                    <a:ext cx="1800" cy="27144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271440"/>
                      <a:gd name="textAreaBottom" fmla="*/ 271800 h 271440"/>
                    </a:gdLst>
                    <a:ahLst/>
                    <a:rect l="textAreaLeft" t="textAreaTop" r="textAreaRight" b="textAreaBottom"/>
                    <a:pathLst>
                      <a:path w="1" h="171">
                        <a:moveTo>
                          <a:pt x="1" y="12"/>
                        </a:moveTo>
                        <a:lnTo>
                          <a:pt x="1" y="171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" y="12"/>
                        </a:lnTo>
                        <a:close/>
                      </a:path>
                    </a:pathLst>
                  </a:custGeom>
                  <a:solidFill>
                    <a:srgbClr val="002ba8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345"/>
                  <p:cNvSpPr/>
                  <p:nvPr/>
                </p:nvSpPr>
                <p:spPr>
                  <a:xfrm>
                    <a:off x="1168560" y="1773360"/>
                    <a:ext cx="58680" cy="261720"/>
                  </a:xfrm>
                  <a:custGeom>
                    <a:avLst/>
                    <a:gdLst>
                      <a:gd name="textAreaLeft" fmla="*/ 0 w 58680"/>
                      <a:gd name="textAreaRight" fmla="*/ 59040 w 5868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37" h="165">
                        <a:moveTo>
                          <a:pt x="37" y="0"/>
                        </a:moveTo>
                        <a:lnTo>
                          <a:pt x="37" y="159"/>
                        </a:lnTo>
                        <a:lnTo>
                          <a:pt x="0" y="165"/>
                        </a:lnTo>
                        <a:lnTo>
                          <a:pt x="0" y="6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346"/>
                  <p:cNvSpPr/>
                  <p:nvPr/>
                </p:nvSpPr>
                <p:spPr>
                  <a:xfrm>
                    <a:off x="1122480" y="1776240"/>
                    <a:ext cx="46080" cy="258840"/>
                  </a:xfrm>
                  <a:custGeom>
                    <a:avLst/>
                    <a:gdLst>
                      <a:gd name="textAreaLeft" fmla="*/ 0 w 46080"/>
                      <a:gd name="textAreaRight" fmla="*/ 46440 w 46080"/>
                      <a:gd name="textAreaTop" fmla="*/ 0 h 258840"/>
                      <a:gd name="textAreaBottom" fmla="*/ 259200 h 258840"/>
                    </a:gdLst>
                    <a:ahLst/>
                    <a:rect l="textAreaLeft" t="textAreaTop" r="textAreaRight" b="textAreaBottom"/>
                    <a:pathLst>
                      <a:path w="29" h="163">
                        <a:moveTo>
                          <a:pt x="29" y="4"/>
                        </a:moveTo>
                        <a:lnTo>
                          <a:pt x="29" y="163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29" y="4"/>
                        </a:lnTo>
                        <a:close/>
                      </a:path>
                    </a:pathLst>
                  </a:custGeom>
                  <a:solidFill>
                    <a:srgbClr val="000796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347"/>
                  <p:cNvSpPr/>
                  <p:nvPr/>
                </p:nvSpPr>
                <p:spPr>
                  <a:xfrm>
                    <a:off x="1874880" y="1752480"/>
                    <a:ext cx="28440" cy="297000"/>
                  </a:xfrm>
                  <a:custGeom>
                    <a:avLst/>
                    <a:gdLst>
                      <a:gd name="textAreaLeft" fmla="*/ 0 w 28440"/>
                      <a:gd name="textAreaRight" fmla="*/ 28800 w 28440"/>
                      <a:gd name="textAreaTop" fmla="*/ 0 h 297000"/>
                      <a:gd name="textAreaBottom" fmla="*/ 297360 h 297000"/>
                    </a:gdLst>
                    <a:ahLst/>
                    <a:rect l="textAreaLeft" t="textAreaTop" r="textAreaRight" b="textAreaBottom"/>
                    <a:pathLst>
                      <a:path w="18" h="187">
                        <a:moveTo>
                          <a:pt x="18" y="28"/>
                        </a:moveTo>
                        <a:lnTo>
                          <a:pt x="18" y="187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8" y="28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348"/>
                  <p:cNvSpPr/>
                  <p:nvPr/>
                </p:nvSpPr>
                <p:spPr>
                  <a:xfrm>
                    <a:off x="1320840" y="1754280"/>
                    <a:ext cx="38160" cy="2966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96640"/>
                      <a:gd name="textAreaBottom" fmla="*/ 297000 h 296640"/>
                    </a:gdLst>
                    <a:ahLst/>
                    <a:rect l="textAreaLeft" t="textAreaTop" r="textAreaRight" b="textAreaBottom"/>
                    <a:pathLst>
                      <a:path w="24" h="187">
                        <a:moveTo>
                          <a:pt x="24" y="0"/>
                        </a:moveTo>
                        <a:lnTo>
                          <a:pt x="24" y="159"/>
                        </a:lnTo>
                        <a:lnTo>
                          <a:pt x="0" y="187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8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349"/>
                  <p:cNvSpPr/>
                  <p:nvPr/>
                </p:nvSpPr>
                <p:spPr>
                  <a:xfrm>
                    <a:off x="2044800" y="1770120"/>
                    <a:ext cx="12600" cy="312840"/>
                  </a:xfrm>
                  <a:custGeom>
                    <a:avLst/>
                    <a:gdLst>
                      <a:gd name="textAreaLeft" fmla="*/ 0 w 12600"/>
                      <a:gd name="textAreaRight" fmla="*/ 12960 w 12600"/>
                      <a:gd name="textAreaTop" fmla="*/ 0 h 312840"/>
                      <a:gd name="textAreaBottom" fmla="*/ 312840 h 312840"/>
                    </a:gdLst>
                    <a:ahLst/>
                    <a:rect l="textAreaLeft" t="textAreaTop" r="textAreaRight" b="textAreaBottom"/>
                    <a:pathLst>
                      <a:path w="8" h="197">
                        <a:moveTo>
                          <a:pt x="8" y="0"/>
                        </a:moveTo>
                        <a:lnTo>
                          <a:pt x="8" y="159"/>
                        </a:lnTo>
                        <a:lnTo>
                          <a:pt x="0" y="197"/>
                        </a:lnTo>
                        <a:lnTo>
                          <a:pt x="0" y="37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21a3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350"/>
                  <p:cNvSpPr/>
                  <p:nvPr/>
                </p:nvSpPr>
                <p:spPr>
                  <a:xfrm>
                    <a:off x="1903320" y="1797120"/>
                    <a:ext cx="54000" cy="291960"/>
                  </a:xfrm>
                  <a:custGeom>
                    <a:avLst/>
                    <a:gdLst>
                      <a:gd name="textAreaLeft" fmla="*/ 0 w 54000"/>
                      <a:gd name="textAreaRight" fmla="*/ 54360 w 54000"/>
                      <a:gd name="textAreaTop" fmla="*/ 0 h 291960"/>
                      <a:gd name="textAreaBottom" fmla="*/ 291960 h 291960"/>
                    </a:gdLst>
                    <a:ahLst/>
                    <a:rect l="textAreaLeft" t="textAreaTop" r="textAreaRight" b="textAreaBottom"/>
                    <a:pathLst>
                      <a:path w="34" h="184">
                        <a:moveTo>
                          <a:pt x="34" y="25"/>
                        </a:moveTo>
                        <a:lnTo>
                          <a:pt x="34" y="184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34" y="25"/>
                        </a:lnTo>
                        <a:close/>
                      </a:path>
                    </a:pathLst>
                  </a:custGeom>
                  <a:solidFill>
                    <a:srgbClr val="0744b5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351"/>
                  <p:cNvSpPr/>
                  <p:nvPr/>
                </p:nvSpPr>
                <p:spPr>
                  <a:xfrm>
                    <a:off x="1957320" y="1828800"/>
                    <a:ext cx="87480" cy="260280"/>
                  </a:xfrm>
                  <a:custGeom>
                    <a:avLst/>
                    <a:gdLst>
                      <a:gd name="textAreaLeft" fmla="*/ 0 w 87480"/>
                      <a:gd name="textAreaRight" fmla="*/ 87840 w 8748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55" h="164">
                        <a:moveTo>
                          <a:pt x="55" y="0"/>
                        </a:moveTo>
                        <a:lnTo>
                          <a:pt x="55" y="160"/>
                        </a:lnTo>
                        <a:lnTo>
                          <a:pt x="0" y="164"/>
                        </a:lnTo>
                        <a:lnTo>
                          <a:pt x="0" y="5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000087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352"/>
                  <p:cNvSpPr/>
                  <p:nvPr/>
                </p:nvSpPr>
                <p:spPr>
                  <a:xfrm>
                    <a:off x="1120680" y="1798560"/>
                    <a:ext cx="200160" cy="370080"/>
                  </a:xfrm>
                  <a:custGeom>
                    <a:avLst/>
                    <a:gdLst>
                      <a:gd name="textAreaLeft" fmla="*/ 0 w 200160"/>
                      <a:gd name="textAreaRight" fmla="*/ 200520 w 200160"/>
                      <a:gd name="textAreaTop" fmla="*/ 0 h 370080"/>
                      <a:gd name="textAreaBottom" fmla="*/ 370440 h 370080"/>
                    </a:gdLst>
                    <a:ahLst/>
                    <a:rect l="textAreaLeft" t="textAreaTop" r="textAreaRight" b="textAreaBottom"/>
                    <a:pathLst>
                      <a:path w="126" h="233">
                        <a:moveTo>
                          <a:pt x="126" y="0"/>
                        </a:moveTo>
                        <a:lnTo>
                          <a:pt x="126" y="159"/>
                        </a:lnTo>
                        <a:lnTo>
                          <a:pt x="0" y="233"/>
                        </a:lnTo>
                        <a:lnTo>
                          <a:pt x="0" y="74"/>
                        </a:lnTo>
                        <a:lnTo>
                          <a:pt x="126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Freeform 353"/>
                  <p:cNvSpPr/>
                  <p:nvPr/>
                </p:nvSpPr>
                <p:spPr>
                  <a:xfrm>
                    <a:off x="917640" y="1143000"/>
                    <a:ext cx="1139760" cy="843120"/>
                  </a:xfrm>
                  <a:custGeom>
                    <a:avLst/>
                    <a:gdLst>
                      <a:gd name="textAreaLeft" fmla="*/ 0 w 1139760"/>
                      <a:gd name="textAreaRight" fmla="*/ 1139760 w 1139760"/>
                      <a:gd name="textAreaTop" fmla="*/ 0 h 843120"/>
                      <a:gd name="textAreaBottom" fmla="*/ 843480 h 843120"/>
                    </a:gdLst>
                    <a:ahLst/>
                    <a:rect l="textAreaLeft" t="textAreaTop" r="textAreaRight" b="textAreaBottom"/>
                    <a:pathLst>
                      <a:path w="718" h="531">
                        <a:moveTo>
                          <a:pt x="535" y="17"/>
                        </a:moveTo>
                        <a:lnTo>
                          <a:pt x="504" y="314"/>
                        </a:lnTo>
                        <a:lnTo>
                          <a:pt x="543" y="304"/>
                        </a:lnTo>
                        <a:lnTo>
                          <a:pt x="539" y="314"/>
                        </a:lnTo>
                        <a:lnTo>
                          <a:pt x="580" y="336"/>
                        </a:lnTo>
                        <a:lnTo>
                          <a:pt x="618" y="312"/>
                        </a:lnTo>
                        <a:lnTo>
                          <a:pt x="681" y="370"/>
                        </a:lnTo>
                        <a:lnTo>
                          <a:pt x="708" y="376"/>
                        </a:lnTo>
                        <a:lnTo>
                          <a:pt x="718" y="395"/>
                        </a:lnTo>
                        <a:lnTo>
                          <a:pt x="710" y="432"/>
                        </a:lnTo>
                        <a:lnTo>
                          <a:pt x="655" y="437"/>
                        </a:lnTo>
                        <a:lnTo>
                          <a:pt x="621" y="412"/>
                        </a:lnTo>
                        <a:lnTo>
                          <a:pt x="603" y="384"/>
                        </a:lnTo>
                        <a:lnTo>
                          <a:pt x="549" y="346"/>
                        </a:lnTo>
                        <a:lnTo>
                          <a:pt x="508" y="333"/>
                        </a:lnTo>
                        <a:lnTo>
                          <a:pt x="443" y="336"/>
                        </a:lnTo>
                        <a:lnTo>
                          <a:pt x="420" y="326"/>
                        </a:lnTo>
                        <a:lnTo>
                          <a:pt x="389" y="319"/>
                        </a:lnTo>
                        <a:lnTo>
                          <a:pt x="385" y="336"/>
                        </a:lnTo>
                        <a:lnTo>
                          <a:pt x="364" y="343"/>
                        </a:lnTo>
                        <a:lnTo>
                          <a:pt x="362" y="349"/>
                        </a:lnTo>
                        <a:lnTo>
                          <a:pt x="303" y="369"/>
                        </a:lnTo>
                        <a:lnTo>
                          <a:pt x="310" y="350"/>
                        </a:lnTo>
                        <a:lnTo>
                          <a:pt x="330" y="336"/>
                        </a:lnTo>
                        <a:lnTo>
                          <a:pt x="344" y="315"/>
                        </a:lnTo>
                        <a:lnTo>
                          <a:pt x="307" y="329"/>
                        </a:lnTo>
                        <a:lnTo>
                          <a:pt x="269" y="369"/>
                        </a:lnTo>
                        <a:lnTo>
                          <a:pt x="261" y="382"/>
                        </a:lnTo>
                        <a:lnTo>
                          <a:pt x="278" y="385"/>
                        </a:lnTo>
                        <a:lnTo>
                          <a:pt x="254" y="413"/>
                        </a:lnTo>
                        <a:lnTo>
                          <a:pt x="128" y="487"/>
                        </a:lnTo>
                        <a:lnTo>
                          <a:pt x="0" y="531"/>
                        </a:lnTo>
                        <a:lnTo>
                          <a:pt x="1" y="504"/>
                        </a:lnTo>
                        <a:lnTo>
                          <a:pt x="62" y="489"/>
                        </a:lnTo>
                        <a:lnTo>
                          <a:pt x="69" y="480"/>
                        </a:lnTo>
                        <a:lnTo>
                          <a:pt x="131" y="456"/>
                        </a:lnTo>
                        <a:lnTo>
                          <a:pt x="150" y="447"/>
                        </a:lnTo>
                        <a:lnTo>
                          <a:pt x="189" y="422"/>
                        </a:lnTo>
                        <a:lnTo>
                          <a:pt x="195" y="397"/>
                        </a:lnTo>
                        <a:lnTo>
                          <a:pt x="158" y="403"/>
                        </a:lnTo>
                        <a:lnTo>
                          <a:pt x="129" y="399"/>
                        </a:lnTo>
                        <a:lnTo>
                          <a:pt x="128" y="387"/>
                        </a:lnTo>
                        <a:lnTo>
                          <a:pt x="133" y="351"/>
                        </a:lnTo>
                        <a:lnTo>
                          <a:pt x="84" y="341"/>
                        </a:lnTo>
                        <a:lnTo>
                          <a:pt x="85" y="300"/>
                        </a:lnTo>
                        <a:lnTo>
                          <a:pt x="144" y="258"/>
                        </a:lnTo>
                        <a:lnTo>
                          <a:pt x="203" y="233"/>
                        </a:lnTo>
                        <a:lnTo>
                          <a:pt x="197" y="224"/>
                        </a:lnTo>
                        <a:lnTo>
                          <a:pt x="199" y="203"/>
                        </a:lnTo>
                        <a:lnTo>
                          <a:pt x="143" y="205"/>
                        </a:lnTo>
                        <a:lnTo>
                          <a:pt x="129" y="194"/>
                        </a:lnTo>
                        <a:lnTo>
                          <a:pt x="137" y="157"/>
                        </a:lnTo>
                        <a:lnTo>
                          <a:pt x="186" y="146"/>
                        </a:lnTo>
                        <a:lnTo>
                          <a:pt x="202" y="160"/>
                        </a:lnTo>
                        <a:lnTo>
                          <a:pt x="220" y="149"/>
                        </a:lnTo>
                        <a:lnTo>
                          <a:pt x="226" y="131"/>
                        </a:lnTo>
                        <a:lnTo>
                          <a:pt x="213" y="114"/>
                        </a:lnTo>
                        <a:lnTo>
                          <a:pt x="208" y="108"/>
                        </a:lnTo>
                        <a:lnTo>
                          <a:pt x="199" y="91"/>
                        </a:lnTo>
                        <a:lnTo>
                          <a:pt x="223" y="65"/>
                        </a:lnTo>
                        <a:lnTo>
                          <a:pt x="242" y="59"/>
                        </a:lnTo>
                        <a:lnTo>
                          <a:pt x="285" y="22"/>
                        </a:lnTo>
                        <a:lnTo>
                          <a:pt x="326" y="0"/>
                        </a:lnTo>
                        <a:lnTo>
                          <a:pt x="382" y="3"/>
                        </a:lnTo>
                        <a:lnTo>
                          <a:pt x="398" y="17"/>
                        </a:lnTo>
                        <a:lnTo>
                          <a:pt x="435" y="8"/>
                        </a:lnTo>
                        <a:lnTo>
                          <a:pt x="485" y="22"/>
                        </a:lnTo>
                        <a:lnTo>
                          <a:pt x="535" y="17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354"/>
                  <p:cNvSpPr/>
                  <p:nvPr/>
                </p:nvSpPr>
                <p:spPr>
                  <a:xfrm>
                    <a:off x="917640" y="1916280"/>
                    <a:ext cx="203040" cy="322200"/>
                  </a:xfrm>
                  <a:custGeom>
                    <a:avLst/>
                    <a:gdLst>
                      <a:gd name="textAreaLeft" fmla="*/ 0 w 203040"/>
                      <a:gd name="textAreaRight" fmla="*/ 203400 w 203040"/>
                      <a:gd name="textAreaTop" fmla="*/ 0 h 322200"/>
                      <a:gd name="textAreaBottom" fmla="*/ 322560 h 322200"/>
                    </a:gdLst>
                    <a:ahLst/>
                    <a:rect l="textAreaLeft" t="textAreaTop" r="textAreaRight" b="textAreaBottom"/>
                    <a:pathLst>
                      <a:path w="128" h="203">
                        <a:moveTo>
                          <a:pt x="128" y="0"/>
                        </a:moveTo>
                        <a:lnTo>
                          <a:pt x="128" y="159"/>
                        </a:lnTo>
                        <a:lnTo>
                          <a:pt x="0" y="203"/>
                        </a:lnTo>
                        <a:lnTo>
                          <a:pt x="0" y="44"/>
                        </a:lnTo>
                        <a:lnTo>
                          <a:pt x="128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355"/>
                  <p:cNvSpPr/>
                  <p:nvPr/>
                </p:nvSpPr>
                <p:spPr>
                  <a:xfrm>
                    <a:off x="841320" y="2008080"/>
                    <a:ext cx="50760" cy="26028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32" h="164">
                        <a:moveTo>
                          <a:pt x="32" y="0"/>
                        </a:moveTo>
                        <a:lnTo>
                          <a:pt x="32" y="159"/>
                        </a:lnTo>
                        <a:lnTo>
                          <a:pt x="0" y="164"/>
                        </a:lnTo>
                        <a:lnTo>
                          <a:pt x="0" y="5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356"/>
                  <p:cNvSpPr/>
                  <p:nvPr/>
                </p:nvSpPr>
                <p:spPr>
                  <a:xfrm>
                    <a:off x="650880" y="1976400"/>
                    <a:ext cx="241200" cy="100080"/>
                  </a:xfrm>
                  <a:custGeom>
                    <a:avLst/>
                    <a:gdLst>
                      <a:gd name="textAreaLeft" fmla="*/ 0 w 241200"/>
                      <a:gd name="textAreaRight" fmla="*/ 241560 w 241200"/>
                      <a:gd name="textAreaTop" fmla="*/ 0 h 100080"/>
                      <a:gd name="textAreaBottom" fmla="*/ 100440 h 100080"/>
                    </a:gdLst>
                    <a:ahLst/>
                    <a:rect l="textAreaLeft" t="textAreaTop" r="textAreaRight" b="textAreaBottom"/>
                    <a:pathLst>
                      <a:path w="152" h="63">
                        <a:moveTo>
                          <a:pt x="148" y="1"/>
                        </a:moveTo>
                        <a:lnTo>
                          <a:pt x="152" y="20"/>
                        </a:lnTo>
                        <a:lnTo>
                          <a:pt x="120" y="25"/>
                        </a:lnTo>
                        <a:lnTo>
                          <a:pt x="56" y="63"/>
                        </a:lnTo>
                        <a:lnTo>
                          <a:pt x="0" y="58"/>
                        </a:lnTo>
                        <a:lnTo>
                          <a:pt x="15" y="47"/>
                        </a:lnTo>
                        <a:lnTo>
                          <a:pt x="45" y="45"/>
                        </a:lnTo>
                        <a:lnTo>
                          <a:pt x="103" y="0"/>
                        </a:lnTo>
                        <a:lnTo>
                          <a:pt x="148" y="1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Freeform 357"/>
                  <p:cNvSpPr/>
                  <p:nvPr/>
                </p:nvSpPr>
                <p:spPr>
                  <a:xfrm>
                    <a:off x="739800" y="2016000"/>
                    <a:ext cx="101520" cy="312840"/>
                  </a:xfrm>
                  <a:custGeom>
                    <a:avLst/>
                    <a:gdLst>
                      <a:gd name="textAreaLeft" fmla="*/ 0 w 101520"/>
                      <a:gd name="textAreaRight" fmla="*/ 101880 w 101520"/>
                      <a:gd name="textAreaTop" fmla="*/ 0 h 312840"/>
                      <a:gd name="textAreaBottom" fmla="*/ 312840 h 312840"/>
                    </a:gdLst>
                    <a:ahLst/>
                    <a:rect l="textAreaLeft" t="textAreaTop" r="textAreaRight" b="textAreaBottom"/>
                    <a:pathLst>
                      <a:path w="64" h="197">
                        <a:moveTo>
                          <a:pt x="64" y="0"/>
                        </a:moveTo>
                        <a:lnTo>
                          <a:pt x="64" y="159"/>
                        </a:lnTo>
                        <a:lnTo>
                          <a:pt x="0" y="197"/>
                        </a:lnTo>
                        <a:lnTo>
                          <a:pt x="0" y="38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358"/>
                  <p:cNvSpPr/>
                  <p:nvPr/>
                </p:nvSpPr>
                <p:spPr>
                  <a:xfrm>
                    <a:off x="650880" y="2068560"/>
                    <a:ext cx="88920" cy="26028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56" h="164">
                        <a:moveTo>
                          <a:pt x="56" y="5"/>
                        </a:moveTo>
                        <a:lnTo>
                          <a:pt x="56" y="164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56" y="5"/>
                        </a:lnTo>
                        <a:close/>
                      </a:path>
                    </a:pathLst>
                  </a:custGeom>
                  <a:solidFill>
                    <a:srgbClr val="000091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Freeform 359"/>
                  <p:cNvSpPr/>
                  <p:nvPr/>
                </p:nvSpPr>
                <p:spPr>
                  <a:xfrm>
                    <a:off x="503280" y="2058840"/>
                    <a:ext cx="22320" cy="254160"/>
                  </a:xfrm>
                  <a:custGeom>
                    <a:avLst/>
                    <a:gdLst>
                      <a:gd name="textAreaLeft" fmla="*/ 0 w 22320"/>
                      <a:gd name="textAreaRight" fmla="*/ 22680 w 22320"/>
                      <a:gd name="textAreaTop" fmla="*/ 0 h 254160"/>
                      <a:gd name="textAreaBottom" fmla="*/ 254520 h 254160"/>
                    </a:gdLst>
                    <a:ahLst/>
                    <a:rect l="textAreaLeft" t="textAreaTop" r="textAreaRight" b="textAreaBottom"/>
                    <a:pathLst>
                      <a:path w="14" h="160">
                        <a:moveTo>
                          <a:pt x="14" y="1"/>
                        </a:moveTo>
                        <a:lnTo>
                          <a:pt x="14" y="16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lnTo>
                          <a:pt x="14" y="1"/>
                        </a:lnTo>
                        <a:close/>
                      </a:path>
                    </a:pathLst>
                  </a:custGeom>
                  <a:solidFill>
                    <a:srgbClr val="00008e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Freeform 360"/>
                  <p:cNvSpPr/>
                  <p:nvPr/>
                </p:nvSpPr>
                <p:spPr>
                  <a:xfrm>
                    <a:off x="525600" y="2049480"/>
                    <a:ext cx="17280" cy="263520"/>
                  </a:xfrm>
                  <a:custGeom>
                    <a:avLst/>
                    <a:gdLst>
                      <a:gd name="textAreaLeft" fmla="*/ 0 w 17280"/>
                      <a:gd name="textAreaRight" fmla="*/ 17280 w 1728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11" h="166">
                        <a:moveTo>
                          <a:pt x="11" y="0"/>
                        </a:moveTo>
                        <a:lnTo>
                          <a:pt x="11" y="159"/>
                        </a:lnTo>
                        <a:lnTo>
                          <a:pt x="0" y="166"/>
                        </a:lnTo>
                        <a:lnTo>
                          <a:pt x="0" y="7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84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361"/>
                  <p:cNvSpPr/>
                  <p:nvPr/>
                </p:nvSpPr>
                <p:spPr>
                  <a:xfrm>
                    <a:off x="503280" y="2038320"/>
                    <a:ext cx="39600" cy="22320"/>
                  </a:xfrm>
                  <a:custGeom>
                    <a:avLst/>
                    <a:gdLst>
                      <a:gd name="textAreaLeft" fmla="*/ 0 w 39600"/>
                      <a:gd name="textAreaRight" fmla="*/ 39960 w 3960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25" h="14">
                        <a:moveTo>
                          <a:pt x="25" y="7"/>
                        </a:moveTo>
                        <a:lnTo>
                          <a:pt x="14" y="14"/>
                        </a:lnTo>
                        <a:lnTo>
                          <a:pt x="0" y="13"/>
                        </a:lnTo>
                        <a:lnTo>
                          <a:pt x="2" y="6"/>
                        </a:lnTo>
                        <a:lnTo>
                          <a:pt x="11" y="0"/>
                        </a:lnTo>
                        <a:lnTo>
                          <a:pt x="25" y="7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362"/>
                  <p:cNvSpPr/>
                  <p:nvPr/>
                </p:nvSpPr>
                <p:spPr>
                  <a:xfrm>
                    <a:off x="635040" y="2058840"/>
                    <a:ext cx="6480" cy="26856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268560"/>
                      <a:gd name="textAreaBottom" fmla="*/ 268920 h 268560"/>
                    </a:gdLst>
                    <a:ahLst/>
                    <a:rect l="textAreaLeft" t="textAreaTop" r="textAreaRight" b="textAreaBottom"/>
                    <a:pathLst>
                      <a:path w="4" h="169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69"/>
                        </a:lnTo>
                        <a:lnTo>
                          <a:pt x="0" y="1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119b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363"/>
                  <p:cNvSpPr/>
                  <p:nvPr/>
                </p:nvSpPr>
                <p:spPr>
                  <a:xfrm>
                    <a:off x="596880" y="2075040"/>
                    <a:ext cx="38160" cy="26640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266400"/>
                      <a:gd name="textAreaBottom" fmla="*/ 266760 h 266400"/>
                    </a:gdLst>
                    <a:ahLst/>
                    <a:rect l="textAreaLeft" t="textAreaTop" r="textAreaRight" b="textAreaBottom"/>
                    <a:pathLst>
                      <a:path w="24" h="168">
                        <a:moveTo>
                          <a:pt x="24" y="0"/>
                        </a:moveTo>
                        <a:lnTo>
                          <a:pt x="24" y="159"/>
                        </a:lnTo>
                        <a:lnTo>
                          <a:pt x="0" y="168"/>
                        </a:lnTo>
                        <a:lnTo>
                          <a:pt x="0" y="9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00007c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Freeform 364"/>
                  <p:cNvSpPr/>
                  <p:nvPr/>
                </p:nvSpPr>
                <p:spPr>
                  <a:xfrm>
                    <a:off x="541440" y="2058840"/>
                    <a:ext cx="100080" cy="30240"/>
                  </a:xfrm>
                  <a:custGeom>
                    <a:avLst/>
                    <a:gdLst>
                      <a:gd name="textAreaLeft" fmla="*/ 0 w 100080"/>
                      <a:gd name="textAreaRight" fmla="*/ 100440 w 100080"/>
                      <a:gd name="textAreaTop" fmla="*/ 0 h 30240"/>
                      <a:gd name="textAreaBottom" fmla="*/ 30600 h 30240"/>
                    </a:gdLst>
                    <a:ahLst/>
                    <a:rect l="textAreaLeft" t="textAreaTop" r="textAreaRight" b="textAreaBottom"/>
                    <a:pathLst>
                      <a:path w="63" h="19">
                        <a:moveTo>
                          <a:pt x="49" y="1"/>
                        </a:moveTo>
                        <a:lnTo>
                          <a:pt x="63" y="0"/>
                        </a:lnTo>
                        <a:lnTo>
                          <a:pt x="59" y="10"/>
                        </a:lnTo>
                        <a:lnTo>
                          <a:pt x="35" y="19"/>
                        </a:lnTo>
                        <a:lnTo>
                          <a:pt x="0" y="14"/>
                        </a:lnTo>
                        <a:lnTo>
                          <a:pt x="6" y="5"/>
                        </a:lnTo>
                        <a:lnTo>
                          <a:pt x="49" y="1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365"/>
                  <p:cNvSpPr/>
                  <p:nvPr/>
                </p:nvSpPr>
                <p:spPr>
                  <a:xfrm>
                    <a:off x="541440" y="2081160"/>
                    <a:ext cx="55440" cy="260280"/>
                  </a:xfrm>
                  <a:custGeom>
                    <a:avLst/>
                    <a:gdLst>
                      <a:gd name="textAreaLeft" fmla="*/ 0 w 55440"/>
                      <a:gd name="textAreaRight" fmla="*/ 55800 w 5544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35" h="164">
                        <a:moveTo>
                          <a:pt x="35" y="5"/>
                        </a:moveTo>
                        <a:lnTo>
                          <a:pt x="35" y="164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35" y="5"/>
                        </a:lnTo>
                        <a:close/>
                      </a:path>
                    </a:pathLst>
                  </a:custGeom>
                  <a:solidFill>
                    <a:srgbClr val="000796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366"/>
                  <p:cNvSpPr/>
                  <p:nvPr/>
                </p:nvSpPr>
                <p:spPr>
                  <a:xfrm>
                    <a:off x="457200" y="1986120"/>
                    <a:ext cx="23760" cy="936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5" h="6">
                        <a:moveTo>
                          <a:pt x="0" y="0"/>
                        </a:moveTo>
                        <a:lnTo>
                          <a:pt x="15" y="0"/>
                        </a:lnTo>
                        <a:lnTo>
                          <a:pt x="4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Freeform 367"/>
                  <p:cNvSpPr/>
                  <p:nvPr/>
                </p:nvSpPr>
                <p:spPr>
                  <a:xfrm>
                    <a:off x="463680" y="1986120"/>
                    <a:ext cx="17280" cy="261720"/>
                  </a:xfrm>
                  <a:custGeom>
                    <a:avLst/>
                    <a:gdLst>
                      <a:gd name="textAreaLeft" fmla="*/ 0 w 17280"/>
                      <a:gd name="textAreaRight" fmla="*/ 17280 w 1728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11" h="165">
                        <a:moveTo>
                          <a:pt x="11" y="0"/>
                        </a:moveTo>
                        <a:lnTo>
                          <a:pt x="11" y="159"/>
                        </a:lnTo>
                        <a:lnTo>
                          <a:pt x="0" y="165"/>
                        </a:lnTo>
                        <a:lnTo>
                          <a:pt x="0" y="6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82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368"/>
                  <p:cNvSpPr/>
                  <p:nvPr/>
                </p:nvSpPr>
                <p:spPr>
                  <a:xfrm>
                    <a:off x="457200" y="1986120"/>
                    <a:ext cx="6480" cy="26172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261720"/>
                      <a:gd name="textAreaBottom" fmla="*/ 262080 h 261720"/>
                    </a:gdLst>
                    <a:ahLst/>
                    <a:rect l="textAreaLeft" t="textAreaTop" r="textAreaRight" b="textAreaBottom"/>
                    <a:pathLst>
                      <a:path w="4" h="165">
                        <a:moveTo>
                          <a:pt x="4" y="6"/>
                        </a:moveTo>
                        <a:lnTo>
                          <a:pt x="4" y="165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4" y="6"/>
                        </a:lnTo>
                        <a:close/>
                      </a:path>
                    </a:pathLst>
                  </a:custGeom>
                  <a:solidFill>
                    <a:srgbClr val="0f4fba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Freeform 369"/>
                  <p:cNvSpPr/>
                  <p:nvPr/>
                </p:nvSpPr>
                <p:spPr>
                  <a:xfrm>
                    <a:off x="487440" y="2013120"/>
                    <a:ext cx="6120" cy="260280"/>
                  </a:xfrm>
                  <a:custGeom>
                    <a:avLst/>
                    <a:gdLst>
                      <a:gd name="textAreaLeft" fmla="*/ 0 w 6120"/>
                      <a:gd name="textAreaRight" fmla="*/ 6480 w 6120"/>
                      <a:gd name="textAreaTop" fmla="*/ 0 h 260280"/>
                      <a:gd name="textAreaBottom" fmla="*/ 260640 h 260280"/>
                    </a:gdLst>
                    <a:ahLst/>
                    <a:rect l="textAreaLeft" t="textAreaTop" r="textAreaRight" b="textAreaBottom"/>
                    <a:pathLst>
                      <a:path w="4" h="164">
                        <a:moveTo>
                          <a:pt x="4" y="0"/>
                        </a:moveTo>
                        <a:lnTo>
                          <a:pt x="4" y="159"/>
                        </a:lnTo>
                        <a:lnTo>
                          <a:pt x="0" y="164"/>
                        </a:lnTo>
                        <a:lnTo>
                          <a:pt x="0" y="5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91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Freeform 370"/>
                  <p:cNvSpPr/>
                  <p:nvPr/>
                </p:nvSpPr>
                <p:spPr>
                  <a:xfrm>
                    <a:off x="457200" y="2003400"/>
                    <a:ext cx="36360" cy="1908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3" h="12">
                        <a:moveTo>
                          <a:pt x="0" y="6"/>
                        </a:moveTo>
                        <a:lnTo>
                          <a:pt x="14" y="0"/>
                        </a:lnTo>
                        <a:lnTo>
                          <a:pt x="23" y="6"/>
                        </a:lnTo>
                        <a:lnTo>
                          <a:pt x="19" y="11"/>
                        </a:lnTo>
                        <a:lnTo>
                          <a:pt x="12" y="12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00ff00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371"/>
                  <p:cNvSpPr/>
                  <p:nvPr/>
                </p:nvSpPr>
                <p:spPr>
                  <a:xfrm>
                    <a:off x="476280" y="2021040"/>
                    <a:ext cx="11160" cy="255600"/>
                  </a:xfrm>
                  <a:custGeom>
                    <a:avLst/>
                    <a:gdLst>
                      <a:gd name="textAreaLeft" fmla="*/ 0 w 11160"/>
                      <a:gd name="textAreaRight" fmla="*/ 11520 w 11160"/>
                      <a:gd name="textAreaTop" fmla="*/ 0 h 255600"/>
                      <a:gd name="textAreaBottom" fmla="*/ 255600 h 255600"/>
                    </a:gdLst>
                    <a:ahLst/>
                    <a:rect l="textAreaLeft" t="textAreaTop" r="textAreaRight" b="textAreaBottom"/>
                    <a:pathLst>
                      <a:path w="7" h="161">
                        <a:moveTo>
                          <a:pt x="7" y="0"/>
                        </a:moveTo>
                        <a:lnTo>
                          <a:pt x="7" y="159"/>
                        </a:lnTo>
                        <a:lnTo>
                          <a:pt x="0" y="161"/>
                        </a:lnTo>
                        <a:lnTo>
                          <a:pt x="0" y="1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00007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Freeform 372"/>
                  <p:cNvSpPr/>
                  <p:nvPr/>
                </p:nvSpPr>
                <p:spPr>
                  <a:xfrm>
                    <a:off x="457200" y="2013120"/>
                    <a:ext cx="19080" cy="263520"/>
                  </a:xfrm>
                  <a:custGeom>
                    <a:avLst/>
                    <a:gdLst>
                      <a:gd name="textAreaLeft" fmla="*/ 0 w 19080"/>
                      <a:gd name="textAreaRight" fmla="*/ 19440 w 19080"/>
                      <a:gd name="textAreaTop" fmla="*/ 0 h 263520"/>
                      <a:gd name="textAreaBottom" fmla="*/ 263880 h 263520"/>
                    </a:gdLst>
                    <a:ahLst/>
                    <a:rect l="textAreaLeft" t="textAreaTop" r="textAreaRight" b="textAreaBottom"/>
                    <a:pathLst>
                      <a:path w="12" h="166">
                        <a:moveTo>
                          <a:pt x="12" y="6"/>
                        </a:moveTo>
                        <a:lnTo>
                          <a:pt x="12" y="166"/>
                        </a:lnTo>
                        <a:lnTo>
                          <a:pt x="0" y="159"/>
                        </a:lnTo>
                        <a:lnTo>
                          <a:pt x="0" y="0"/>
                        </a:lnTo>
                        <a:lnTo>
                          <a:pt x="12" y="6"/>
                        </a:lnTo>
                        <a:close/>
                      </a:path>
                    </a:pathLst>
                  </a:custGeom>
                  <a:solidFill>
                    <a:srgbClr val="003aaf">
                      <a:alpha val="4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0" name="Rectangle 374"/>
                <p:cNvSpPr/>
                <p:nvPr/>
              </p:nvSpPr>
              <p:spPr>
                <a:xfrm>
                  <a:off x="1310760" y="1424160"/>
                  <a:ext cx="2293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Times New Roman"/>
                    </a:rPr>
                    <a:t>AK</a:t>
                  </a:r>
                  <a:endParaRPr b="0" lang="en-US" sz="12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1" name="Group 378"/>
              <p:cNvGrpSpPr/>
              <p:nvPr/>
            </p:nvGrpSpPr>
            <p:grpSpPr>
              <a:xfrm>
                <a:off x="1859040" y="2637000"/>
                <a:ext cx="1276200" cy="722160"/>
                <a:chOff x="1859040" y="2637000"/>
                <a:chExt cx="1276200" cy="722160"/>
              </a:xfrm>
            </p:grpSpPr>
            <p:sp>
              <p:nvSpPr>
                <p:cNvPr id="402" name="Freeform 376"/>
                <p:cNvSpPr/>
                <p:nvPr/>
              </p:nvSpPr>
              <p:spPr>
                <a:xfrm>
                  <a:off x="1859040" y="2637000"/>
                  <a:ext cx="1276200" cy="722160"/>
                </a:xfrm>
                <a:custGeom>
                  <a:avLst/>
                  <a:gdLst>
                    <a:gd name="textAreaLeft" fmla="*/ 0 w 1276200"/>
                    <a:gd name="textAreaRight" fmla="*/ 1276560 w 1276200"/>
                    <a:gd name="textAreaTop" fmla="*/ 0 h 722160"/>
                    <a:gd name="textAreaBottom" fmla="*/ 722520 h 722160"/>
                  </a:gdLst>
                  <a:ahLst/>
                  <a:rect l="textAreaLeft" t="textAreaTop" r="textAreaRight" b="textAreaBottom"/>
                  <a:pathLst>
                    <a:path w="804" h="455">
                      <a:moveTo>
                        <a:pt x="0" y="113"/>
                      </a:moveTo>
                      <a:lnTo>
                        <a:pt x="67" y="249"/>
                      </a:lnTo>
                      <a:lnTo>
                        <a:pt x="81" y="249"/>
                      </a:lnTo>
                      <a:lnTo>
                        <a:pt x="58" y="342"/>
                      </a:lnTo>
                      <a:lnTo>
                        <a:pt x="90" y="342"/>
                      </a:lnTo>
                      <a:lnTo>
                        <a:pt x="162" y="443"/>
                      </a:lnTo>
                      <a:lnTo>
                        <a:pt x="274" y="447"/>
                      </a:lnTo>
                      <a:lnTo>
                        <a:pt x="278" y="423"/>
                      </a:lnTo>
                      <a:lnTo>
                        <a:pt x="790" y="455"/>
                      </a:lnTo>
                      <a:lnTo>
                        <a:pt x="795" y="359"/>
                      </a:lnTo>
                      <a:lnTo>
                        <a:pt x="804" y="72"/>
                      </a:lnTo>
                      <a:lnTo>
                        <a:pt x="620" y="72"/>
                      </a:lnTo>
                      <a:lnTo>
                        <a:pt x="283" y="32"/>
                      </a:lnTo>
                      <a:lnTo>
                        <a:pt x="14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377"/>
                <p:cNvSpPr/>
                <p:nvPr/>
              </p:nvSpPr>
              <p:spPr>
                <a:xfrm>
                  <a:off x="1859040" y="2637000"/>
                  <a:ext cx="1276200" cy="722160"/>
                </a:xfrm>
                <a:custGeom>
                  <a:avLst/>
                  <a:gdLst>
                    <a:gd name="textAreaLeft" fmla="*/ 0 w 1276200"/>
                    <a:gd name="textAreaRight" fmla="*/ 1276560 w 1276200"/>
                    <a:gd name="textAreaTop" fmla="*/ 0 h 722160"/>
                    <a:gd name="textAreaBottom" fmla="*/ 722520 h 722160"/>
                  </a:gdLst>
                  <a:ahLst/>
                  <a:rect l="textAreaLeft" t="textAreaTop" r="textAreaRight" b="textAreaBottom"/>
                  <a:pathLst>
                    <a:path w="804" h="455">
                      <a:moveTo>
                        <a:pt x="0" y="113"/>
                      </a:moveTo>
                      <a:lnTo>
                        <a:pt x="67" y="249"/>
                      </a:lnTo>
                      <a:lnTo>
                        <a:pt x="81" y="249"/>
                      </a:lnTo>
                      <a:lnTo>
                        <a:pt x="58" y="342"/>
                      </a:lnTo>
                      <a:lnTo>
                        <a:pt x="90" y="342"/>
                      </a:lnTo>
                      <a:lnTo>
                        <a:pt x="162" y="443"/>
                      </a:lnTo>
                      <a:lnTo>
                        <a:pt x="274" y="447"/>
                      </a:lnTo>
                      <a:lnTo>
                        <a:pt x="278" y="423"/>
                      </a:lnTo>
                      <a:lnTo>
                        <a:pt x="790" y="455"/>
                      </a:lnTo>
                      <a:lnTo>
                        <a:pt x="795" y="359"/>
                      </a:lnTo>
                      <a:lnTo>
                        <a:pt x="804" y="72"/>
                      </a:lnTo>
                      <a:lnTo>
                        <a:pt x="620" y="72"/>
                      </a:lnTo>
                      <a:lnTo>
                        <a:pt x="283" y="32"/>
                      </a:lnTo>
                      <a:lnTo>
                        <a:pt x="14" y="0"/>
                      </a:lnTo>
                      <a:lnTo>
                        <a:pt x="0" y="11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Group 381"/>
              <p:cNvGrpSpPr/>
              <p:nvPr/>
            </p:nvGrpSpPr>
            <p:grpSpPr>
              <a:xfrm>
                <a:off x="1552680" y="2622600"/>
                <a:ext cx="733320" cy="1138320"/>
                <a:chOff x="1552680" y="2622600"/>
                <a:chExt cx="733320" cy="1138320"/>
              </a:xfrm>
            </p:grpSpPr>
            <p:sp>
              <p:nvSpPr>
                <p:cNvPr id="405" name="Freeform 379"/>
                <p:cNvSpPr/>
                <p:nvPr/>
              </p:nvSpPr>
              <p:spPr>
                <a:xfrm>
                  <a:off x="1552680" y="2622600"/>
                  <a:ext cx="733320" cy="1138320"/>
                </a:xfrm>
                <a:custGeom>
                  <a:avLst/>
                  <a:gdLst>
                    <a:gd name="textAreaLeft" fmla="*/ 0 w 733320"/>
                    <a:gd name="textAreaRight" fmla="*/ 733680 w 733320"/>
                    <a:gd name="textAreaTop" fmla="*/ 0 h 1138320"/>
                    <a:gd name="textAreaBottom" fmla="*/ 1138680 h 1138320"/>
                  </a:gdLst>
                  <a:ahLst/>
                  <a:rect l="textAreaLeft" t="textAreaTop" r="textAreaRight" b="textAreaBottom"/>
                  <a:pathLst>
                    <a:path w="462" h="717">
                      <a:moveTo>
                        <a:pt x="184" y="9"/>
                      </a:moveTo>
                      <a:lnTo>
                        <a:pt x="166" y="126"/>
                      </a:lnTo>
                      <a:lnTo>
                        <a:pt x="242" y="279"/>
                      </a:lnTo>
                      <a:lnTo>
                        <a:pt x="220" y="372"/>
                      </a:lnTo>
                      <a:lnTo>
                        <a:pt x="269" y="372"/>
                      </a:lnTo>
                      <a:lnTo>
                        <a:pt x="341" y="476"/>
                      </a:lnTo>
                      <a:lnTo>
                        <a:pt x="462" y="480"/>
                      </a:lnTo>
                      <a:lnTo>
                        <a:pt x="431" y="717"/>
                      </a:lnTo>
                      <a:lnTo>
                        <a:pt x="220" y="686"/>
                      </a:lnTo>
                      <a:lnTo>
                        <a:pt x="0" y="645"/>
                      </a:lnTo>
                      <a:lnTo>
                        <a:pt x="22" y="516"/>
                      </a:lnTo>
                      <a:lnTo>
                        <a:pt x="45" y="476"/>
                      </a:lnTo>
                      <a:lnTo>
                        <a:pt x="31" y="440"/>
                      </a:lnTo>
                      <a:lnTo>
                        <a:pt x="108" y="339"/>
                      </a:lnTo>
                      <a:lnTo>
                        <a:pt x="81" y="311"/>
                      </a:lnTo>
                      <a:lnTo>
                        <a:pt x="135" y="0"/>
                      </a:lnTo>
                      <a:lnTo>
                        <a:pt x="184" y="9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380"/>
                <p:cNvSpPr/>
                <p:nvPr/>
              </p:nvSpPr>
              <p:spPr>
                <a:xfrm>
                  <a:off x="1552680" y="2622600"/>
                  <a:ext cx="733320" cy="1138320"/>
                </a:xfrm>
                <a:custGeom>
                  <a:avLst/>
                  <a:gdLst>
                    <a:gd name="textAreaLeft" fmla="*/ 0 w 733320"/>
                    <a:gd name="textAreaRight" fmla="*/ 733680 w 733320"/>
                    <a:gd name="textAreaTop" fmla="*/ 0 h 1138320"/>
                    <a:gd name="textAreaBottom" fmla="*/ 1138680 h 1138320"/>
                  </a:gdLst>
                  <a:ahLst/>
                  <a:rect l="textAreaLeft" t="textAreaTop" r="textAreaRight" b="textAreaBottom"/>
                  <a:pathLst>
                    <a:path w="462" h="717">
                      <a:moveTo>
                        <a:pt x="184" y="9"/>
                      </a:moveTo>
                      <a:lnTo>
                        <a:pt x="166" y="126"/>
                      </a:lnTo>
                      <a:lnTo>
                        <a:pt x="242" y="279"/>
                      </a:lnTo>
                      <a:lnTo>
                        <a:pt x="220" y="372"/>
                      </a:lnTo>
                      <a:lnTo>
                        <a:pt x="269" y="372"/>
                      </a:lnTo>
                      <a:lnTo>
                        <a:pt x="341" y="476"/>
                      </a:lnTo>
                      <a:lnTo>
                        <a:pt x="462" y="480"/>
                      </a:lnTo>
                      <a:lnTo>
                        <a:pt x="431" y="717"/>
                      </a:lnTo>
                      <a:lnTo>
                        <a:pt x="220" y="686"/>
                      </a:lnTo>
                      <a:lnTo>
                        <a:pt x="0" y="645"/>
                      </a:lnTo>
                      <a:lnTo>
                        <a:pt x="22" y="516"/>
                      </a:lnTo>
                      <a:lnTo>
                        <a:pt x="45" y="476"/>
                      </a:lnTo>
                      <a:lnTo>
                        <a:pt x="31" y="440"/>
                      </a:lnTo>
                      <a:lnTo>
                        <a:pt x="108" y="339"/>
                      </a:lnTo>
                      <a:lnTo>
                        <a:pt x="81" y="311"/>
                      </a:lnTo>
                      <a:lnTo>
                        <a:pt x="135" y="0"/>
                      </a:lnTo>
                      <a:lnTo>
                        <a:pt x="184" y="9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7" name="Group 384"/>
              <p:cNvGrpSpPr/>
              <p:nvPr/>
            </p:nvGrpSpPr>
            <p:grpSpPr>
              <a:xfrm>
                <a:off x="1744560" y="3741840"/>
                <a:ext cx="684360" cy="755640"/>
                <a:chOff x="1744560" y="3741840"/>
                <a:chExt cx="684360" cy="755640"/>
              </a:xfrm>
            </p:grpSpPr>
            <p:sp>
              <p:nvSpPr>
                <p:cNvPr id="408" name="Freeform 382"/>
                <p:cNvSpPr/>
                <p:nvPr/>
              </p:nvSpPr>
              <p:spPr>
                <a:xfrm>
                  <a:off x="1744560" y="3741840"/>
                  <a:ext cx="684360" cy="75564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755640"/>
                    <a:gd name="textAreaBottom" fmla="*/ 756000 h 755640"/>
                  </a:gdLst>
                  <a:ahLst/>
                  <a:rect l="textAreaLeft" t="textAreaTop" r="textAreaRight" b="textAreaBottom"/>
                  <a:pathLst>
                    <a:path w="431" h="476">
                      <a:moveTo>
                        <a:pt x="310" y="33"/>
                      </a:moveTo>
                      <a:lnTo>
                        <a:pt x="301" y="126"/>
                      </a:lnTo>
                      <a:lnTo>
                        <a:pt x="431" y="134"/>
                      </a:lnTo>
                      <a:lnTo>
                        <a:pt x="418" y="275"/>
                      </a:lnTo>
                      <a:lnTo>
                        <a:pt x="395" y="476"/>
                      </a:lnTo>
                      <a:lnTo>
                        <a:pt x="0" y="456"/>
                      </a:lnTo>
                      <a:lnTo>
                        <a:pt x="90" y="0"/>
                      </a:lnTo>
                      <a:lnTo>
                        <a:pt x="310" y="33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383"/>
                <p:cNvSpPr/>
                <p:nvPr/>
              </p:nvSpPr>
              <p:spPr>
                <a:xfrm>
                  <a:off x="1744560" y="3741840"/>
                  <a:ext cx="684360" cy="755640"/>
                </a:xfrm>
                <a:custGeom>
                  <a:avLst/>
                  <a:gdLst>
                    <a:gd name="textAreaLeft" fmla="*/ 0 w 684360"/>
                    <a:gd name="textAreaRight" fmla="*/ 684720 w 684360"/>
                    <a:gd name="textAreaTop" fmla="*/ 0 h 755640"/>
                    <a:gd name="textAreaBottom" fmla="*/ 756000 h 755640"/>
                  </a:gdLst>
                  <a:ahLst/>
                  <a:rect l="textAreaLeft" t="textAreaTop" r="textAreaRight" b="textAreaBottom"/>
                  <a:pathLst>
                    <a:path w="431" h="476">
                      <a:moveTo>
                        <a:pt x="310" y="33"/>
                      </a:moveTo>
                      <a:lnTo>
                        <a:pt x="301" y="126"/>
                      </a:lnTo>
                      <a:lnTo>
                        <a:pt x="431" y="134"/>
                      </a:lnTo>
                      <a:lnTo>
                        <a:pt x="418" y="275"/>
                      </a:lnTo>
                      <a:lnTo>
                        <a:pt x="395" y="476"/>
                      </a:lnTo>
                      <a:lnTo>
                        <a:pt x="0" y="456"/>
                      </a:lnTo>
                      <a:lnTo>
                        <a:pt x="90" y="0"/>
                      </a:lnTo>
                      <a:lnTo>
                        <a:pt x="310" y="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0" name="Group 387"/>
              <p:cNvGrpSpPr/>
              <p:nvPr/>
            </p:nvGrpSpPr>
            <p:grpSpPr>
              <a:xfrm>
                <a:off x="1558800" y="4503600"/>
                <a:ext cx="812880" cy="857520"/>
                <a:chOff x="1558800" y="4503600"/>
                <a:chExt cx="812880" cy="857520"/>
              </a:xfrm>
            </p:grpSpPr>
            <p:sp>
              <p:nvSpPr>
                <p:cNvPr id="411" name="Freeform 385"/>
                <p:cNvSpPr/>
                <p:nvPr/>
              </p:nvSpPr>
              <p:spPr>
                <a:xfrm>
                  <a:off x="1558800" y="4503600"/>
                  <a:ext cx="812880" cy="8575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857520"/>
                    <a:gd name="textAreaBottom" fmla="*/ 857880 h 857520"/>
                  </a:gdLst>
                  <a:ahLst/>
                  <a:rect l="textAreaLeft" t="textAreaTop" r="textAreaRight" b="textAreaBottom"/>
                  <a:pathLst>
                    <a:path w="512" h="540">
                      <a:moveTo>
                        <a:pt x="27" y="330"/>
                      </a:moveTo>
                      <a:lnTo>
                        <a:pt x="0" y="378"/>
                      </a:lnTo>
                      <a:lnTo>
                        <a:pt x="279" y="516"/>
                      </a:lnTo>
                      <a:lnTo>
                        <a:pt x="454" y="540"/>
                      </a:lnTo>
                      <a:lnTo>
                        <a:pt x="512" y="15"/>
                      </a:lnTo>
                      <a:lnTo>
                        <a:pt x="113" y="0"/>
                      </a:lnTo>
                      <a:lnTo>
                        <a:pt x="104" y="57"/>
                      </a:lnTo>
                      <a:lnTo>
                        <a:pt x="81" y="69"/>
                      </a:lnTo>
                      <a:lnTo>
                        <a:pt x="72" y="53"/>
                      </a:lnTo>
                      <a:lnTo>
                        <a:pt x="63" y="48"/>
                      </a:lnTo>
                      <a:lnTo>
                        <a:pt x="41" y="137"/>
                      </a:lnTo>
                      <a:lnTo>
                        <a:pt x="36" y="149"/>
                      </a:lnTo>
                      <a:lnTo>
                        <a:pt x="63" y="237"/>
                      </a:lnTo>
                      <a:lnTo>
                        <a:pt x="27" y="261"/>
                      </a:lnTo>
                      <a:lnTo>
                        <a:pt x="18" y="309"/>
                      </a:lnTo>
                      <a:lnTo>
                        <a:pt x="27" y="330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86"/>
                <p:cNvSpPr/>
                <p:nvPr/>
              </p:nvSpPr>
              <p:spPr>
                <a:xfrm>
                  <a:off x="1558800" y="4503600"/>
                  <a:ext cx="812880" cy="857520"/>
                </a:xfrm>
                <a:custGeom>
                  <a:avLst/>
                  <a:gdLst>
                    <a:gd name="textAreaLeft" fmla="*/ 0 w 812880"/>
                    <a:gd name="textAreaRight" fmla="*/ 813240 w 812880"/>
                    <a:gd name="textAreaTop" fmla="*/ 0 h 857520"/>
                    <a:gd name="textAreaBottom" fmla="*/ 857880 h 857520"/>
                  </a:gdLst>
                  <a:ahLst/>
                  <a:rect l="textAreaLeft" t="textAreaTop" r="textAreaRight" b="textAreaBottom"/>
                  <a:pathLst>
                    <a:path w="512" h="540">
                      <a:moveTo>
                        <a:pt x="27" y="330"/>
                      </a:moveTo>
                      <a:lnTo>
                        <a:pt x="0" y="378"/>
                      </a:lnTo>
                      <a:lnTo>
                        <a:pt x="279" y="516"/>
                      </a:lnTo>
                      <a:lnTo>
                        <a:pt x="454" y="540"/>
                      </a:lnTo>
                      <a:lnTo>
                        <a:pt x="512" y="15"/>
                      </a:lnTo>
                      <a:lnTo>
                        <a:pt x="113" y="0"/>
                      </a:lnTo>
                      <a:lnTo>
                        <a:pt x="104" y="57"/>
                      </a:lnTo>
                      <a:lnTo>
                        <a:pt x="81" y="69"/>
                      </a:lnTo>
                      <a:lnTo>
                        <a:pt x="72" y="53"/>
                      </a:lnTo>
                      <a:lnTo>
                        <a:pt x="63" y="48"/>
                      </a:lnTo>
                      <a:lnTo>
                        <a:pt x="41" y="137"/>
                      </a:lnTo>
                      <a:lnTo>
                        <a:pt x="36" y="149"/>
                      </a:lnTo>
                      <a:lnTo>
                        <a:pt x="63" y="237"/>
                      </a:lnTo>
                      <a:lnTo>
                        <a:pt x="27" y="261"/>
                      </a:lnTo>
                      <a:lnTo>
                        <a:pt x="18" y="309"/>
                      </a:lnTo>
                      <a:lnTo>
                        <a:pt x="27" y="33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390"/>
              <p:cNvGrpSpPr/>
              <p:nvPr/>
            </p:nvGrpSpPr>
            <p:grpSpPr>
              <a:xfrm>
                <a:off x="874800" y="2503440"/>
                <a:ext cx="855720" cy="581040"/>
                <a:chOff x="874800" y="2503440"/>
                <a:chExt cx="855720" cy="581040"/>
              </a:xfrm>
            </p:grpSpPr>
            <p:sp>
              <p:nvSpPr>
                <p:cNvPr id="414" name="Freeform 388"/>
                <p:cNvSpPr/>
                <p:nvPr/>
              </p:nvSpPr>
              <p:spPr>
                <a:xfrm>
                  <a:off x="874800" y="2503440"/>
                  <a:ext cx="855720" cy="5810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581040"/>
                    <a:gd name="textAreaBottom" fmla="*/ 581400 h 581040"/>
                  </a:gdLst>
                  <a:ahLst/>
                  <a:rect l="textAreaLeft" t="textAreaTop" r="textAreaRight" b="textAreaBottom"/>
                  <a:pathLst>
                    <a:path w="539" h="366">
                      <a:moveTo>
                        <a:pt x="306" y="321"/>
                      </a:moveTo>
                      <a:lnTo>
                        <a:pt x="131" y="326"/>
                      </a:lnTo>
                      <a:lnTo>
                        <a:pt x="86" y="306"/>
                      </a:lnTo>
                      <a:lnTo>
                        <a:pt x="90" y="269"/>
                      </a:lnTo>
                      <a:lnTo>
                        <a:pt x="18" y="245"/>
                      </a:lnTo>
                      <a:lnTo>
                        <a:pt x="9" y="233"/>
                      </a:lnTo>
                      <a:lnTo>
                        <a:pt x="18" y="149"/>
                      </a:lnTo>
                      <a:lnTo>
                        <a:pt x="18" y="141"/>
                      </a:lnTo>
                      <a:lnTo>
                        <a:pt x="14" y="111"/>
                      </a:lnTo>
                      <a:lnTo>
                        <a:pt x="9" y="92"/>
                      </a:lnTo>
                      <a:lnTo>
                        <a:pt x="0" y="63"/>
                      </a:lnTo>
                      <a:lnTo>
                        <a:pt x="27" y="27"/>
                      </a:lnTo>
                      <a:lnTo>
                        <a:pt x="99" y="80"/>
                      </a:lnTo>
                      <a:lnTo>
                        <a:pt x="131" y="39"/>
                      </a:lnTo>
                      <a:lnTo>
                        <a:pt x="131" y="0"/>
                      </a:lnTo>
                      <a:lnTo>
                        <a:pt x="539" y="72"/>
                      </a:lnTo>
                      <a:lnTo>
                        <a:pt x="485" y="366"/>
                      </a:lnTo>
                      <a:lnTo>
                        <a:pt x="306" y="321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89"/>
                <p:cNvSpPr/>
                <p:nvPr/>
              </p:nvSpPr>
              <p:spPr>
                <a:xfrm>
                  <a:off x="874800" y="2503440"/>
                  <a:ext cx="855720" cy="5810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581040"/>
                    <a:gd name="textAreaBottom" fmla="*/ 581400 h 581040"/>
                  </a:gdLst>
                  <a:ahLst/>
                  <a:rect l="textAreaLeft" t="textAreaTop" r="textAreaRight" b="textAreaBottom"/>
                  <a:pathLst>
                    <a:path w="539" h="366">
                      <a:moveTo>
                        <a:pt x="306" y="321"/>
                      </a:moveTo>
                      <a:lnTo>
                        <a:pt x="131" y="326"/>
                      </a:lnTo>
                      <a:lnTo>
                        <a:pt x="86" y="306"/>
                      </a:lnTo>
                      <a:lnTo>
                        <a:pt x="90" y="269"/>
                      </a:lnTo>
                      <a:lnTo>
                        <a:pt x="18" y="245"/>
                      </a:lnTo>
                      <a:lnTo>
                        <a:pt x="9" y="233"/>
                      </a:lnTo>
                      <a:lnTo>
                        <a:pt x="18" y="149"/>
                      </a:lnTo>
                      <a:lnTo>
                        <a:pt x="18" y="141"/>
                      </a:lnTo>
                      <a:lnTo>
                        <a:pt x="14" y="111"/>
                      </a:lnTo>
                      <a:lnTo>
                        <a:pt x="9" y="92"/>
                      </a:lnTo>
                      <a:lnTo>
                        <a:pt x="0" y="63"/>
                      </a:lnTo>
                      <a:lnTo>
                        <a:pt x="27" y="27"/>
                      </a:lnTo>
                      <a:lnTo>
                        <a:pt x="99" y="80"/>
                      </a:lnTo>
                      <a:lnTo>
                        <a:pt x="131" y="39"/>
                      </a:lnTo>
                      <a:lnTo>
                        <a:pt x="131" y="0"/>
                      </a:lnTo>
                      <a:lnTo>
                        <a:pt x="539" y="72"/>
                      </a:lnTo>
                      <a:lnTo>
                        <a:pt x="485" y="366"/>
                      </a:lnTo>
                      <a:lnTo>
                        <a:pt x="306" y="321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393"/>
              <p:cNvGrpSpPr/>
              <p:nvPr/>
            </p:nvGrpSpPr>
            <p:grpSpPr>
              <a:xfrm>
                <a:off x="662040" y="2922480"/>
                <a:ext cx="1011240" cy="723960"/>
                <a:chOff x="662040" y="2922480"/>
                <a:chExt cx="1011240" cy="723960"/>
              </a:xfrm>
            </p:grpSpPr>
            <p:sp>
              <p:nvSpPr>
                <p:cNvPr id="417" name="Freeform 391"/>
                <p:cNvSpPr/>
                <p:nvPr/>
              </p:nvSpPr>
              <p:spPr>
                <a:xfrm>
                  <a:off x="662040" y="2922480"/>
                  <a:ext cx="1011240" cy="723960"/>
                </a:xfrm>
                <a:custGeom>
                  <a:avLst/>
                  <a:gdLst>
                    <a:gd name="textAreaLeft" fmla="*/ 0 w 1011240"/>
                    <a:gd name="textAreaRight" fmla="*/ 1011600 w 101124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637" h="456">
                      <a:moveTo>
                        <a:pt x="0" y="308"/>
                      </a:moveTo>
                      <a:lnTo>
                        <a:pt x="18" y="282"/>
                      </a:lnTo>
                      <a:lnTo>
                        <a:pt x="130" y="30"/>
                      </a:lnTo>
                      <a:lnTo>
                        <a:pt x="139" y="30"/>
                      </a:lnTo>
                      <a:lnTo>
                        <a:pt x="139" y="0"/>
                      </a:lnTo>
                      <a:lnTo>
                        <a:pt x="193" y="18"/>
                      </a:lnTo>
                      <a:lnTo>
                        <a:pt x="188" y="54"/>
                      </a:lnTo>
                      <a:lnTo>
                        <a:pt x="256" y="86"/>
                      </a:lnTo>
                      <a:lnTo>
                        <a:pt x="440" y="78"/>
                      </a:lnTo>
                      <a:lnTo>
                        <a:pt x="615" y="122"/>
                      </a:lnTo>
                      <a:lnTo>
                        <a:pt x="637" y="155"/>
                      </a:lnTo>
                      <a:lnTo>
                        <a:pt x="561" y="246"/>
                      </a:lnTo>
                      <a:lnTo>
                        <a:pt x="574" y="282"/>
                      </a:lnTo>
                      <a:lnTo>
                        <a:pt x="552" y="324"/>
                      </a:lnTo>
                      <a:lnTo>
                        <a:pt x="539" y="456"/>
                      </a:lnTo>
                      <a:lnTo>
                        <a:pt x="323" y="420"/>
                      </a:lnTo>
                      <a:lnTo>
                        <a:pt x="13" y="363"/>
                      </a:lnTo>
                      <a:lnTo>
                        <a:pt x="0" y="308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92"/>
                <p:cNvSpPr/>
                <p:nvPr/>
              </p:nvSpPr>
              <p:spPr>
                <a:xfrm>
                  <a:off x="662040" y="2922480"/>
                  <a:ext cx="1011240" cy="723960"/>
                </a:xfrm>
                <a:custGeom>
                  <a:avLst/>
                  <a:gdLst>
                    <a:gd name="textAreaLeft" fmla="*/ 0 w 1011240"/>
                    <a:gd name="textAreaRight" fmla="*/ 1011600 w 1011240"/>
                    <a:gd name="textAreaTop" fmla="*/ 0 h 723960"/>
                    <a:gd name="textAreaBottom" fmla="*/ 724320 h 723960"/>
                  </a:gdLst>
                  <a:ahLst/>
                  <a:rect l="textAreaLeft" t="textAreaTop" r="textAreaRight" b="textAreaBottom"/>
                  <a:pathLst>
                    <a:path w="637" h="456">
                      <a:moveTo>
                        <a:pt x="0" y="308"/>
                      </a:moveTo>
                      <a:lnTo>
                        <a:pt x="18" y="282"/>
                      </a:lnTo>
                      <a:lnTo>
                        <a:pt x="130" y="30"/>
                      </a:lnTo>
                      <a:lnTo>
                        <a:pt x="139" y="30"/>
                      </a:lnTo>
                      <a:lnTo>
                        <a:pt x="139" y="0"/>
                      </a:lnTo>
                      <a:lnTo>
                        <a:pt x="193" y="18"/>
                      </a:lnTo>
                      <a:lnTo>
                        <a:pt x="188" y="54"/>
                      </a:lnTo>
                      <a:lnTo>
                        <a:pt x="256" y="86"/>
                      </a:lnTo>
                      <a:lnTo>
                        <a:pt x="440" y="78"/>
                      </a:lnTo>
                      <a:lnTo>
                        <a:pt x="615" y="122"/>
                      </a:lnTo>
                      <a:lnTo>
                        <a:pt x="637" y="155"/>
                      </a:lnTo>
                      <a:lnTo>
                        <a:pt x="561" y="246"/>
                      </a:lnTo>
                      <a:lnTo>
                        <a:pt x="574" y="282"/>
                      </a:lnTo>
                      <a:lnTo>
                        <a:pt x="552" y="324"/>
                      </a:lnTo>
                      <a:lnTo>
                        <a:pt x="539" y="456"/>
                      </a:lnTo>
                      <a:lnTo>
                        <a:pt x="323" y="420"/>
                      </a:lnTo>
                      <a:lnTo>
                        <a:pt x="13" y="363"/>
                      </a:lnTo>
                      <a:lnTo>
                        <a:pt x="0" y="308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396"/>
              <p:cNvGrpSpPr/>
              <p:nvPr/>
            </p:nvGrpSpPr>
            <p:grpSpPr>
              <a:xfrm>
                <a:off x="1054080" y="3627360"/>
                <a:ext cx="790560" cy="1067040"/>
                <a:chOff x="1054080" y="3627360"/>
                <a:chExt cx="790560" cy="1067040"/>
              </a:xfrm>
            </p:grpSpPr>
            <p:sp>
              <p:nvSpPr>
                <p:cNvPr id="420" name="Freeform 394"/>
                <p:cNvSpPr/>
                <p:nvPr/>
              </p:nvSpPr>
              <p:spPr>
                <a:xfrm>
                  <a:off x="1054080" y="3627360"/>
                  <a:ext cx="790560" cy="1067040"/>
                </a:xfrm>
                <a:custGeom>
                  <a:avLst/>
                  <a:gdLst>
                    <a:gd name="textAreaLeft" fmla="*/ 0 w 790560"/>
                    <a:gd name="textAreaRight" fmla="*/ 790920 w 790560"/>
                    <a:gd name="textAreaTop" fmla="*/ 0 h 1067040"/>
                    <a:gd name="textAreaBottom" fmla="*/ 1067400 h 1067040"/>
                  </a:gdLst>
                  <a:ahLst/>
                  <a:rect l="textAreaLeft" t="textAreaTop" r="textAreaRight" b="textAreaBottom"/>
                  <a:pathLst>
                    <a:path w="498" h="672">
                      <a:moveTo>
                        <a:pt x="287" y="33"/>
                      </a:moveTo>
                      <a:lnTo>
                        <a:pt x="498" y="69"/>
                      </a:lnTo>
                      <a:lnTo>
                        <a:pt x="404" y="528"/>
                      </a:lnTo>
                      <a:lnTo>
                        <a:pt x="395" y="585"/>
                      </a:lnTo>
                      <a:lnTo>
                        <a:pt x="377" y="564"/>
                      </a:lnTo>
                      <a:lnTo>
                        <a:pt x="363" y="560"/>
                      </a:lnTo>
                      <a:lnTo>
                        <a:pt x="341" y="665"/>
                      </a:lnTo>
                      <a:lnTo>
                        <a:pt x="336" y="672"/>
                      </a:lnTo>
                      <a:lnTo>
                        <a:pt x="0" y="266"/>
                      </a:lnTo>
                      <a:lnTo>
                        <a:pt x="72" y="0"/>
                      </a:lnTo>
                      <a:lnTo>
                        <a:pt x="287" y="33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95"/>
                <p:cNvSpPr/>
                <p:nvPr/>
              </p:nvSpPr>
              <p:spPr>
                <a:xfrm>
                  <a:off x="1054080" y="3627360"/>
                  <a:ext cx="790560" cy="1067040"/>
                </a:xfrm>
                <a:custGeom>
                  <a:avLst/>
                  <a:gdLst>
                    <a:gd name="textAreaLeft" fmla="*/ 0 w 790560"/>
                    <a:gd name="textAreaRight" fmla="*/ 790920 w 790560"/>
                    <a:gd name="textAreaTop" fmla="*/ 0 h 1067040"/>
                    <a:gd name="textAreaBottom" fmla="*/ 1067400 h 1067040"/>
                  </a:gdLst>
                  <a:ahLst/>
                  <a:rect l="textAreaLeft" t="textAreaTop" r="textAreaRight" b="textAreaBottom"/>
                  <a:pathLst>
                    <a:path w="498" h="672">
                      <a:moveTo>
                        <a:pt x="287" y="33"/>
                      </a:moveTo>
                      <a:lnTo>
                        <a:pt x="498" y="69"/>
                      </a:lnTo>
                      <a:lnTo>
                        <a:pt x="404" y="528"/>
                      </a:lnTo>
                      <a:lnTo>
                        <a:pt x="395" y="585"/>
                      </a:lnTo>
                      <a:lnTo>
                        <a:pt x="377" y="564"/>
                      </a:lnTo>
                      <a:lnTo>
                        <a:pt x="363" y="560"/>
                      </a:lnTo>
                      <a:lnTo>
                        <a:pt x="341" y="665"/>
                      </a:lnTo>
                      <a:lnTo>
                        <a:pt x="336" y="672"/>
                      </a:lnTo>
                      <a:lnTo>
                        <a:pt x="0" y="266"/>
                      </a:lnTo>
                      <a:lnTo>
                        <a:pt x="72" y="0"/>
                      </a:lnTo>
                      <a:lnTo>
                        <a:pt x="287" y="3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2" name="Group 399"/>
              <p:cNvGrpSpPr/>
              <p:nvPr/>
            </p:nvGrpSpPr>
            <p:grpSpPr>
              <a:xfrm>
                <a:off x="539640" y="3537000"/>
                <a:ext cx="1076400" cy="1547640"/>
                <a:chOff x="539640" y="3537000"/>
                <a:chExt cx="1076400" cy="1547640"/>
              </a:xfrm>
            </p:grpSpPr>
            <p:sp>
              <p:nvSpPr>
                <p:cNvPr id="423" name="Freeform 397"/>
                <p:cNvSpPr/>
                <p:nvPr/>
              </p:nvSpPr>
              <p:spPr>
                <a:xfrm>
                  <a:off x="539640" y="3537000"/>
                  <a:ext cx="1076400" cy="154764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1547640"/>
                    <a:gd name="textAreaBottom" fmla="*/ 1548000 h 1547640"/>
                  </a:gdLst>
                  <a:ahLst/>
                  <a:rect l="textAreaLeft" t="textAreaTop" r="textAreaRight" b="textAreaBottom"/>
                  <a:pathLst>
                    <a:path w="678" h="975">
                      <a:moveTo>
                        <a:pt x="81" y="0"/>
                      </a:moveTo>
                      <a:lnTo>
                        <a:pt x="369" y="53"/>
                      </a:lnTo>
                      <a:lnTo>
                        <a:pt x="297" y="323"/>
                      </a:lnTo>
                      <a:lnTo>
                        <a:pt x="656" y="765"/>
                      </a:lnTo>
                      <a:lnTo>
                        <a:pt x="678" y="839"/>
                      </a:lnTo>
                      <a:lnTo>
                        <a:pt x="651" y="855"/>
                      </a:lnTo>
                      <a:lnTo>
                        <a:pt x="634" y="918"/>
                      </a:lnTo>
                      <a:lnTo>
                        <a:pt x="642" y="939"/>
                      </a:lnTo>
                      <a:lnTo>
                        <a:pt x="625" y="975"/>
                      </a:lnTo>
                      <a:lnTo>
                        <a:pt x="598" y="968"/>
                      </a:lnTo>
                      <a:lnTo>
                        <a:pt x="602" y="951"/>
                      </a:lnTo>
                      <a:lnTo>
                        <a:pt x="382" y="924"/>
                      </a:lnTo>
                      <a:lnTo>
                        <a:pt x="378" y="915"/>
                      </a:lnTo>
                      <a:lnTo>
                        <a:pt x="369" y="870"/>
                      </a:lnTo>
                      <a:lnTo>
                        <a:pt x="369" y="858"/>
                      </a:lnTo>
                      <a:lnTo>
                        <a:pt x="283" y="770"/>
                      </a:lnTo>
                      <a:lnTo>
                        <a:pt x="144" y="693"/>
                      </a:lnTo>
                      <a:lnTo>
                        <a:pt x="153" y="650"/>
                      </a:lnTo>
                      <a:lnTo>
                        <a:pt x="68" y="513"/>
                      </a:lnTo>
                      <a:lnTo>
                        <a:pt x="99" y="492"/>
                      </a:lnTo>
                      <a:lnTo>
                        <a:pt x="95" y="476"/>
                      </a:lnTo>
                      <a:lnTo>
                        <a:pt x="54" y="464"/>
                      </a:lnTo>
                      <a:lnTo>
                        <a:pt x="63" y="404"/>
                      </a:lnTo>
                      <a:lnTo>
                        <a:pt x="99" y="420"/>
                      </a:lnTo>
                      <a:lnTo>
                        <a:pt x="86" y="363"/>
                      </a:lnTo>
                      <a:lnTo>
                        <a:pt x="63" y="384"/>
                      </a:lnTo>
                      <a:lnTo>
                        <a:pt x="36" y="360"/>
                      </a:lnTo>
                      <a:lnTo>
                        <a:pt x="18" y="299"/>
                      </a:lnTo>
                      <a:lnTo>
                        <a:pt x="14" y="239"/>
                      </a:lnTo>
                      <a:lnTo>
                        <a:pt x="27" y="189"/>
                      </a:lnTo>
                      <a:lnTo>
                        <a:pt x="5" y="141"/>
                      </a:lnTo>
                      <a:lnTo>
                        <a:pt x="0" y="134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00ff0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98"/>
                <p:cNvSpPr/>
                <p:nvPr/>
              </p:nvSpPr>
              <p:spPr>
                <a:xfrm>
                  <a:off x="539640" y="3537000"/>
                  <a:ext cx="1076400" cy="1547640"/>
                </a:xfrm>
                <a:custGeom>
                  <a:avLst/>
                  <a:gdLst>
                    <a:gd name="textAreaLeft" fmla="*/ 0 w 1076400"/>
                    <a:gd name="textAreaRight" fmla="*/ 1076760 w 1076400"/>
                    <a:gd name="textAreaTop" fmla="*/ 0 h 1547640"/>
                    <a:gd name="textAreaBottom" fmla="*/ 1548000 h 1547640"/>
                  </a:gdLst>
                  <a:ahLst/>
                  <a:rect l="textAreaLeft" t="textAreaTop" r="textAreaRight" b="textAreaBottom"/>
                  <a:pathLst>
                    <a:path w="678" h="975">
                      <a:moveTo>
                        <a:pt x="81" y="0"/>
                      </a:moveTo>
                      <a:lnTo>
                        <a:pt x="369" y="53"/>
                      </a:lnTo>
                      <a:lnTo>
                        <a:pt x="297" y="323"/>
                      </a:lnTo>
                      <a:lnTo>
                        <a:pt x="656" y="765"/>
                      </a:lnTo>
                      <a:lnTo>
                        <a:pt x="678" y="839"/>
                      </a:lnTo>
                      <a:lnTo>
                        <a:pt x="651" y="855"/>
                      </a:lnTo>
                      <a:lnTo>
                        <a:pt x="634" y="918"/>
                      </a:lnTo>
                      <a:lnTo>
                        <a:pt x="642" y="939"/>
                      </a:lnTo>
                      <a:lnTo>
                        <a:pt x="625" y="975"/>
                      </a:lnTo>
                      <a:lnTo>
                        <a:pt x="598" y="968"/>
                      </a:lnTo>
                      <a:lnTo>
                        <a:pt x="602" y="951"/>
                      </a:lnTo>
                      <a:lnTo>
                        <a:pt x="382" y="924"/>
                      </a:lnTo>
                      <a:lnTo>
                        <a:pt x="378" y="915"/>
                      </a:lnTo>
                      <a:lnTo>
                        <a:pt x="369" y="870"/>
                      </a:lnTo>
                      <a:lnTo>
                        <a:pt x="369" y="858"/>
                      </a:lnTo>
                      <a:lnTo>
                        <a:pt x="283" y="770"/>
                      </a:lnTo>
                      <a:lnTo>
                        <a:pt x="144" y="693"/>
                      </a:lnTo>
                      <a:lnTo>
                        <a:pt x="153" y="650"/>
                      </a:lnTo>
                      <a:lnTo>
                        <a:pt x="68" y="513"/>
                      </a:lnTo>
                      <a:lnTo>
                        <a:pt x="99" y="492"/>
                      </a:lnTo>
                      <a:lnTo>
                        <a:pt x="95" y="476"/>
                      </a:lnTo>
                      <a:lnTo>
                        <a:pt x="54" y="464"/>
                      </a:lnTo>
                      <a:lnTo>
                        <a:pt x="63" y="404"/>
                      </a:lnTo>
                      <a:lnTo>
                        <a:pt x="99" y="420"/>
                      </a:lnTo>
                      <a:lnTo>
                        <a:pt x="86" y="363"/>
                      </a:lnTo>
                      <a:lnTo>
                        <a:pt x="63" y="384"/>
                      </a:lnTo>
                      <a:lnTo>
                        <a:pt x="36" y="360"/>
                      </a:lnTo>
                      <a:lnTo>
                        <a:pt x="18" y="299"/>
                      </a:lnTo>
                      <a:lnTo>
                        <a:pt x="14" y="239"/>
                      </a:lnTo>
                      <a:lnTo>
                        <a:pt x="27" y="189"/>
                      </a:lnTo>
                      <a:lnTo>
                        <a:pt x="5" y="141"/>
                      </a:lnTo>
                      <a:lnTo>
                        <a:pt x="0" y="134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Group 402"/>
              <p:cNvGrpSpPr/>
              <p:nvPr/>
            </p:nvGrpSpPr>
            <p:grpSpPr>
              <a:xfrm>
                <a:off x="914400" y="2513160"/>
                <a:ext cx="228600" cy="152280"/>
                <a:chOff x="914400" y="2513160"/>
                <a:chExt cx="228600" cy="152280"/>
              </a:xfrm>
            </p:grpSpPr>
            <p:sp>
              <p:nvSpPr>
                <p:cNvPr id="426" name="Freeform 400"/>
                <p:cNvSpPr/>
                <p:nvPr/>
              </p:nvSpPr>
              <p:spPr>
                <a:xfrm>
                  <a:off x="914400" y="25131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401"/>
                <p:cNvSpPr/>
                <p:nvPr/>
              </p:nvSpPr>
              <p:spPr>
                <a:xfrm>
                  <a:off x="914400" y="25131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405"/>
              <p:cNvGrpSpPr/>
              <p:nvPr/>
            </p:nvGrpSpPr>
            <p:grpSpPr>
              <a:xfrm>
                <a:off x="2057400" y="1676520"/>
                <a:ext cx="1752480" cy="684000"/>
                <a:chOff x="2057400" y="1676520"/>
                <a:chExt cx="1752480" cy="684000"/>
              </a:xfrm>
            </p:grpSpPr>
            <p:sp>
              <p:nvSpPr>
                <p:cNvPr id="429" name="Rectangle 403"/>
                <p:cNvSpPr/>
                <p:nvPr/>
              </p:nvSpPr>
              <p:spPr>
                <a:xfrm>
                  <a:off x="2057400" y="1676520"/>
                  <a:ext cx="1752480" cy="6840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404"/>
                <p:cNvSpPr/>
                <p:nvPr/>
              </p:nvSpPr>
              <p:spPr>
                <a:xfrm>
                  <a:off x="2057400" y="1676520"/>
                  <a:ext cx="1752480" cy="68400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Rectangle 406"/>
              <p:cNvSpPr/>
              <p:nvPr/>
            </p:nvSpPr>
            <p:spPr>
              <a:xfrm>
                <a:off x="2343600" y="1736640"/>
                <a:ext cx="106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estern Regional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2" name="Rectangle 407"/>
              <p:cNvSpPr/>
              <p:nvPr/>
            </p:nvSpPr>
            <p:spPr>
              <a:xfrm>
                <a:off x="2431440" y="1874880"/>
                <a:ext cx="89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3" name="Rectangle 408"/>
              <p:cNvSpPr/>
              <p:nvPr/>
            </p:nvSpPr>
            <p:spPr>
              <a:xfrm>
                <a:off x="2529720" y="2011320"/>
                <a:ext cx="69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attle, WA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4" name="Rectangle 409"/>
              <p:cNvSpPr/>
              <p:nvPr/>
            </p:nvSpPr>
            <p:spPr>
              <a:xfrm>
                <a:off x="2485440" y="2146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6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5" name="Rectangle 410"/>
              <p:cNvSpPr/>
              <p:nvPr/>
            </p:nvSpPr>
            <p:spPr>
              <a:xfrm>
                <a:off x="2695320" y="2146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Rectangle 411"/>
              <p:cNvSpPr/>
              <p:nvPr/>
            </p:nvSpPr>
            <p:spPr>
              <a:xfrm>
                <a:off x="2737800" y="2146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26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Rectangle 412"/>
              <p:cNvSpPr/>
              <p:nvPr/>
            </p:nvSpPr>
            <p:spPr>
              <a:xfrm>
                <a:off x="2949120" y="2146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Rectangle 413"/>
              <p:cNvSpPr/>
              <p:nvPr/>
            </p:nvSpPr>
            <p:spPr>
              <a:xfrm>
                <a:off x="2990160" y="21463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57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Freeform 414"/>
              <p:cNvSpPr/>
              <p:nvPr/>
            </p:nvSpPr>
            <p:spPr>
              <a:xfrm>
                <a:off x="1143000" y="2201760"/>
                <a:ext cx="920880" cy="39384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393840"/>
                  <a:gd name="textAreaBottom" fmla="*/ 394200 h 393840"/>
                </a:gdLst>
                <a:ahLst/>
                <a:rect l="textAreaLeft" t="textAreaTop" r="textAreaRight" b="textAreaBottom"/>
                <a:pathLst>
                  <a:path w="9676" h="4137">
                    <a:moveTo>
                      <a:pt x="9626" y="137"/>
                    </a:moveTo>
                    <a:lnTo>
                      <a:pt x="641" y="3881"/>
                    </a:lnTo>
                    <a:cubicBezTo>
                      <a:pt x="608" y="3895"/>
                      <a:pt x="568" y="3879"/>
                      <a:pt x="554" y="3845"/>
                    </a:cubicBezTo>
                    <a:cubicBezTo>
                      <a:pt x="540" y="3811"/>
                      <a:pt x="556" y="3772"/>
                      <a:pt x="590" y="3758"/>
                    </a:cubicBezTo>
                    <a:lnTo>
                      <a:pt x="9575" y="14"/>
                    </a:lnTo>
                    <a:cubicBezTo>
                      <a:pt x="9609" y="0"/>
                      <a:pt x="9648" y="16"/>
                      <a:pt x="9662" y="50"/>
                    </a:cubicBezTo>
                    <a:cubicBezTo>
                      <a:pt x="9676" y="84"/>
                      <a:pt x="9660" y="123"/>
                      <a:pt x="9626" y="137"/>
                    </a:cubicBezTo>
                    <a:close/>
                    <a:moveTo>
                      <a:pt x="893" y="4137"/>
                    </a:moveTo>
                    <a:lnTo>
                      <a:pt x="0" y="4075"/>
                    </a:lnTo>
                    <a:lnTo>
                      <a:pt x="585" y="3399"/>
                    </a:lnTo>
                    <a:lnTo>
                      <a:pt x="893" y="4137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40" name="Group 417"/>
              <p:cNvGrpSpPr/>
              <p:nvPr/>
            </p:nvGrpSpPr>
            <p:grpSpPr>
              <a:xfrm>
                <a:off x="7238880" y="3808440"/>
                <a:ext cx="1327320" cy="560520"/>
                <a:chOff x="7238880" y="3808440"/>
                <a:chExt cx="1327320" cy="560520"/>
              </a:xfrm>
            </p:grpSpPr>
            <p:sp>
              <p:nvSpPr>
                <p:cNvPr id="441" name="Rectangle 415"/>
                <p:cNvSpPr/>
                <p:nvPr/>
              </p:nvSpPr>
              <p:spPr>
                <a:xfrm>
                  <a:off x="7238880" y="3808440"/>
                  <a:ext cx="1327320" cy="56052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42" name="Rectangle 416"/>
                <p:cNvSpPr/>
                <p:nvPr/>
              </p:nvSpPr>
              <p:spPr>
                <a:xfrm>
                  <a:off x="7238880" y="3808440"/>
                  <a:ext cx="1327320" cy="560520"/>
                </a:xfrm>
                <a:prstGeom prst="rect">
                  <a:avLst/>
                </a:prstGeom>
                <a:noFill/>
                <a:ln cap="rnd"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Rectangle 418"/>
              <p:cNvSpPr/>
              <p:nvPr/>
            </p:nvSpPr>
            <p:spPr>
              <a:xfrm>
                <a:off x="7290000" y="3863880"/>
                <a:ext cx="1132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OC Headquarters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Rectangle 419"/>
              <p:cNvSpPr/>
              <p:nvPr/>
            </p:nvSpPr>
            <p:spPr>
              <a:xfrm>
                <a:off x="7366680" y="4016520"/>
                <a:ext cx="97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Washington, DC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Rectangle 420"/>
              <p:cNvSpPr/>
              <p:nvPr/>
            </p:nvSpPr>
            <p:spPr>
              <a:xfrm>
                <a:off x="7462080" y="41688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02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Rectangle 421"/>
              <p:cNvSpPr/>
              <p:nvPr/>
            </p:nvSpPr>
            <p:spPr>
              <a:xfrm>
                <a:off x="7673760" y="4168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Rectangle 422"/>
              <p:cNvSpPr/>
              <p:nvPr/>
            </p:nvSpPr>
            <p:spPr>
              <a:xfrm>
                <a:off x="7714440" y="41688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82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Rectangle 423"/>
              <p:cNvSpPr/>
              <p:nvPr/>
            </p:nvSpPr>
            <p:spPr>
              <a:xfrm>
                <a:off x="7926120" y="416880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9" name="Rectangle 424"/>
              <p:cNvSpPr/>
              <p:nvPr/>
            </p:nvSpPr>
            <p:spPr>
              <a:xfrm>
                <a:off x="7968600" y="41688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355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50" name="Group 427"/>
              <p:cNvGrpSpPr/>
              <p:nvPr/>
            </p:nvGrpSpPr>
            <p:grpSpPr>
              <a:xfrm>
                <a:off x="6705720" y="3884760"/>
                <a:ext cx="228600" cy="152280"/>
                <a:chOff x="6705720" y="3884760"/>
                <a:chExt cx="228600" cy="152280"/>
              </a:xfrm>
            </p:grpSpPr>
            <p:sp>
              <p:nvSpPr>
                <p:cNvPr id="451" name="Freeform 425"/>
                <p:cNvSpPr/>
                <p:nvPr/>
              </p:nvSpPr>
              <p:spPr>
                <a:xfrm>
                  <a:off x="670572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426"/>
                <p:cNvSpPr/>
                <p:nvPr/>
              </p:nvSpPr>
              <p:spPr>
                <a:xfrm>
                  <a:off x="670572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30"/>
              <p:cNvGrpSpPr/>
              <p:nvPr/>
            </p:nvGrpSpPr>
            <p:grpSpPr>
              <a:xfrm>
                <a:off x="6858000" y="1706400"/>
                <a:ext cx="1676520" cy="578160"/>
                <a:chOff x="6858000" y="1706400"/>
                <a:chExt cx="1676520" cy="578160"/>
              </a:xfrm>
            </p:grpSpPr>
            <p:sp>
              <p:nvSpPr>
                <p:cNvPr id="454" name="Rectangle 428"/>
                <p:cNvSpPr/>
                <p:nvPr/>
              </p:nvSpPr>
              <p:spPr>
                <a:xfrm>
                  <a:off x="6858000" y="1706400"/>
                  <a:ext cx="1676520" cy="57816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55" name="Rectangle 429"/>
                <p:cNvSpPr/>
                <p:nvPr/>
              </p:nvSpPr>
              <p:spPr>
                <a:xfrm>
                  <a:off x="6858000" y="1706400"/>
                  <a:ext cx="1676520" cy="57816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Rectangle 431"/>
              <p:cNvSpPr/>
              <p:nvPr/>
            </p:nvSpPr>
            <p:spPr>
              <a:xfrm>
                <a:off x="6947640" y="1782720"/>
                <a:ext cx="1386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nsus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7" name="Rectangle 432"/>
              <p:cNvSpPr/>
              <p:nvPr/>
            </p:nvSpPr>
            <p:spPr>
              <a:xfrm>
                <a:off x="7256880" y="1917720"/>
                <a:ext cx="767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uitland, MD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8" name="Rectangle 433"/>
              <p:cNvSpPr/>
              <p:nvPr/>
            </p:nvSpPr>
            <p:spPr>
              <a:xfrm>
                <a:off x="7247880" y="20559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9" name="Rectangle 434"/>
              <p:cNvSpPr/>
              <p:nvPr/>
            </p:nvSpPr>
            <p:spPr>
              <a:xfrm>
                <a:off x="7457760" y="2055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0" name="Rectangle 435"/>
              <p:cNvSpPr/>
              <p:nvPr/>
            </p:nvSpPr>
            <p:spPr>
              <a:xfrm>
                <a:off x="7500240" y="205596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76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1" name="Rectangle 436"/>
              <p:cNvSpPr/>
              <p:nvPr/>
            </p:nvSpPr>
            <p:spPr>
              <a:xfrm>
                <a:off x="7711560" y="205596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2" name="Rectangle 437"/>
              <p:cNvSpPr/>
              <p:nvPr/>
            </p:nvSpPr>
            <p:spPr>
              <a:xfrm>
                <a:off x="7752600" y="205596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716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63" name="Freeform 438"/>
              <p:cNvSpPr/>
              <p:nvPr/>
            </p:nvSpPr>
            <p:spPr>
              <a:xfrm>
                <a:off x="6781680" y="2278080"/>
                <a:ext cx="920880" cy="168264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1682640"/>
                  <a:gd name="textAreaBottom" fmla="*/ 1683000 h 1682640"/>
                </a:gdLst>
                <a:ahLst/>
                <a:rect l="textAreaLeft" t="textAreaTop" r="textAreaRight" b="textAreaBottom"/>
                <a:pathLst>
                  <a:path w="2420" h="4419">
                    <a:moveTo>
                      <a:pt x="2415" y="27"/>
                    </a:moveTo>
                    <a:lnTo>
                      <a:pt x="95" y="4281"/>
                    </a:lnTo>
                    <a:cubicBezTo>
                      <a:pt x="90" y="4289"/>
                      <a:pt x="80" y="4292"/>
                      <a:pt x="72" y="4288"/>
                    </a:cubicBezTo>
                    <a:cubicBezTo>
                      <a:pt x="64" y="4283"/>
                      <a:pt x="61" y="4273"/>
                      <a:pt x="66" y="4265"/>
                    </a:cubicBezTo>
                    <a:lnTo>
                      <a:pt x="2386" y="11"/>
                    </a:lnTo>
                    <a:cubicBezTo>
                      <a:pt x="2390" y="3"/>
                      <a:pt x="2400" y="0"/>
                      <a:pt x="2408" y="5"/>
                    </a:cubicBezTo>
                    <a:cubicBezTo>
                      <a:pt x="2417" y="9"/>
                      <a:pt x="2420" y="19"/>
                      <a:pt x="2415" y="27"/>
                    </a:cubicBezTo>
                    <a:close/>
                    <a:moveTo>
                      <a:pt x="184" y="4292"/>
                    </a:moveTo>
                    <a:lnTo>
                      <a:pt x="0" y="4419"/>
                    </a:lnTo>
                    <a:lnTo>
                      <a:pt x="8" y="4196"/>
                    </a:lnTo>
                    <a:lnTo>
                      <a:pt x="184" y="4292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64" name="Group 441"/>
              <p:cNvGrpSpPr/>
              <p:nvPr/>
            </p:nvGrpSpPr>
            <p:grpSpPr>
              <a:xfrm>
                <a:off x="6629400" y="3884760"/>
                <a:ext cx="228600" cy="152280"/>
                <a:chOff x="6629400" y="3884760"/>
                <a:chExt cx="228600" cy="152280"/>
              </a:xfrm>
            </p:grpSpPr>
            <p:sp>
              <p:nvSpPr>
                <p:cNvPr id="465" name="Freeform 439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40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7" name="Group 444"/>
              <p:cNvGrpSpPr/>
              <p:nvPr/>
            </p:nvGrpSpPr>
            <p:grpSpPr>
              <a:xfrm>
                <a:off x="7543800" y="3046320"/>
                <a:ext cx="1523880" cy="581040"/>
                <a:chOff x="7543800" y="3046320"/>
                <a:chExt cx="1523880" cy="581040"/>
              </a:xfrm>
            </p:grpSpPr>
            <p:sp>
              <p:nvSpPr>
                <p:cNvPr id="468" name="Rectangle 442"/>
                <p:cNvSpPr/>
                <p:nvPr/>
              </p:nvSpPr>
              <p:spPr>
                <a:xfrm>
                  <a:off x="7543800" y="3046320"/>
                  <a:ext cx="1523880" cy="58104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9" name="Rectangle 443"/>
                <p:cNvSpPr/>
                <p:nvPr/>
              </p:nvSpPr>
              <p:spPr>
                <a:xfrm>
                  <a:off x="7543800" y="3046320"/>
                  <a:ext cx="1523880" cy="58104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Rectangle 445"/>
              <p:cNvSpPr/>
              <p:nvPr/>
            </p:nvSpPr>
            <p:spPr>
              <a:xfrm>
                <a:off x="7641720" y="3124080"/>
                <a:ext cx="1216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IST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1" name="Rectangle 446"/>
              <p:cNvSpPr/>
              <p:nvPr/>
            </p:nvSpPr>
            <p:spPr>
              <a:xfrm>
                <a:off x="7718760" y="3259080"/>
                <a:ext cx="1063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aithersburg, MD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2" name="Rectangle 447"/>
              <p:cNvSpPr/>
              <p:nvPr/>
            </p:nvSpPr>
            <p:spPr>
              <a:xfrm>
                <a:off x="7857360" y="3397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1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3" name="Rectangle 448"/>
              <p:cNvSpPr/>
              <p:nvPr/>
            </p:nvSpPr>
            <p:spPr>
              <a:xfrm>
                <a:off x="8067240" y="3397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4" name="Rectangle 449"/>
              <p:cNvSpPr/>
              <p:nvPr/>
            </p:nvSpPr>
            <p:spPr>
              <a:xfrm>
                <a:off x="8109720" y="33973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975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5" name="Rectangle 450"/>
              <p:cNvSpPr/>
              <p:nvPr/>
            </p:nvSpPr>
            <p:spPr>
              <a:xfrm>
                <a:off x="8321400" y="33973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76" name="Rectangle 451"/>
              <p:cNvSpPr/>
              <p:nvPr/>
            </p:nvSpPr>
            <p:spPr>
              <a:xfrm>
                <a:off x="8362080" y="33973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304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77" name="Group 454"/>
              <p:cNvGrpSpPr/>
              <p:nvPr/>
            </p:nvGrpSpPr>
            <p:grpSpPr>
              <a:xfrm>
                <a:off x="6629400" y="3884760"/>
                <a:ext cx="228600" cy="152280"/>
                <a:chOff x="6629400" y="3884760"/>
                <a:chExt cx="228600" cy="152280"/>
              </a:xfrm>
            </p:grpSpPr>
            <p:sp>
              <p:nvSpPr>
                <p:cNvPr id="478" name="Freeform 452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53"/>
                <p:cNvSpPr/>
                <p:nvPr/>
              </p:nvSpPr>
              <p:spPr>
                <a:xfrm>
                  <a:off x="6629400" y="388476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Group 457"/>
              <p:cNvGrpSpPr/>
              <p:nvPr/>
            </p:nvGrpSpPr>
            <p:grpSpPr>
              <a:xfrm>
                <a:off x="7010280" y="5256360"/>
                <a:ext cx="1981440" cy="838080"/>
                <a:chOff x="7010280" y="5256360"/>
                <a:chExt cx="1981440" cy="838080"/>
              </a:xfrm>
            </p:grpSpPr>
            <p:sp>
              <p:nvSpPr>
                <p:cNvPr id="481" name="Rectangle 455"/>
                <p:cNvSpPr/>
                <p:nvPr/>
              </p:nvSpPr>
              <p:spPr>
                <a:xfrm>
                  <a:off x="7010280" y="5256360"/>
                  <a:ext cx="1981440" cy="83808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82" name="Rectangle 456"/>
                <p:cNvSpPr/>
                <p:nvPr/>
              </p:nvSpPr>
              <p:spPr>
                <a:xfrm>
                  <a:off x="7010280" y="5256360"/>
                  <a:ext cx="1981440" cy="83808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Rectangle 458"/>
              <p:cNvSpPr/>
              <p:nvPr/>
            </p:nvSpPr>
            <p:spPr>
              <a:xfrm>
                <a:off x="7252560" y="5394240"/>
                <a:ext cx="1386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ensus 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4" name="Rectangle 459"/>
              <p:cNvSpPr/>
              <p:nvPr/>
            </p:nvSpPr>
            <p:spPr>
              <a:xfrm>
                <a:off x="7101000" y="5532480"/>
                <a:ext cx="1687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ational  Processing Center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5" name="Rectangle 460"/>
              <p:cNvSpPr/>
              <p:nvPr/>
            </p:nvSpPr>
            <p:spPr>
              <a:xfrm>
                <a:off x="7438320" y="5668920"/>
                <a:ext cx="1012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Jeffersonville, IN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6" name="Rectangle 461"/>
              <p:cNvSpPr/>
              <p:nvPr/>
            </p:nvSpPr>
            <p:spPr>
              <a:xfrm>
                <a:off x="7552800" y="5803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812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7" name="Rectangle 462"/>
              <p:cNvSpPr/>
              <p:nvPr/>
            </p:nvSpPr>
            <p:spPr>
              <a:xfrm>
                <a:off x="7762680" y="5803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8" name="Rectangle 463"/>
              <p:cNvSpPr/>
              <p:nvPr/>
            </p:nvSpPr>
            <p:spPr>
              <a:xfrm>
                <a:off x="7805160" y="580392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18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89" name="Rectangle 464"/>
              <p:cNvSpPr/>
              <p:nvPr/>
            </p:nvSpPr>
            <p:spPr>
              <a:xfrm>
                <a:off x="8016480" y="580392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0" name="Rectangle 465"/>
              <p:cNvSpPr/>
              <p:nvPr/>
            </p:nvSpPr>
            <p:spPr>
              <a:xfrm>
                <a:off x="8057520" y="580392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818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1" name="Freeform 466"/>
              <p:cNvSpPr/>
              <p:nvPr/>
            </p:nvSpPr>
            <p:spPr>
              <a:xfrm>
                <a:off x="5562720" y="4189320"/>
                <a:ext cx="1454040" cy="1074960"/>
              </a:xfrm>
              <a:custGeom>
                <a:avLst/>
                <a:gdLst>
                  <a:gd name="textAreaLeft" fmla="*/ 0 w 1454040"/>
                  <a:gd name="textAreaRight" fmla="*/ 1454400 w 1454040"/>
                  <a:gd name="textAreaTop" fmla="*/ 0 h 1074960"/>
                  <a:gd name="textAreaBottom" fmla="*/ 1075320 h 1074960"/>
                </a:gdLst>
                <a:ahLst/>
                <a:rect l="textAreaLeft" t="textAreaTop" r="textAreaRight" b="textAreaBottom"/>
                <a:pathLst>
                  <a:path w="3819" h="2819">
                    <a:moveTo>
                      <a:pt x="3791" y="2814"/>
                    </a:moveTo>
                    <a:lnTo>
                      <a:pt x="125" y="113"/>
                    </a:lnTo>
                    <a:cubicBezTo>
                      <a:pt x="117" y="107"/>
                      <a:pt x="116" y="97"/>
                      <a:pt x="121" y="89"/>
                    </a:cubicBezTo>
                    <a:cubicBezTo>
                      <a:pt x="127" y="82"/>
                      <a:pt x="137" y="80"/>
                      <a:pt x="145" y="86"/>
                    </a:cubicBezTo>
                    <a:lnTo>
                      <a:pt x="3810" y="2787"/>
                    </a:lnTo>
                    <a:cubicBezTo>
                      <a:pt x="3818" y="2793"/>
                      <a:pt x="3819" y="2803"/>
                      <a:pt x="3814" y="2810"/>
                    </a:cubicBezTo>
                    <a:cubicBezTo>
                      <a:pt x="3808" y="2818"/>
                      <a:pt x="3798" y="2819"/>
                      <a:pt x="3791" y="2814"/>
                    </a:cubicBezTo>
                    <a:close/>
                    <a:moveTo>
                      <a:pt x="102" y="200"/>
                    </a:moveTo>
                    <a:lnTo>
                      <a:pt x="0" y="0"/>
                    </a:lnTo>
                    <a:lnTo>
                      <a:pt x="221" y="39"/>
                    </a:lnTo>
                    <a:lnTo>
                      <a:pt x="102" y="200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492" name="Group 469"/>
              <p:cNvGrpSpPr/>
              <p:nvPr/>
            </p:nvGrpSpPr>
            <p:grpSpPr>
              <a:xfrm>
                <a:off x="5410080" y="4037040"/>
                <a:ext cx="228600" cy="152280"/>
                <a:chOff x="5410080" y="4037040"/>
                <a:chExt cx="228600" cy="152280"/>
              </a:xfrm>
            </p:grpSpPr>
            <p:sp>
              <p:nvSpPr>
                <p:cNvPr id="493" name="Freeform 467"/>
                <p:cNvSpPr/>
                <p:nvPr/>
              </p:nvSpPr>
              <p:spPr>
                <a:xfrm>
                  <a:off x="5410080" y="40370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00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68"/>
                <p:cNvSpPr/>
                <p:nvPr/>
              </p:nvSpPr>
              <p:spPr>
                <a:xfrm>
                  <a:off x="5410080" y="4037040"/>
                  <a:ext cx="228600" cy="15228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144" h="96">
                      <a:moveTo>
                        <a:pt x="72" y="0"/>
                      </a:moveTo>
                      <a:lnTo>
                        <a:pt x="55" y="37"/>
                      </a:lnTo>
                      <a:lnTo>
                        <a:pt x="0" y="37"/>
                      </a:lnTo>
                      <a:lnTo>
                        <a:pt x="44" y="60"/>
                      </a:lnTo>
                      <a:lnTo>
                        <a:pt x="28" y="96"/>
                      </a:lnTo>
                      <a:lnTo>
                        <a:pt x="72" y="74"/>
                      </a:lnTo>
                      <a:lnTo>
                        <a:pt x="116" y="96"/>
                      </a:lnTo>
                      <a:lnTo>
                        <a:pt x="99" y="60"/>
                      </a:lnTo>
                      <a:lnTo>
                        <a:pt x="144" y="37"/>
                      </a:lnTo>
                      <a:lnTo>
                        <a:pt x="88" y="37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noFill/>
                <a:ln cap="rnd"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472"/>
              <p:cNvGrpSpPr/>
              <p:nvPr/>
            </p:nvGrpSpPr>
            <p:grpSpPr>
              <a:xfrm>
                <a:off x="990720" y="5180040"/>
                <a:ext cx="1752480" cy="685800"/>
                <a:chOff x="990720" y="5180040"/>
                <a:chExt cx="1752480" cy="685800"/>
              </a:xfrm>
            </p:grpSpPr>
            <p:sp>
              <p:nvSpPr>
                <p:cNvPr id="496" name="Rectangle 470"/>
                <p:cNvSpPr/>
                <p:nvPr/>
              </p:nvSpPr>
              <p:spPr>
                <a:xfrm>
                  <a:off x="990720" y="5180040"/>
                  <a:ext cx="1752480" cy="685800"/>
                </a:xfrm>
                <a:prstGeom prst="rect">
                  <a:avLst/>
                </a:prstGeom>
                <a:solidFill>
                  <a:srgbClr val="ff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7" name="Rectangle 471"/>
                <p:cNvSpPr/>
                <p:nvPr/>
              </p:nvSpPr>
              <p:spPr>
                <a:xfrm>
                  <a:off x="990720" y="5180040"/>
                  <a:ext cx="1752480" cy="685800"/>
                </a:xfrm>
                <a:prstGeom prst="rect">
                  <a:avLst/>
                </a:pr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Rectangle 473"/>
              <p:cNvSpPr/>
              <p:nvPr/>
            </p:nvSpPr>
            <p:spPr>
              <a:xfrm>
                <a:off x="1225440" y="5241960"/>
                <a:ext cx="1169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untain Regional 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99" name="Rectangle 474"/>
              <p:cNvSpPr/>
              <p:nvPr/>
            </p:nvSpPr>
            <p:spPr>
              <a:xfrm>
                <a:off x="1364400" y="5380200"/>
                <a:ext cx="893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curity Office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0" name="Rectangle 475"/>
              <p:cNvSpPr/>
              <p:nvPr/>
            </p:nvSpPr>
            <p:spPr>
              <a:xfrm>
                <a:off x="1441440" y="5516640"/>
                <a:ext cx="739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oulder, CO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1" name="Rectangle 476"/>
              <p:cNvSpPr/>
              <p:nvPr/>
            </p:nvSpPr>
            <p:spPr>
              <a:xfrm>
                <a:off x="1418400" y="5651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0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2" name="Rectangle 477"/>
              <p:cNvSpPr/>
              <p:nvPr/>
            </p:nvSpPr>
            <p:spPr>
              <a:xfrm>
                <a:off x="1628280" y="5651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3" name="Rectangle 478"/>
              <p:cNvSpPr/>
              <p:nvPr/>
            </p:nvSpPr>
            <p:spPr>
              <a:xfrm>
                <a:off x="1671120" y="565164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497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4" name="Rectangle 479"/>
              <p:cNvSpPr/>
              <p:nvPr/>
            </p:nvSpPr>
            <p:spPr>
              <a:xfrm>
                <a:off x="1882440" y="5651640"/>
                <a:ext cx="43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5" name="Rectangle 480"/>
              <p:cNvSpPr/>
              <p:nvPr/>
            </p:nvSpPr>
            <p:spPr>
              <a:xfrm>
                <a:off x="1923480" y="565164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943</a:t>
                </a:r>
                <a:endParaRPr b="0" lang="en-US" sz="10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6" name="Freeform 481"/>
              <p:cNvSpPr/>
              <p:nvPr/>
            </p:nvSpPr>
            <p:spPr>
              <a:xfrm>
                <a:off x="6781680" y="3268800"/>
                <a:ext cx="768600" cy="691920"/>
              </a:xfrm>
              <a:custGeom>
                <a:avLst/>
                <a:gdLst>
                  <a:gd name="textAreaLeft" fmla="*/ 0 w 768600"/>
                  <a:gd name="textAreaRight" fmla="*/ 768960 w 768600"/>
                  <a:gd name="textAreaTop" fmla="*/ 0 h 691920"/>
                  <a:gd name="textAreaBottom" fmla="*/ 692280 h 691920"/>
                </a:gdLst>
                <a:ahLst/>
                <a:rect l="textAreaLeft" t="textAreaTop" r="textAreaRight" b="textAreaBottom"/>
                <a:pathLst>
                  <a:path w="2019" h="1818">
                    <a:moveTo>
                      <a:pt x="2012" y="31"/>
                    </a:moveTo>
                    <a:lnTo>
                      <a:pt x="135" y="1719"/>
                    </a:lnTo>
                    <a:cubicBezTo>
                      <a:pt x="129" y="1726"/>
                      <a:pt x="118" y="1725"/>
                      <a:pt x="112" y="1718"/>
                    </a:cubicBezTo>
                    <a:cubicBezTo>
                      <a:pt x="106" y="1711"/>
                      <a:pt x="106" y="1701"/>
                      <a:pt x="113" y="1695"/>
                    </a:cubicBezTo>
                    <a:lnTo>
                      <a:pt x="1989" y="6"/>
                    </a:lnTo>
                    <a:cubicBezTo>
                      <a:pt x="1996" y="0"/>
                      <a:pt x="2007" y="0"/>
                      <a:pt x="2013" y="7"/>
                    </a:cubicBezTo>
                    <a:cubicBezTo>
                      <a:pt x="2019" y="14"/>
                      <a:pt x="2018" y="25"/>
                      <a:pt x="2012" y="31"/>
                    </a:cubicBezTo>
                    <a:close/>
                    <a:moveTo>
                      <a:pt x="216" y="1759"/>
                    </a:moveTo>
                    <a:lnTo>
                      <a:pt x="0" y="1818"/>
                    </a:lnTo>
                    <a:lnTo>
                      <a:pt x="82" y="1610"/>
                    </a:lnTo>
                    <a:lnTo>
                      <a:pt x="216" y="1759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507" name="Group 484"/>
              <p:cNvGrpSpPr/>
              <p:nvPr/>
            </p:nvGrpSpPr>
            <p:grpSpPr>
              <a:xfrm>
                <a:off x="5334120" y="3103560"/>
                <a:ext cx="533160" cy="609480"/>
                <a:chOff x="5334120" y="3103560"/>
                <a:chExt cx="533160" cy="609480"/>
              </a:xfrm>
            </p:grpSpPr>
            <p:sp>
              <p:nvSpPr>
                <p:cNvPr id="508" name="Freeform 482"/>
                <p:cNvSpPr/>
                <p:nvPr/>
              </p:nvSpPr>
              <p:spPr>
                <a:xfrm>
                  <a:off x="5334120" y="3103560"/>
                  <a:ext cx="533160" cy="609480"/>
                </a:xfrm>
                <a:custGeom>
                  <a:avLst/>
                  <a:gdLst>
                    <a:gd name="textAreaLeft" fmla="*/ 0 w 533160"/>
                    <a:gd name="textAreaRight" fmla="*/ 533520 w 533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336" h="384">
                      <a:moveTo>
                        <a:pt x="285" y="353"/>
                      </a:moveTo>
                      <a:lnTo>
                        <a:pt x="9" y="384"/>
                      </a:lnTo>
                      <a:lnTo>
                        <a:pt x="9" y="373"/>
                      </a:lnTo>
                      <a:lnTo>
                        <a:pt x="54" y="305"/>
                      </a:lnTo>
                      <a:lnTo>
                        <a:pt x="0" y="163"/>
                      </a:lnTo>
                      <a:lnTo>
                        <a:pt x="54" y="49"/>
                      </a:lnTo>
                      <a:lnTo>
                        <a:pt x="54" y="64"/>
                      </a:lnTo>
                      <a:lnTo>
                        <a:pt x="68" y="80"/>
                      </a:lnTo>
                      <a:lnTo>
                        <a:pt x="95" y="0"/>
                      </a:lnTo>
                      <a:lnTo>
                        <a:pt x="213" y="24"/>
                      </a:lnTo>
                      <a:lnTo>
                        <a:pt x="240" y="96"/>
                      </a:lnTo>
                      <a:lnTo>
                        <a:pt x="204" y="174"/>
                      </a:lnTo>
                      <a:lnTo>
                        <a:pt x="227" y="182"/>
                      </a:lnTo>
                      <a:lnTo>
                        <a:pt x="276" y="123"/>
                      </a:lnTo>
                      <a:lnTo>
                        <a:pt x="336" y="195"/>
                      </a:lnTo>
                      <a:lnTo>
                        <a:pt x="330" y="246"/>
                      </a:lnTo>
                      <a:lnTo>
                        <a:pt x="312" y="270"/>
                      </a:lnTo>
                      <a:lnTo>
                        <a:pt x="285" y="353"/>
                      </a:lnTo>
                      <a:close/>
                    </a:path>
                  </a:pathLst>
                </a:custGeom>
                <a:solidFill>
                  <a:srgbClr val="00ffff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83"/>
                <p:cNvSpPr/>
                <p:nvPr/>
              </p:nvSpPr>
              <p:spPr>
                <a:xfrm>
                  <a:off x="5334120" y="3103560"/>
                  <a:ext cx="533160" cy="609480"/>
                </a:xfrm>
                <a:custGeom>
                  <a:avLst/>
                  <a:gdLst>
                    <a:gd name="textAreaLeft" fmla="*/ 0 w 533160"/>
                    <a:gd name="textAreaRight" fmla="*/ 533520 w 533160"/>
                    <a:gd name="textAreaTop" fmla="*/ 0 h 609480"/>
                    <a:gd name="textAreaBottom" fmla="*/ 609840 h 609480"/>
                  </a:gdLst>
                  <a:ahLst/>
                  <a:rect l="textAreaLeft" t="textAreaTop" r="textAreaRight" b="textAreaBottom"/>
                  <a:pathLst>
                    <a:path w="336" h="384">
                      <a:moveTo>
                        <a:pt x="285" y="353"/>
                      </a:moveTo>
                      <a:lnTo>
                        <a:pt x="9" y="384"/>
                      </a:lnTo>
                      <a:lnTo>
                        <a:pt x="9" y="373"/>
                      </a:lnTo>
                      <a:lnTo>
                        <a:pt x="54" y="305"/>
                      </a:lnTo>
                      <a:lnTo>
                        <a:pt x="0" y="163"/>
                      </a:lnTo>
                      <a:lnTo>
                        <a:pt x="54" y="49"/>
                      </a:lnTo>
                      <a:lnTo>
                        <a:pt x="54" y="64"/>
                      </a:lnTo>
                      <a:lnTo>
                        <a:pt x="68" y="80"/>
                      </a:lnTo>
                      <a:lnTo>
                        <a:pt x="95" y="0"/>
                      </a:lnTo>
                      <a:lnTo>
                        <a:pt x="213" y="24"/>
                      </a:lnTo>
                      <a:lnTo>
                        <a:pt x="240" y="96"/>
                      </a:lnTo>
                      <a:lnTo>
                        <a:pt x="204" y="174"/>
                      </a:lnTo>
                      <a:lnTo>
                        <a:pt x="227" y="182"/>
                      </a:lnTo>
                      <a:lnTo>
                        <a:pt x="276" y="123"/>
                      </a:lnTo>
                      <a:lnTo>
                        <a:pt x="336" y="195"/>
                      </a:lnTo>
                      <a:lnTo>
                        <a:pt x="330" y="246"/>
                      </a:lnTo>
                      <a:lnTo>
                        <a:pt x="312" y="270"/>
                      </a:lnTo>
                      <a:lnTo>
                        <a:pt x="285" y="353"/>
                      </a:lnTo>
                      <a:close/>
                    </a:path>
                  </a:pathLst>
                </a:custGeom>
                <a:noFill/>
                <a:ln cap="rnd"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Freeform 485"/>
              <p:cNvSpPr/>
              <p:nvPr/>
            </p:nvSpPr>
            <p:spPr>
              <a:xfrm>
                <a:off x="6705720" y="3946680"/>
                <a:ext cx="539640" cy="17460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174600"/>
                  <a:gd name="textAreaBottom" fmla="*/ 174600 h 174600"/>
                </a:gdLst>
                <a:ahLst/>
                <a:rect l="textAreaLeft" t="textAreaTop" r="textAreaRight" b="textAreaBottom"/>
                <a:pathLst>
                  <a:path w="1419" h="460">
                    <a:moveTo>
                      <a:pt x="1396" y="457"/>
                    </a:moveTo>
                    <a:lnTo>
                      <a:pt x="156" y="103"/>
                    </a:lnTo>
                    <a:cubicBezTo>
                      <a:pt x="147" y="101"/>
                      <a:pt x="142" y="92"/>
                      <a:pt x="145" y="83"/>
                    </a:cubicBezTo>
                    <a:cubicBezTo>
                      <a:pt x="147" y="74"/>
                      <a:pt x="156" y="69"/>
                      <a:pt x="165" y="71"/>
                    </a:cubicBezTo>
                    <a:lnTo>
                      <a:pt x="1405" y="425"/>
                    </a:lnTo>
                    <a:cubicBezTo>
                      <a:pt x="1414" y="428"/>
                      <a:pt x="1419" y="437"/>
                      <a:pt x="1416" y="446"/>
                    </a:cubicBezTo>
                    <a:cubicBezTo>
                      <a:pt x="1414" y="455"/>
                      <a:pt x="1405" y="460"/>
                      <a:pt x="1396" y="457"/>
                    </a:cubicBezTo>
                    <a:close/>
                    <a:moveTo>
                      <a:pt x="165" y="193"/>
                    </a:moveTo>
                    <a:lnTo>
                      <a:pt x="0" y="41"/>
                    </a:lnTo>
                    <a:lnTo>
                      <a:pt x="220" y="0"/>
                    </a:lnTo>
                    <a:lnTo>
                      <a:pt x="165" y="193"/>
                    </a:lnTo>
                    <a:close/>
                  </a:path>
                </a:pathLst>
              </a:custGeom>
              <a:solidFill>
                <a:srgbClr val="000000">
                  <a:alpha val="40000"/>
                </a:srgbClr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493E-53B0-4F85-B5F9-60345845F90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Rectangle 32"/>
          <p:cNvSpPr/>
          <p:nvPr/>
        </p:nvSpPr>
        <p:spPr>
          <a:xfrm>
            <a:off x="152280" y="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ffice of Security Organizational Char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Rectangle 36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14" name="Picture 38" descr="MCj04421670000[1]"/>
          <p:cNvPicPr/>
          <p:nvPr/>
        </p:nvPicPr>
        <p:blipFill>
          <a:blip r:embed="rId1"/>
          <a:stretch/>
        </p:blipFill>
        <p:spPr>
          <a:xfrm>
            <a:off x="457200" y="4800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39"/>
          <p:cNvSpPr/>
          <p:nvPr/>
        </p:nvSpPr>
        <p:spPr>
          <a:xfrm>
            <a:off x="923400" y="5181480"/>
            <a:ext cx="2020320" cy="36828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ify for Clari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16" name="Organization Chart 3522"/>
          <p:cNvGrpSpPr/>
          <p:nvPr/>
        </p:nvGrpSpPr>
        <p:grpSpPr>
          <a:xfrm>
            <a:off x="76320" y="762120"/>
            <a:ext cx="9067320" cy="5562000"/>
            <a:chOff x="76320" y="762120"/>
            <a:chExt cx="9067320" cy="5562000"/>
          </a:xfrm>
        </p:grpSpPr>
        <p:cxnSp>
          <p:nvCxnSpPr>
            <p:cNvPr id="517" name="_s1028"/>
            <p:cNvCxnSpPr>
              <a:stCxn id="518" idx="1"/>
              <a:endCxn id="519" idx="2"/>
            </p:cNvCxnSpPr>
            <p:nvPr/>
          </p:nvCxnSpPr>
          <p:spPr>
            <a:xfrm rot="10800000">
              <a:off x="7967520" y="5185440"/>
              <a:ext cx="165960" cy="10137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0" name="_s1029"/>
            <p:cNvCxnSpPr>
              <a:stCxn id="521" idx="1"/>
              <a:endCxn id="519" idx="2"/>
            </p:cNvCxnSpPr>
            <p:nvPr/>
          </p:nvCxnSpPr>
          <p:spPr>
            <a:xfrm rot="10800000">
              <a:off x="7967520" y="5185440"/>
              <a:ext cx="165960" cy="6343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2" name="_s1030"/>
            <p:cNvCxnSpPr>
              <a:stCxn id="523" idx="1"/>
              <a:endCxn id="519" idx="2"/>
            </p:cNvCxnSpPr>
            <p:nvPr/>
          </p:nvCxnSpPr>
          <p:spPr>
            <a:xfrm rot="10800000">
              <a:off x="7967520" y="5185440"/>
              <a:ext cx="165960" cy="2545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4" name="_s1031"/>
            <p:cNvCxnSpPr>
              <a:stCxn id="519" idx="1"/>
              <a:endCxn id="525" idx="2"/>
            </p:cNvCxnSpPr>
            <p:nvPr/>
          </p:nvCxnSpPr>
          <p:spPr>
            <a:xfrm rot="10800000">
              <a:off x="7296480" y="2152800"/>
              <a:ext cx="167040" cy="290916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6" name="_s1032"/>
            <p:cNvCxnSpPr>
              <a:stCxn id="527" idx="1"/>
              <a:endCxn id="525" idx="2"/>
            </p:cNvCxnSpPr>
            <p:nvPr/>
          </p:nvCxnSpPr>
          <p:spPr>
            <a:xfrm rot="10800000">
              <a:off x="7296480" y="2152800"/>
              <a:ext cx="167040" cy="25282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28" name="_s1033"/>
            <p:cNvCxnSpPr>
              <a:stCxn id="529" idx="1"/>
              <a:endCxn id="525" idx="2"/>
            </p:cNvCxnSpPr>
            <p:nvPr/>
          </p:nvCxnSpPr>
          <p:spPr>
            <a:xfrm rot="10800000">
              <a:off x="7296480" y="2152800"/>
              <a:ext cx="167040" cy="21502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0" name="_s1034"/>
            <p:cNvCxnSpPr>
              <a:stCxn id="531" idx="1"/>
              <a:endCxn id="532" idx="2"/>
            </p:cNvCxnSpPr>
            <p:nvPr/>
          </p:nvCxnSpPr>
          <p:spPr>
            <a:xfrm rot="10800000">
              <a:off x="7968600" y="366948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3" name="_s1035"/>
            <p:cNvCxnSpPr>
              <a:stCxn id="532" idx="1"/>
              <a:endCxn id="525" idx="2"/>
            </p:cNvCxnSpPr>
            <p:nvPr/>
          </p:nvCxnSpPr>
          <p:spPr>
            <a:xfrm rot="10800000">
              <a:off x="7296480" y="2152800"/>
              <a:ext cx="167040" cy="13924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4" name="_s1036"/>
            <p:cNvCxnSpPr>
              <a:stCxn id="535" idx="1"/>
              <a:endCxn id="525" idx="2"/>
            </p:cNvCxnSpPr>
            <p:nvPr/>
          </p:nvCxnSpPr>
          <p:spPr>
            <a:xfrm rot="10800000">
              <a:off x="7296480" y="2152800"/>
              <a:ext cx="16704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6" name="_s1037"/>
            <p:cNvCxnSpPr>
              <a:stCxn id="537" idx="1"/>
              <a:endCxn id="525" idx="2"/>
            </p:cNvCxnSpPr>
            <p:nvPr/>
          </p:nvCxnSpPr>
          <p:spPr>
            <a:xfrm rot="10800000">
              <a:off x="7296480" y="2152800"/>
              <a:ext cx="167040" cy="101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38" name="_s1038"/>
            <p:cNvCxnSpPr>
              <a:stCxn id="539" idx="1"/>
              <a:endCxn id="525" idx="2"/>
            </p:cNvCxnSpPr>
            <p:nvPr/>
          </p:nvCxnSpPr>
          <p:spPr>
            <a:xfrm rot="10800000">
              <a:off x="7296480" y="215280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0" name="_s1039"/>
            <p:cNvCxnSpPr>
              <a:stCxn id="541" idx="1"/>
              <a:endCxn id="542" idx="2"/>
            </p:cNvCxnSpPr>
            <p:nvPr/>
          </p:nvCxnSpPr>
          <p:spPr>
            <a:xfrm rot="10800000">
              <a:off x="5951880" y="2152800"/>
              <a:ext cx="16956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3" name="_s1040"/>
            <p:cNvCxnSpPr>
              <a:stCxn id="544" idx="1"/>
              <a:endCxn id="542" idx="2"/>
            </p:cNvCxnSpPr>
            <p:nvPr/>
          </p:nvCxnSpPr>
          <p:spPr>
            <a:xfrm rot="10800000">
              <a:off x="5951880" y="2152800"/>
              <a:ext cx="16956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5" name="_s1041"/>
            <p:cNvCxnSpPr>
              <a:stCxn id="546" idx="1"/>
              <a:endCxn id="547" idx="2"/>
            </p:cNvCxnSpPr>
            <p:nvPr/>
          </p:nvCxnSpPr>
          <p:spPr>
            <a:xfrm rot="10800000">
              <a:off x="4609080" y="2152800"/>
              <a:ext cx="168480" cy="101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48" name="_s1042"/>
            <p:cNvCxnSpPr>
              <a:stCxn id="549" idx="1"/>
              <a:endCxn id="547" idx="2"/>
            </p:cNvCxnSpPr>
            <p:nvPr/>
          </p:nvCxnSpPr>
          <p:spPr>
            <a:xfrm rot="10800000">
              <a:off x="4609080" y="2152800"/>
              <a:ext cx="16848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0" name="_s1043"/>
            <p:cNvCxnSpPr>
              <a:stCxn id="551" idx="1"/>
              <a:endCxn id="547" idx="2"/>
            </p:cNvCxnSpPr>
            <p:nvPr/>
          </p:nvCxnSpPr>
          <p:spPr>
            <a:xfrm rot="10800000">
              <a:off x="4609080" y="2152800"/>
              <a:ext cx="16848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2" name="_s1044"/>
            <p:cNvCxnSpPr>
              <a:stCxn id="553" idx="1"/>
              <a:endCxn id="554" idx="2"/>
            </p:cNvCxnSpPr>
            <p:nvPr/>
          </p:nvCxnSpPr>
          <p:spPr>
            <a:xfrm rot="10800000">
              <a:off x="3267720" y="2152800"/>
              <a:ext cx="167040" cy="1012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5" name="_s1045"/>
            <p:cNvCxnSpPr>
              <a:stCxn id="556" idx="1"/>
              <a:endCxn id="554" idx="2"/>
            </p:cNvCxnSpPr>
            <p:nvPr/>
          </p:nvCxnSpPr>
          <p:spPr>
            <a:xfrm rot="10800000">
              <a:off x="3267720" y="2152800"/>
              <a:ext cx="16704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7" name="_s1046"/>
            <p:cNvCxnSpPr>
              <a:stCxn id="558" idx="1"/>
              <a:endCxn id="554" idx="2"/>
            </p:cNvCxnSpPr>
            <p:nvPr/>
          </p:nvCxnSpPr>
          <p:spPr>
            <a:xfrm rot="10800000">
              <a:off x="3267720" y="215280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59" name="_s1047"/>
            <p:cNvCxnSpPr>
              <a:stCxn id="560" idx="1"/>
              <a:endCxn id="561" idx="2"/>
            </p:cNvCxnSpPr>
            <p:nvPr/>
          </p:nvCxnSpPr>
          <p:spPr>
            <a:xfrm rot="10800000">
              <a:off x="1923120" y="2152800"/>
              <a:ext cx="16848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2" name="_s1048"/>
            <p:cNvCxnSpPr>
              <a:stCxn id="563" idx="1"/>
              <a:endCxn id="561" idx="2"/>
            </p:cNvCxnSpPr>
            <p:nvPr/>
          </p:nvCxnSpPr>
          <p:spPr>
            <a:xfrm rot="10800000">
              <a:off x="1923120" y="2152800"/>
              <a:ext cx="16848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4" name="_s1049"/>
            <p:cNvCxnSpPr>
              <a:stCxn id="565" idx="1"/>
              <a:endCxn id="566" idx="2"/>
            </p:cNvCxnSpPr>
            <p:nvPr/>
          </p:nvCxnSpPr>
          <p:spPr>
            <a:xfrm rot="10800000">
              <a:off x="580320" y="2152800"/>
              <a:ext cx="167040" cy="63468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7" name="_s1050"/>
            <p:cNvCxnSpPr>
              <a:stCxn id="568" idx="1"/>
              <a:endCxn id="566" idx="2"/>
            </p:cNvCxnSpPr>
            <p:nvPr/>
          </p:nvCxnSpPr>
          <p:spPr>
            <a:xfrm rot="10800000">
              <a:off x="580320" y="2152800"/>
              <a:ext cx="16704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69" name="_s1051"/>
            <p:cNvCxnSpPr>
              <a:stCxn id="570" idx="3"/>
              <a:endCxn id="571" idx="2"/>
            </p:cNvCxnSpPr>
            <p:nvPr/>
          </p:nvCxnSpPr>
          <p:spPr>
            <a:xfrm flipV="1">
              <a:off x="3769920" y="1395360"/>
              <a:ext cx="168480" cy="25344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2" name="_s1052"/>
            <p:cNvCxnSpPr>
              <a:stCxn id="525" idx="0"/>
              <a:endCxn id="571" idx="2"/>
            </p:cNvCxnSpPr>
            <p:nvPr/>
          </p:nvCxnSpPr>
          <p:spPr>
            <a:xfrm flipV="1" rot="16200000">
              <a:off x="5364000" y="-31320"/>
              <a:ext cx="506880" cy="335988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3" name="_s1053"/>
            <p:cNvCxnSpPr>
              <a:stCxn id="542" idx="0"/>
              <a:endCxn id="571" idx="2"/>
            </p:cNvCxnSpPr>
            <p:nvPr/>
          </p:nvCxnSpPr>
          <p:spPr>
            <a:xfrm flipV="1" rot="16200000">
              <a:off x="4691520" y="641160"/>
              <a:ext cx="506880" cy="201492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4" name="_s1054"/>
            <p:cNvCxnSpPr>
              <a:stCxn id="547" idx="0"/>
              <a:endCxn id="571" idx="2"/>
            </p:cNvCxnSpPr>
            <p:nvPr/>
          </p:nvCxnSpPr>
          <p:spPr>
            <a:xfrm flipV="1" rot="16200000">
              <a:off x="4020480" y="1312200"/>
              <a:ext cx="506880" cy="67248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5" name="_s1055"/>
            <p:cNvCxnSpPr>
              <a:stCxn id="554" idx="0"/>
              <a:endCxn id="571" idx="2"/>
            </p:cNvCxnSpPr>
            <p:nvPr/>
          </p:nvCxnSpPr>
          <p:spPr>
            <a:xfrm flipH="1" flipV="1" rot="5400000">
              <a:off x="3349440" y="1313640"/>
              <a:ext cx="506880" cy="66996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6" name="_s1056"/>
            <p:cNvCxnSpPr>
              <a:stCxn id="561" idx="0"/>
              <a:endCxn id="571" idx="2"/>
            </p:cNvCxnSpPr>
            <p:nvPr/>
          </p:nvCxnSpPr>
          <p:spPr>
            <a:xfrm flipH="1" flipV="1" rot="5400000">
              <a:off x="2677320" y="641160"/>
              <a:ext cx="506880" cy="201492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7" name="_s1057"/>
            <p:cNvCxnSpPr>
              <a:stCxn id="566" idx="0"/>
              <a:endCxn id="571" idx="2"/>
            </p:cNvCxnSpPr>
            <p:nvPr/>
          </p:nvCxnSpPr>
          <p:spPr>
            <a:xfrm flipH="1" flipV="1" rot="5400000">
              <a:off x="2005920" y="-29880"/>
              <a:ext cx="506880" cy="3357360"/>
            </a:xfrm>
            <a:prstGeom prst="bentConnector3">
              <a:avLst>
                <a:gd name="adj1" fmla="val 12437"/>
              </a:avLst>
            </a:prstGeom>
            <a:ln w="28440">
              <a:solidFill>
                <a:srgbClr val="eaeaea"/>
              </a:solidFill>
              <a:miter/>
            </a:ln>
          </p:spPr>
        </p:cxnSp>
        <p:cxnSp>
          <p:nvCxnSpPr>
            <p:cNvPr id="578" name="_s1058"/>
            <p:cNvCxnSpPr>
              <a:stCxn id="571" idx="0"/>
              <a:endCxn id="579" idx="2"/>
            </p:cNvCxnSpPr>
            <p:nvPr/>
          </p:nvCxnSpPr>
          <p:spPr>
            <a:xfrm flipV="1">
              <a:off x="3937680" y="1014840"/>
              <a:ext cx="1800" cy="126720"/>
            </a:xfrm>
            <a:prstGeom prst="bentConnector2">
              <a:avLst/>
            </a:prstGeom>
            <a:ln w="28440">
              <a:solidFill>
                <a:srgbClr val="eaeaea"/>
              </a:solidFill>
              <a:miter/>
            </a:ln>
          </p:spPr>
        </p:cxnSp>
        <p:sp>
          <p:nvSpPr>
            <p:cNvPr id="579" name="_s1059"/>
            <p:cNvSpPr/>
            <p:nvPr/>
          </p:nvSpPr>
          <p:spPr>
            <a:xfrm>
              <a:off x="3434040" y="7621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Office of Director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1" name="_s1060"/>
            <p:cNvSpPr/>
            <p:nvPr/>
          </p:nvSpPr>
          <p:spPr>
            <a:xfrm>
              <a:off x="3434040" y="11419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eputy Director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6" name="_s1061"/>
            <p:cNvSpPr/>
            <p:nvPr/>
          </p:nvSpPr>
          <p:spPr>
            <a:xfrm>
              <a:off x="7632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Strategic &amp; Administrative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Management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1" name="_s1062"/>
            <p:cNvSpPr/>
            <p:nvPr/>
          </p:nvSpPr>
          <p:spPr>
            <a:xfrm>
              <a:off x="141984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ontinuity and Emergenc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eparedness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4" name="_s1063"/>
            <p:cNvSpPr/>
            <p:nvPr/>
          </p:nvSpPr>
          <p:spPr>
            <a:xfrm>
              <a:off x="276372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ounterespionage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7" name="_s1064"/>
            <p:cNvSpPr/>
            <p:nvPr/>
          </p:nvSpPr>
          <p:spPr>
            <a:xfrm>
              <a:off x="4107240" y="1901520"/>
              <a:ext cx="100620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Anti-Terroris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_s1065"/>
            <p:cNvSpPr/>
            <p:nvPr/>
          </p:nvSpPr>
          <p:spPr>
            <a:xfrm>
              <a:off x="544860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ject Management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_s1066"/>
            <p:cNvSpPr/>
            <p:nvPr/>
          </p:nvSpPr>
          <p:spPr>
            <a:xfrm>
              <a:off x="6792480" y="19015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lient Security 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Services Divis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70" name="_s1067"/>
            <p:cNvSpPr/>
            <p:nvPr/>
          </p:nvSpPr>
          <p:spPr>
            <a:xfrm>
              <a:off x="2762280" y="152172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nvestigations and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ntelligence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8" name="_s1068"/>
            <p:cNvSpPr/>
            <p:nvPr/>
          </p:nvSpPr>
          <p:spPr>
            <a:xfrm>
              <a:off x="748080" y="228132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Strategic Operations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5" name="_s1069"/>
            <p:cNvSpPr/>
            <p:nvPr/>
          </p:nvSpPr>
          <p:spPr>
            <a:xfrm>
              <a:off x="748080" y="266004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Admin/Finance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3" name="_s1070"/>
            <p:cNvSpPr/>
            <p:nvPr/>
          </p:nvSpPr>
          <p:spPr>
            <a:xfrm>
              <a:off x="2091600" y="228132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ontinuity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0" name="_s1071"/>
            <p:cNvSpPr/>
            <p:nvPr/>
          </p:nvSpPr>
          <p:spPr>
            <a:xfrm>
              <a:off x="2091600" y="266004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Occupant Emergenc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lan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8" name="_s1072"/>
            <p:cNvSpPr/>
            <p:nvPr/>
          </p:nvSpPr>
          <p:spPr>
            <a:xfrm>
              <a:off x="3435480" y="2281320"/>
              <a:ext cx="100620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ational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nformation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6" name="_s1073"/>
            <p:cNvSpPr/>
            <p:nvPr/>
          </p:nvSpPr>
          <p:spPr>
            <a:xfrm>
              <a:off x="3435480" y="266004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ersonnel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3" name="_s1074"/>
            <p:cNvSpPr/>
            <p:nvPr/>
          </p:nvSpPr>
          <p:spPr>
            <a:xfrm>
              <a:off x="3435480" y="303912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TA Security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51" name="_s1075"/>
            <p:cNvSpPr/>
            <p:nvPr/>
          </p:nvSpPr>
          <p:spPr>
            <a:xfrm>
              <a:off x="4777920" y="2281320"/>
              <a:ext cx="100656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hysical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9" name="_s1076"/>
            <p:cNvSpPr/>
            <p:nvPr/>
          </p:nvSpPr>
          <p:spPr>
            <a:xfrm>
              <a:off x="4777920" y="2660040"/>
              <a:ext cx="100656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Overseas Security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6" name="_s1077"/>
            <p:cNvSpPr/>
            <p:nvPr/>
          </p:nvSpPr>
          <p:spPr>
            <a:xfrm>
              <a:off x="4777920" y="3039120"/>
              <a:ext cx="100656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Executive Protect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4" name="_s1078"/>
            <p:cNvSpPr/>
            <p:nvPr/>
          </p:nvSpPr>
          <p:spPr>
            <a:xfrm>
              <a:off x="6120360" y="2281320"/>
              <a:ext cx="100620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IT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_s1079"/>
            <p:cNvSpPr/>
            <p:nvPr/>
          </p:nvSpPr>
          <p:spPr>
            <a:xfrm>
              <a:off x="6120360" y="266004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redential Management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_s1080"/>
            <p:cNvSpPr/>
            <p:nvPr/>
          </p:nvSpPr>
          <p:spPr>
            <a:xfrm>
              <a:off x="7464240" y="228132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HCHB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_s1081"/>
            <p:cNvSpPr/>
            <p:nvPr/>
          </p:nvSpPr>
          <p:spPr>
            <a:xfrm>
              <a:off x="7464240" y="303912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WRSO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_s1082"/>
            <p:cNvSpPr/>
            <p:nvPr/>
          </p:nvSpPr>
          <p:spPr>
            <a:xfrm>
              <a:off x="7464240" y="266004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ERSO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2" name="_s1083"/>
            <p:cNvSpPr/>
            <p:nvPr/>
          </p:nvSpPr>
          <p:spPr>
            <a:xfrm>
              <a:off x="7464240" y="3417840"/>
              <a:ext cx="100764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MRSO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_s1084"/>
            <p:cNvSpPr/>
            <p:nvPr/>
          </p:nvSpPr>
          <p:spPr>
            <a:xfrm>
              <a:off x="8136000" y="3796920"/>
              <a:ext cx="100764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IST Boulder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_s1085"/>
            <p:cNvSpPr/>
            <p:nvPr/>
          </p:nvSpPr>
          <p:spPr>
            <a:xfrm>
              <a:off x="7464240" y="4175640"/>
              <a:ext cx="100764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IST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_s1086"/>
            <p:cNvSpPr/>
            <p:nvPr/>
          </p:nvSpPr>
          <p:spPr>
            <a:xfrm>
              <a:off x="7464240" y="4555440"/>
              <a:ext cx="100620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NOAA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9" name="_s1087"/>
            <p:cNvSpPr/>
            <p:nvPr/>
          </p:nvSpPr>
          <p:spPr>
            <a:xfrm>
              <a:off x="7464240" y="4934520"/>
              <a:ext cx="100620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 Program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_s1088"/>
            <p:cNvSpPr/>
            <p:nvPr/>
          </p:nvSpPr>
          <p:spPr>
            <a:xfrm>
              <a:off x="8134920" y="5313600"/>
              <a:ext cx="1006560" cy="2523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-Washington Sect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1" name="_s1089"/>
            <p:cNvSpPr/>
            <p:nvPr/>
          </p:nvSpPr>
          <p:spPr>
            <a:xfrm>
              <a:off x="8134920" y="5692320"/>
              <a:ext cx="1006560" cy="25308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-J’Ville Section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18" name="_s1090"/>
            <p:cNvSpPr/>
            <p:nvPr/>
          </p:nvSpPr>
          <p:spPr>
            <a:xfrm>
              <a:off x="8134920" y="6072120"/>
              <a:ext cx="1006560" cy="2520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eaeaea"/>
                  </a:solidFill>
                  <a:latin typeface="Arial"/>
                </a:rPr>
                <a:t>Census-Decennial</a:t>
              </a:r>
              <a:endParaRPr b="0" lang="en-US" sz="5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0D7D-E6F4-45E4-9D07-C08EC995CE1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dressing Emerging Issu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685800" y="1902960"/>
            <a:ext cx="8001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security-related intelligence to senior decision-mak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ucts and coordinates investigations to identify, assess and   mitigate threats to Departmental personnel or func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s the Foreign National Guest/Visitor Progra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636480" y="838080"/>
            <a:ext cx="8507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vestigations and Intelligence Program addresses emerging issu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7238880" y="662940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D485-7728-4901-A35A-D8B99B1D54A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0" y="0"/>
            <a:ext cx="92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Terrorism Divisio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533520" y="1978920"/>
            <a:ext cx="80010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s domestic &amp; international physical security risk assessment progra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executive protection worldwide for the                   Secretary of Commer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636480" y="838080"/>
            <a:ext cx="85075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tects Departmental personnel, assets and activities against diverse threa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2209680" y="6477120"/>
            <a:ext cx="4724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Security is Everyone’s Responsibility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4:23:10Z</dcterms:created>
  <dc:creator>Adam T. Silvey</dc:creator>
  <dc:description/>
  <cp:keywords/>
  <dc:language>en-US</dc:language>
  <cp:lastModifiedBy>Carroll R. Ward</cp:lastModifiedBy>
  <dcterms:modified xsi:type="dcterms:W3CDTF">2010-02-26T15:26:37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11033</vt:lpwstr>
  </property>
</Properties>
</file>